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5A2-A7E3-4FE2-8E30-B58552CF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58F6-4662-4E37-9534-6ACA0478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37C-6DD8-4CFD-8D1D-BDBF463D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F993-8EBA-4DE7-BBA1-E1ED5377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D51-70D9-4F68-882C-A0FA3D62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173E-C79C-4335-B64F-ECBB970E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5D4-5949-4D30-A3D6-7166FCED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FFDE-C0F4-4452-9715-FBB5EEEF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BA7-B53D-40B2-9DDF-EBAA46B2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3F45-6DB8-47A0-A901-225EEF1F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170-9BA1-4F34-9F9A-E0C0A31E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636-69D4-401D-94DC-082C7AD9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1710-F8B0-4815-9607-B7BAF9236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3920" y="166680"/>
            <a:ext cx="297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要的是葫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578200" y="640080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九 年 义 务 教 育 小 学 第 三 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蒲2" descr=""/>
          <p:cNvPicPr/>
          <p:nvPr/>
        </p:nvPicPr>
        <p:blipFill>
          <a:blip r:embed="rId2"/>
          <a:stretch/>
        </p:blipFill>
        <p:spPr>
          <a:xfrm>
            <a:off x="2362320" y="1371600"/>
            <a:ext cx="4647960" cy="4459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85080" y="533412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制作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胡定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5105520" y="0"/>
            <a:ext cx="3429000" cy="3200400"/>
            <a:chOff x="5105520" y="0"/>
            <a:chExt cx="3429000" cy="3200400"/>
          </a:xfrm>
        </p:grpSpPr>
        <p:pic>
          <p:nvPicPr>
            <p:cNvPr id="46" name="蒲春燕2%20ren" descr=""/>
            <p:cNvPicPr/>
            <p:nvPr/>
          </p:nvPicPr>
          <p:blipFill>
            <a:blip r:embed="rId1"/>
            <a:stretch/>
          </p:blipFill>
          <p:spPr>
            <a:xfrm>
              <a:off x="5376960" y="780840"/>
              <a:ext cx="1625400" cy="209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蒲春燕2%20copy" descr=""/>
            <p:cNvPicPr/>
            <p:nvPr/>
          </p:nvPicPr>
          <p:blipFill>
            <a:blip r:embed="rId2"/>
            <a:stretch/>
          </p:blipFill>
          <p:spPr>
            <a:xfrm>
              <a:off x="5105520" y="0"/>
              <a:ext cx="3429000" cy="320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蒲春燕4%20copy" descr=""/>
          <p:cNvPicPr/>
          <p:nvPr/>
        </p:nvPicPr>
        <p:blipFill>
          <a:blip r:embed="rId3"/>
          <a:stretch/>
        </p:blipFill>
        <p:spPr>
          <a:xfrm>
            <a:off x="5332320" y="3352680"/>
            <a:ext cx="320220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蒲春燕3%20copy" descr=""/>
          <p:cNvPicPr/>
          <p:nvPr/>
        </p:nvPicPr>
        <p:blipFill>
          <a:blip r:embed="rId4"/>
          <a:stretch/>
        </p:blipFill>
        <p:spPr>
          <a:xfrm>
            <a:off x="380880" y="3581280"/>
            <a:ext cx="4114800" cy="3005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32767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895480"/>
            <a:ext cx="457200" cy="4572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2895480"/>
            <a:ext cx="457200" cy="4572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400800"/>
            <a:ext cx="457200" cy="4572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6400800"/>
            <a:ext cx="457200" cy="4572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蒲春燕1%20copy" descr=""/>
          <p:cNvPicPr/>
          <p:nvPr/>
        </p:nvPicPr>
        <p:blipFill>
          <a:blip r:embed="rId5"/>
          <a:stretch/>
        </p:blipFill>
        <p:spPr>
          <a:xfrm>
            <a:off x="609480" y="-9360"/>
            <a:ext cx="3505320" cy="3362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蒲春燕1%20copy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562720" cy="5338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蒲1" descr=""/>
          <p:cNvPicPr/>
          <p:nvPr/>
        </p:nvPicPr>
        <p:blipFill>
          <a:blip r:embed="rId1"/>
          <a:stretch/>
        </p:blipFill>
        <p:spPr>
          <a:xfrm>
            <a:off x="1447920" y="0"/>
            <a:ext cx="640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蒲2" descr=""/>
          <p:cNvPicPr/>
          <p:nvPr/>
        </p:nvPicPr>
        <p:blipFill>
          <a:blip r:embed="rId1"/>
          <a:stretch/>
        </p:blipFill>
        <p:spPr>
          <a:xfrm>
            <a:off x="0" y="798480"/>
            <a:ext cx="4648320" cy="4459320"/>
          </a:xfrm>
          <a:prstGeom prst="rect">
            <a:avLst/>
          </a:prstGeom>
          <a:ln w="0">
            <a:noFill/>
          </a:ln>
        </p:spPr>
      </p:pic>
      <p:pic>
        <p:nvPicPr>
          <p:cNvPr id="61" name="蒲1" descr=""/>
          <p:cNvPicPr/>
          <p:nvPr/>
        </p:nvPicPr>
        <p:blipFill>
          <a:blip r:embed="rId2"/>
          <a:stretch/>
        </p:blipFill>
        <p:spPr>
          <a:xfrm>
            <a:off x="4519440" y="457200"/>
            <a:ext cx="5123160" cy="5486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04:44:36Z</dcterms:created>
  <dc:creator>ydj</dc:creator>
  <dc:description/>
  <dc:language>en-US</dc:language>
  <cp:lastModifiedBy>hdk</cp:lastModifiedBy>
  <dcterms:modified xsi:type="dcterms:W3CDTF">2000-05-29T02:59:33Z</dcterms:modified>
  <cp:revision>22</cp:revision>
  <dc:subject/>
  <dc:title>没有幻灯片标题</dc:title>
</cp:coreProperties>
</file>