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66F-9282-451C-88E2-A31F4884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9EE-BA4C-4C04-9B53-5CFDEA20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796F-EEDB-4BF1-A83D-D6B92CC0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2034-B5AF-4E4F-8BB6-3019EB0B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CE1-C27E-458B-93E6-A94CDF01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317-3978-4DA9-A54F-14243515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3554-549D-4EEA-BDD1-254272D8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9A0A-2911-4193-8685-359EF96B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8915-EEF4-42A9-B61D-7FEB9454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C4A-A879-4F40-ACAA-C4F51E92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B44-88E5-4272-A0F5-AE312929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D9E0-E737-4FCE-8E3E-801FADEE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C0B7-BF1F-444A-BA07-15A291A4E4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43200" y="2209680"/>
            <a:ext cx="401472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葡萄沟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7010640" y="567072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代教育技术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都市盐道街小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52280" y="533520"/>
            <a:ext cx="2743200" cy="2958840"/>
            <a:chOff x="152280" y="533520"/>
            <a:chExt cx="2743200" cy="2958840"/>
          </a:xfrm>
        </p:grpSpPr>
        <p:pic>
          <p:nvPicPr>
            <p:cNvPr id="44" name="05" descr=""/>
            <p:cNvPicPr/>
            <p:nvPr/>
          </p:nvPicPr>
          <p:blipFill>
            <a:blip r:embed="rId1"/>
            <a:stretch/>
          </p:blipFill>
          <p:spPr>
            <a:xfrm>
              <a:off x="152280" y="533520"/>
              <a:ext cx="2743200" cy="23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094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533520"/>
            <a:ext cx="2819520" cy="2958840"/>
            <a:chOff x="3124080" y="533520"/>
            <a:chExt cx="2819520" cy="2958840"/>
          </a:xfrm>
        </p:grpSpPr>
        <p:pic>
          <p:nvPicPr>
            <p:cNvPr id="47" name="06" descr=""/>
            <p:cNvPicPr/>
            <p:nvPr/>
          </p:nvPicPr>
          <p:blipFill>
            <a:blip r:embed="rId2"/>
            <a:stretch/>
          </p:blipFill>
          <p:spPr>
            <a:xfrm>
              <a:off x="3124080" y="533520"/>
              <a:ext cx="28195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5812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白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184800" y="533520"/>
            <a:ext cx="2806920" cy="2958840"/>
            <a:chOff x="6184800" y="533520"/>
            <a:chExt cx="2806920" cy="2958840"/>
          </a:xfrm>
        </p:grpSpPr>
        <p:pic>
          <p:nvPicPr>
            <p:cNvPr id="50" name="07" descr=""/>
            <p:cNvPicPr/>
            <p:nvPr/>
          </p:nvPicPr>
          <p:blipFill>
            <a:blip r:embed="rId3"/>
            <a:stretch/>
          </p:blipFill>
          <p:spPr>
            <a:xfrm>
              <a:off x="6184800" y="533520"/>
              <a:ext cx="28069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62940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紫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4400" y="3506760"/>
            <a:ext cx="3048120" cy="3124080"/>
            <a:chOff x="914400" y="3506760"/>
            <a:chExt cx="3048120" cy="3124080"/>
          </a:xfrm>
        </p:grpSpPr>
        <p:pic>
          <p:nvPicPr>
            <p:cNvPr id="53" name="08" descr=""/>
            <p:cNvPicPr/>
            <p:nvPr/>
          </p:nvPicPr>
          <p:blipFill>
            <a:blip r:embed="rId4"/>
            <a:stretch/>
          </p:blipFill>
          <p:spPr>
            <a:xfrm>
              <a:off x="914400" y="3506760"/>
              <a:ext cx="3048120" cy="25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5238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暗  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029200" y="3505320"/>
            <a:ext cx="3200400" cy="3125520"/>
            <a:chOff x="5029200" y="3505320"/>
            <a:chExt cx="3200400" cy="3125520"/>
          </a:xfrm>
        </p:grpSpPr>
        <p:pic>
          <p:nvPicPr>
            <p:cNvPr id="56" name="09" descr=""/>
            <p:cNvPicPr/>
            <p:nvPr/>
          </p:nvPicPr>
          <p:blipFill>
            <a:blip r:embed="rId5"/>
            <a:stretch/>
          </p:blipFill>
          <p:spPr>
            <a:xfrm>
              <a:off x="5029200" y="3505320"/>
              <a:ext cx="320040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6386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淡  绿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6324480" cy="563868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6677640" y="914400"/>
            <a:ext cx="2009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五 光 十 色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39280" y="21938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3:15:59Z</dcterms:created>
  <dc:creator>Ying Ying</dc:creator>
  <dc:description/>
  <dc:language>en-US</dc:language>
  <cp:lastModifiedBy>hdk</cp:lastModifiedBy>
  <dcterms:modified xsi:type="dcterms:W3CDTF">1998-09-02T02:59:15Z</dcterms:modified>
  <cp:revision>7</cp:revision>
  <dc:subject/>
  <dc:title>没有幻灯片标题</dc:title>
</cp:coreProperties>
</file>