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2EC-59C7-4647-B315-864FCC4B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2C91-DA89-413B-BC5F-32ACF8D9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D4FF-6D45-4D60-9D11-2B7A5193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B46C-2527-4728-A66C-5E580C7D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37E-75E1-49F2-8407-800C9FF0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5B9E-CC23-4FAE-BDE7-B7491BF5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6C78-054E-4127-8CB5-7491CC8E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D75-F622-405C-9FE9-693F2A20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FCBB-4C66-42C5-AD03-CF6C655B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AC9D-43A0-420B-95CC-821E5870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EA21-58A0-43B3-8F87-5F3337DC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9E31-67C9-4599-AFDD-2CC8E7F6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3636-E811-4621-BED4-917C07313A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43200" y="2209680"/>
            <a:ext cx="401472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葡萄沟</a:t>
            </a:r>
            <a:endParaRPr b="1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7010640" y="5670720"/>
            <a:ext cx="16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现代教育技术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都市盐道街小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52280" y="533520"/>
            <a:ext cx="2743200" cy="2958840"/>
            <a:chOff x="152280" y="533520"/>
            <a:chExt cx="2743200" cy="2958840"/>
          </a:xfrm>
        </p:grpSpPr>
        <p:pic>
          <p:nvPicPr>
            <p:cNvPr id="44" name="05" descr=""/>
            <p:cNvPicPr/>
            <p:nvPr/>
          </p:nvPicPr>
          <p:blipFill>
            <a:blip r:embed="rId1"/>
            <a:stretch/>
          </p:blipFill>
          <p:spPr>
            <a:xfrm>
              <a:off x="152280" y="533520"/>
              <a:ext cx="2743200" cy="23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0948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红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533520"/>
            <a:ext cx="2819520" cy="2958840"/>
            <a:chOff x="3124080" y="533520"/>
            <a:chExt cx="2819520" cy="2958840"/>
          </a:xfrm>
        </p:grpSpPr>
        <p:pic>
          <p:nvPicPr>
            <p:cNvPr id="47" name="06" descr=""/>
            <p:cNvPicPr/>
            <p:nvPr/>
          </p:nvPicPr>
          <p:blipFill>
            <a:blip r:embed="rId2"/>
            <a:stretch/>
          </p:blipFill>
          <p:spPr>
            <a:xfrm>
              <a:off x="3124080" y="533520"/>
              <a:ext cx="28195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358128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白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184800" y="533520"/>
            <a:ext cx="2806920" cy="2958840"/>
            <a:chOff x="6184800" y="533520"/>
            <a:chExt cx="2806920" cy="2958840"/>
          </a:xfrm>
        </p:grpSpPr>
        <p:pic>
          <p:nvPicPr>
            <p:cNvPr id="50" name="07" descr=""/>
            <p:cNvPicPr/>
            <p:nvPr/>
          </p:nvPicPr>
          <p:blipFill>
            <a:blip r:embed="rId3"/>
            <a:stretch/>
          </p:blipFill>
          <p:spPr>
            <a:xfrm>
              <a:off x="6184800" y="533520"/>
              <a:ext cx="28069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62940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紫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4400" y="3506760"/>
            <a:ext cx="3048120" cy="3124080"/>
            <a:chOff x="914400" y="3506760"/>
            <a:chExt cx="3048120" cy="3124080"/>
          </a:xfrm>
        </p:grpSpPr>
        <p:pic>
          <p:nvPicPr>
            <p:cNvPr id="53" name="08" descr=""/>
            <p:cNvPicPr/>
            <p:nvPr/>
          </p:nvPicPr>
          <p:blipFill>
            <a:blip r:embed="rId4"/>
            <a:stretch/>
          </p:blipFill>
          <p:spPr>
            <a:xfrm>
              <a:off x="914400" y="3506760"/>
              <a:ext cx="3048120" cy="25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523880" y="61102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暗  红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029200" y="3505320"/>
            <a:ext cx="3200400" cy="3125520"/>
            <a:chOff x="5029200" y="3505320"/>
            <a:chExt cx="3200400" cy="3125520"/>
          </a:xfrm>
        </p:grpSpPr>
        <p:pic>
          <p:nvPicPr>
            <p:cNvPr id="56" name="09" descr=""/>
            <p:cNvPicPr/>
            <p:nvPr/>
          </p:nvPicPr>
          <p:blipFill>
            <a:blip r:embed="rId5"/>
            <a:stretch/>
          </p:blipFill>
          <p:spPr>
            <a:xfrm>
              <a:off x="5029200" y="3505320"/>
              <a:ext cx="3200400" cy="25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638680" y="61102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淡  绿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3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6324480" cy="563868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6677640" y="914400"/>
            <a:ext cx="2009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五 光 十 色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39280" y="21938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13:15:59Z</dcterms:created>
  <dc:creator>Ying Ying</dc:creator>
  <dc:description/>
  <dc:language>en-US</dc:language>
  <cp:lastModifiedBy>hdk</cp:lastModifiedBy>
  <dcterms:modified xsi:type="dcterms:W3CDTF">1998-09-02T02:59:15Z</dcterms:modified>
  <cp:revision>7</cp:revision>
  <dc:subject/>
  <dc:title>没有幻灯片标题</dc:title>
</cp:coreProperties>
</file>