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031-780E-4926-A16C-1D926F27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8670-D18E-463D-8C81-C93A06491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D5C2-F0BA-4AB7-9DF1-D4096CA4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84B-C8C0-407B-9005-E05D5102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8F6-CB1A-4025-AA13-85629E93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FF9E-C15F-4445-B775-7E677F90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B6E-8E8B-46C8-8448-35ADF6B6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DC5-220C-454C-8F0A-399F1AD8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A22-4A50-43C6-93C4-05EABBD8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A9B-C501-492B-B6F8-2C519D97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D321-9E8E-4392-B299-BD116101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F30F-1FEE-48A1-93C8-19D89A5E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B6C0-D6DE-47BC-B7AB-10E3683B50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7" descr=""/>
          <p:cNvPicPr/>
          <p:nvPr/>
        </p:nvPicPr>
        <p:blipFill>
          <a:blip r:embed="rId1"/>
          <a:stretch/>
        </p:blipFill>
        <p:spPr>
          <a:xfrm>
            <a:off x="0" y="373392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42" name="01" descr=""/>
          <p:cNvPicPr/>
          <p:nvPr/>
        </p:nvPicPr>
        <p:blipFill>
          <a:blip r:embed="rId2"/>
          <a:stretch/>
        </p:blipFill>
        <p:spPr>
          <a:xfrm>
            <a:off x="990720" y="1371600"/>
            <a:ext cx="5257800" cy="4114800"/>
          </a:xfrm>
          <a:prstGeom prst="rect">
            <a:avLst/>
          </a:prstGeom>
          <a:ln w="0">
            <a:noFill/>
          </a:ln>
        </p:spPr>
      </p:pic>
      <p:pic>
        <p:nvPicPr>
          <p:cNvPr id="43" name="01.bmp" descr=""/>
          <p:cNvPicPr/>
          <p:nvPr/>
        </p:nvPicPr>
        <p:blipFill>
          <a:blip r:embed="rId3"/>
          <a:stretch/>
        </p:blipFill>
        <p:spPr>
          <a:xfrm>
            <a:off x="3352680" y="1600200"/>
            <a:ext cx="4953240" cy="3886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19320" y="144792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小白兔和小灰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2150402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38880" y="1752480"/>
            <a:ext cx="1524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帮忙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21504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66680" y="129528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04" descr=""/>
          <p:cNvPicPr/>
          <p:nvPr/>
        </p:nvPicPr>
        <p:blipFill>
          <a:blip r:embed="rId1"/>
          <a:stretch/>
        </p:blipFill>
        <p:spPr>
          <a:xfrm>
            <a:off x="-914400" y="0"/>
            <a:ext cx="10058400" cy="7635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914400"/>
            <a:ext cx="6553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小白兔回到家里，把地翻松了，种上菜子。                            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cc"/>
                </a:solidFill>
                <a:latin typeface="Times New Roman"/>
              </a:rPr>
              <a:t>过了几天，白菜长出来了。小白兔常常给白菜浇水，施肥，拔草，捉虫。白菜很快就长大了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4267080"/>
            <a:ext cx="83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1676520"/>
            <a:ext cx="45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5029200"/>
            <a:ext cx="533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42670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4267080"/>
            <a:ext cx="533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676520"/>
            <a:ext cx="838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Times New Roman"/>
              </a:rPr>
              <a:t>·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21504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02150406" descr=""/>
          <p:cNvPicPr/>
          <p:nvPr/>
        </p:nvPicPr>
        <p:blipFill>
          <a:blip r:embed="rId1"/>
          <a:stretch/>
        </p:blipFill>
        <p:spPr>
          <a:xfrm>
            <a:off x="0" y="0"/>
            <a:ext cx="762012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696080" y="1600200"/>
            <a:ext cx="990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不干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90720" y="2362320"/>
            <a:ext cx="236196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021504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66680" y="2133720"/>
            <a:ext cx="24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送白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1337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要白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72400" y="39625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Times New Roman"/>
              </a:rPr>
              <a:t>奇怪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21504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562720" y="0"/>
            <a:ext cx="3581280" cy="6858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16002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只有自己种，才有吃不完的菜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609480"/>
            <a:ext cx="80769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填空，再读一读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灰兔饿了就（    ）老山羊送的白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白兔把地翻松了，种上（       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</a:rPr>
              <a:t>、小白兔说：“只有（       ）种，才有（      ）不完的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5562720"/>
            <a:ext cx="68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600200"/>
            <a:ext cx="99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39625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菜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87692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自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6094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3520"/>
            <a:ext cx="72388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收   谢    拔    挑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菜   您   完    哪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32448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274320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28195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4832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19720" y="22096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219320"/>
            <a:ext cx="12193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819520"/>
            <a:ext cx="1218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60948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53080" y="533520"/>
            <a:ext cx="0" cy="11430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2209680"/>
            <a:ext cx="1219320" cy="1143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133720"/>
            <a:ext cx="106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哪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274320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2209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209680"/>
            <a:ext cx="0" cy="1067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05" descr=""/>
          <p:cNvPicPr/>
          <p:nvPr/>
        </p:nvPicPr>
        <p:blipFill>
          <a:blip r:embed="rId1"/>
          <a:stretch/>
        </p:blipFill>
        <p:spPr>
          <a:xfrm>
            <a:off x="0" y="0"/>
            <a:ext cx="107442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438280" y="2590920"/>
            <a:ext cx="426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  </a:t>
            </a:r>
            <a:r>
              <a:rPr b="1" lang="zh-CN" sz="9600" spc="-1" strike="noStrike">
                <a:solidFill>
                  <a:srgbClr val="000000"/>
                </a:solidFill>
                <a:latin typeface="方正仿宋简体"/>
                <a:ea typeface="方正仿宋简体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66880" y="220968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收菜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43200" y="243828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白菜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1800" y="24382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22860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拔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895480" y="220968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吃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71800" y="21337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挑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8120" y="2286000"/>
            <a:ext cx="289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哪里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3880" y="1295280"/>
            <a:ext cx="632484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收菜  白菜  谢谢     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您好  拔草  吃完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挑水  哪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7T07:55:10Z</dcterms:created>
  <dc:creator>user</dc:creator>
  <dc:description/>
  <dc:language>en-US</dc:language>
  <cp:lastModifiedBy>user</cp:lastModifiedBy>
  <dcterms:modified xsi:type="dcterms:W3CDTF">2001-05-07T12:47:25Z</dcterms:modified>
  <cp:revision>5</cp:revision>
  <dc:subject/>
  <dc:title>PowerPoint 演示文稿</dc:title>
</cp:coreProperties>
</file>