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541-1437-4FA9-9813-E05FD76B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C90-FF4B-42A7-BED6-EDC5E6DB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FA5-585F-4EDF-BD79-3E9C5E43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8A9-BBA4-4454-83A9-BD69ABC9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200-3697-4674-A107-CBBA9F7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7E5-551C-4C4C-AFB4-1ABA7AA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1B7-BCE5-4659-92A3-C33202F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898-B18B-41A6-BD1E-A1CA361F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6AC-085F-41B1-AEB3-51CE72B3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0F3-798B-46C4-9967-92A2AE8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CE9-CC90-41D5-8A6B-BA0EA77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6B2-C0F5-4C93-AAA1-00F80FE8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6CDD-0037-407C-A598-0CFD452126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福州市三平小学    陈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9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页第3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页第4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5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弯着腰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cfm</cp:lastModifiedBy>
  <dcterms:modified xsi:type="dcterms:W3CDTF">2001-11-27T04:05:20Z</dcterms:modified>
  <cp:revision>9</cp:revision>
  <dc:subject/>
  <dc:title>PowerPoint 演示文稿</dc:title>
</cp:coreProperties>
</file>