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522-B538-44A4-A230-067342D2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90F-B1BA-415F-BC72-B4ED5CD4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330B-613C-4A44-8478-F07B6614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7A5-21A4-4A9E-AD10-632DB099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B50-34E7-4AC4-A8EC-1CC46603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09B-1555-4322-8076-5BC5922E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35F-DF68-42AD-84F1-E25073F5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473F-1964-43D1-9312-00C1C934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708-6656-490F-B150-305293C8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493-DBF8-4E04-9D0A-EFD08F8D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555-1843-4BB3-BAE2-8CFF9B77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CCE9-4F45-42BB-B9BB-D867FE4B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DD0A-08D9-43FD-BFEB-2CE1EA1D51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7" descr=""/>
          <p:cNvPicPr/>
          <p:nvPr/>
        </p:nvPicPr>
        <p:blipFill>
          <a:blip r:embed="rId1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42" name="01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5257800" cy="4114800"/>
          </a:xfrm>
          <a:prstGeom prst="rect">
            <a:avLst/>
          </a:prstGeom>
          <a:ln w="0">
            <a:noFill/>
          </a:ln>
        </p:spPr>
      </p:pic>
      <p:pic>
        <p:nvPicPr>
          <p:cNvPr id="43" name="01.bmp" descr=""/>
          <p:cNvPicPr/>
          <p:nvPr/>
        </p:nvPicPr>
        <p:blipFill>
          <a:blip r:embed="rId3"/>
          <a:stretch/>
        </p:blipFill>
        <p:spPr>
          <a:xfrm>
            <a:off x="3352680" y="1600200"/>
            <a:ext cx="4953240" cy="3886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144792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小白兔和小灰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215040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38880" y="1752480"/>
            <a:ext cx="152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帮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21504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129528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04" descr=""/>
          <p:cNvPicPr/>
          <p:nvPr/>
        </p:nvPicPr>
        <p:blipFill>
          <a:blip r:embed="rId1"/>
          <a:stretch/>
        </p:blipFill>
        <p:spPr>
          <a:xfrm>
            <a:off x="-914400" y="0"/>
            <a:ext cx="10058400" cy="7635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914400"/>
            <a:ext cx="6553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小白兔回到家里，把地翻松了，种上菜子。        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过了几天，白菜长出来了。小白兔常常给白菜浇水，施肥，拔草，捉虫。白菜很快就长大了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426708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1676520"/>
            <a:ext cx="4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502920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42670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42670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6765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21504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2150406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96080" y="1600200"/>
            <a:ext cx="990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不干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2362320"/>
            <a:ext cx="23619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021504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66680" y="213372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送白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1337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要白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39625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奇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21504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562720" y="0"/>
            <a:ext cx="3581280" cy="6858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16002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只有自己种，才有吃不完的菜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609480"/>
            <a:ext cx="80769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填空，再读一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灰兔饿了就（    ）老山羊送的白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白兔把地翻松了，种上（       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白兔说：“只有（       ）种，才有（      ）不完的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55627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60020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39625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菜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8769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自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3520"/>
            <a:ext cx="72388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收   谢    拔    挑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菜   您   完    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74320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8195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819520"/>
            <a:ext cx="1218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53352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13372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哪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274320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220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209680"/>
            <a:ext cx="0" cy="1067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05" descr=""/>
          <p:cNvPicPr/>
          <p:nvPr/>
        </p:nvPicPr>
        <p:blipFill>
          <a:blip r:embed="rId1"/>
          <a:stretch/>
        </p:blipFill>
        <p:spPr>
          <a:xfrm>
            <a:off x="0" y="0"/>
            <a:ext cx="107442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38280" y="259092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  </a:t>
            </a:r>
            <a:r>
              <a:rPr b="1" lang="zh-CN" sz="9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6880" y="22096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收菜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43200" y="24382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白菜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1800" y="2438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22860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拔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22096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吃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71800" y="2133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挑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8120" y="22860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哪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3880" y="1295280"/>
            <a:ext cx="63248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收菜  白菜  谢谢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您好  拔草  吃完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挑水  哪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07:55:10Z</dcterms:created>
  <dc:creator>user</dc:creator>
  <dc:description/>
  <dc:language>en-US</dc:language>
  <cp:lastModifiedBy>user</cp:lastModifiedBy>
  <dcterms:modified xsi:type="dcterms:W3CDTF">2001-05-07T12:47:25Z</dcterms:modified>
  <cp:revision>5</cp:revision>
  <dc:subject/>
  <dc:title>PowerPoint 演示文稿</dc:title>
</cp:coreProperties>
</file>