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E0A-58AF-4930-9D04-95AD4053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80C-C90C-4FAE-8A7D-5DD927E8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F93-1962-49A0-8275-2DED86CB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5F3-CC27-48B3-8002-EBC62702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00C-377E-49FA-B815-5ABC802D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FEE-9429-444F-994A-E4043206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D64-AAB3-4F71-87C7-144BCBB1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3ED-BF97-4393-903B-EA9206A3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26E-BE96-4955-A51D-1763D8C0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B08-6ABE-4F54-A20C-D018B30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2DA-604D-4A3C-A748-4AEB9132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4D2-8898-4CDB-9C91-07A66B72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FFD9-608C-4560-AF80-AF87A77385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7" descr=""/>
          <p:cNvPicPr/>
          <p:nvPr/>
        </p:nvPicPr>
        <p:blipFill>
          <a:blip r:embed="rId1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42" name="01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52578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01.bmp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495324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14479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小白兔和小灰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215040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38880" y="1752480"/>
            <a:ext cx="152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帮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504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129528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4" descr="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7635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914400"/>
            <a:ext cx="6553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小白兔回到家里，把地翻松了，种上菜子。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过了几天，白菜长出来了。小白兔常常给白菜浇水，施肥，拔草，捉虫。白菜很快就长大了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42670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167652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029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6765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21504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2150406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96080" y="1600200"/>
            <a:ext cx="99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不干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2362320"/>
            <a:ext cx="23619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021504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21337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1337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39625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奇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21504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62720" y="0"/>
            <a:ext cx="3581280" cy="6858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1600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只有自己种，才有吃不完的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609480"/>
            <a:ext cx="80769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填空，再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灰兔饿了就（    ）老山羊送的白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把地翻松了，种上（       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说：“只有（       ）种，才有（      ）不完的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5562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60020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39625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菜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876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7238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收   谢    拔    挑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菜   您   完    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8195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819520"/>
            <a:ext cx="1218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3352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13372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27432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209680"/>
            <a:ext cx="0" cy="1067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107442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8280" y="259092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  </a:t>
            </a: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22096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收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3200" y="2438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白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1800" y="2438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拔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209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吃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1800" y="2133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挑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812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哪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1295280"/>
            <a:ext cx="63248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收菜  白菜  谢谢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您好  拔草  吃完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挑水  哪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07:55:10Z</dcterms:created>
  <dc:creator>user</dc:creator>
  <dc:description/>
  <dc:language>en-US</dc:language>
  <cp:lastModifiedBy>user</cp:lastModifiedBy>
  <dcterms:modified xsi:type="dcterms:W3CDTF">2001-05-07T12:47:25Z</dcterms:modified>
  <cp:revision>5</cp:revision>
  <dc:subject/>
  <dc:title>PowerPoint 演示文稿</dc:title>
</cp:coreProperties>
</file>