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F517-884B-4485-8FD6-6A95666D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2268-B7F1-4571-A876-AFB3FF5C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FEBC-5F8E-4758-9207-DE04714FE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8BC9-67F9-414A-B30F-29A659C9B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8239-8594-4A3E-8DF9-5ACDBDF4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12CB-4BF2-4048-B638-DE9764D0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5E5F-FC7A-4538-8617-FA537437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38C5-6B3A-431C-AA2B-30ECEF6C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1B4C-AC4A-4FD8-BBDB-59511E8A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5D45-3DBC-4A22-ADC1-672E1616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351F-0C31-4DB7-857F-B852443A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8B86-FB7C-4989-8D84-8F8EDE7B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72F4-F6F3-42C8-91B8-7147833626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743200" y="2209680"/>
            <a:ext cx="401472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葡萄沟</a:t>
            </a:r>
            <a:endParaRPr b="1" lang="en-US" sz="6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7010640" y="5670720"/>
            <a:ext cx="164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现代教育技术中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都市盐道街小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52280" y="533520"/>
            <a:ext cx="2743200" cy="2958840"/>
            <a:chOff x="152280" y="533520"/>
            <a:chExt cx="2743200" cy="2958840"/>
          </a:xfrm>
        </p:grpSpPr>
        <p:pic>
          <p:nvPicPr>
            <p:cNvPr id="44" name="05" descr=""/>
            <p:cNvPicPr/>
            <p:nvPr/>
          </p:nvPicPr>
          <p:blipFill>
            <a:blip r:embed="rId1"/>
            <a:stretch/>
          </p:blipFill>
          <p:spPr>
            <a:xfrm>
              <a:off x="152280" y="533520"/>
              <a:ext cx="2743200" cy="23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609480" y="29718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红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533520"/>
            <a:ext cx="2819520" cy="2958840"/>
            <a:chOff x="3124080" y="533520"/>
            <a:chExt cx="2819520" cy="2958840"/>
          </a:xfrm>
        </p:grpSpPr>
        <p:pic>
          <p:nvPicPr>
            <p:cNvPr id="47" name="06" descr=""/>
            <p:cNvPicPr/>
            <p:nvPr/>
          </p:nvPicPr>
          <p:blipFill>
            <a:blip r:embed="rId2"/>
            <a:stretch/>
          </p:blipFill>
          <p:spPr>
            <a:xfrm>
              <a:off x="3124080" y="533520"/>
              <a:ext cx="281952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3581280" y="29718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白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6184800" y="533520"/>
            <a:ext cx="2806920" cy="2958840"/>
            <a:chOff x="6184800" y="533520"/>
            <a:chExt cx="2806920" cy="2958840"/>
          </a:xfrm>
        </p:grpSpPr>
        <p:pic>
          <p:nvPicPr>
            <p:cNvPr id="50" name="07" descr=""/>
            <p:cNvPicPr/>
            <p:nvPr/>
          </p:nvPicPr>
          <p:blipFill>
            <a:blip r:embed="rId3"/>
            <a:stretch/>
          </p:blipFill>
          <p:spPr>
            <a:xfrm>
              <a:off x="6184800" y="533520"/>
              <a:ext cx="280692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629400" y="29718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紫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14400" y="3506760"/>
            <a:ext cx="3048120" cy="3124080"/>
            <a:chOff x="914400" y="3506760"/>
            <a:chExt cx="3048120" cy="3124080"/>
          </a:xfrm>
        </p:grpSpPr>
        <p:pic>
          <p:nvPicPr>
            <p:cNvPr id="53" name="08" descr=""/>
            <p:cNvPicPr/>
            <p:nvPr/>
          </p:nvPicPr>
          <p:blipFill>
            <a:blip r:embed="rId4"/>
            <a:stretch/>
          </p:blipFill>
          <p:spPr>
            <a:xfrm>
              <a:off x="914400" y="3506760"/>
              <a:ext cx="3048120" cy="25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523880" y="611028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暗  红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5029200" y="3505320"/>
            <a:ext cx="3200400" cy="3125520"/>
            <a:chOff x="5029200" y="3505320"/>
            <a:chExt cx="3200400" cy="3125520"/>
          </a:xfrm>
        </p:grpSpPr>
        <p:pic>
          <p:nvPicPr>
            <p:cNvPr id="56" name="09" descr=""/>
            <p:cNvPicPr/>
            <p:nvPr/>
          </p:nvPicPr>
          <p:blipFill>
            <a:blip r:embed="rId5"/>
            <a:stretch/>
          </p:blipFill>
          <p:spPr>
            <a:xfrm>
              <a:off x="5029200" y="3505320"/>
              <a:ext cx="3200400" cy="25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5638680" y="611028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淡  绿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03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6324480" cy="5638680"/>
          </a:xfrm>
          <a:prstGeom prst="rect">
            <a:avLst/>
          </a:prstGeom>
          <a:ln w="76320">
            <a:solidFill>
              <a:srgbClr val="666699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6677640" y="914400"/>
            <a:ext cx="20091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五 光 十 色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39280" y="21938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0T13:15:59Z</dcterms:created>
  <dc:creator>Ying Ying</dc:creator>
  <dc:description/>
  <dc:language>en-US</dc:language>
  <cp:lastModifiedBy>hdk</cp:lastModifiedBy>
  <dcterms:modified xsi:type="dcterms:W3CDTF">1998-09-02T02:59:15Z</dcterms:modified>
  <cp:revision>7</cp:revision>
  <dc:subject/>
  <dc:title>没有幻灯片标题</dc:title>
</cp:coreProperties>
</file>