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5D8-17CE-4146-9C87-F286FC5A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B20-D089-481F-9096-4B65DD59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C03-F7BB-4817-A5EC-7540F89C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DD0-6410-49F0-A7EA-27EA49C3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AE4-F888-456B-AA72-830A269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A36-A2FA-4F1F-899C-6A46DB8C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219-E677-408D-BBB0-BF1F36AE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0CA-C99A-4B06-848A-20FD18E2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516-A4DA-4FDF-8F7C-1DFD7706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8DA-FA61-4957-8696-ABCA9CC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B39-5109-40BF-998F-3EA31179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695-234D-4D90-84A3-B983DB7D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0CF1-6B62-446D-B84C-3B71C22E3B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43200" y="2209680"/>
            <a:ext cx="40147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葡萄沟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010640" y="5670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现代教育技术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都市盐道街小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2280" y="533520"/>
            <a:ext cx="2743200" cy="2958840"/>
            <a:chOff x="152280" y="533520"/>
            <a:chExt cx="2743200" cy="2958840"/>
          </a:xfrm>
        </p:grpSpPr>
        <p:pic>
          <p:nvPicPr>
            <p:cNvPr id="44" name="05" descr=""/>
            <p:cNvPicPr/>
            <p:nvPr/>
          </p:nvPicPr>
          <p:blipFill>
            <a:blip r:embed="rId1"/>
            <a:stretch/>
          </p:blipFill>
          <p:spPr>
            <a:xfrm>
              <a:off x="152280" y="533520"/>
              <a:ext cx="2743200" cy="23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094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533520"/>
            <a:ext cx="2819520" cy="2958840"/>
            <a:chOff x="3124080" y="533520"/>
            <a:chExt cx="2819520" cy="2958840"/>
          </a:xfrm>
        </p:grpSpPr>
        <p:pic>
          <p:nvPicPr>
            <p:cNvPr id="47" name="06" descr=""/>
            <p:cNvPicPr/>
            <p:nvPr/>
          </p:nvPicPr>
          <p:blipFill>
            <a:blip r:embed="rId2"/>
            <a:stretch/>
          </p:blipFill>
          <p:spPr>
            <a:xfrm>
              <a:off x="3124080" y="533520"/>
              <a:ext cx="28195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358128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白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184800" y="533520"/>
            <a:ext cx="2806920" cy="2958840"/>
            <a:chOff x="6184800" y="533520"/>
            <a:chExt cx="2806920" cy="2958840"/>
          </a:xfrm>
        </p:grpSpPr>
        <p:pic>
          <p:nvPicPr>
            <p:cNvPr id="50" name="07" descr=""/>
            <p:cNvPicPr/>
            <p:nvPr/>
          </p:nvPicPr>
          <p:blipFill>
            <a:blip r:embed="rId3"/>
            <a:stretch/>
          </p:blipFill>
          <p:spPr>
            <a:xfrm>
              <a:off x="6184800" y="533520"/>
              <a:ext cx="280692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6294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紫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4400" y="3506760"/>
            <a:ext cx="3048120" cy="3124080"/>
            <a:chOff x="914400" y="3506760"/>
            <a:chExt cx="3048120" cy="3124080"/>
          </a:xfrm>
        </p:grpSpPr>
        <p:pic>
          <p:nvPicPr>
            <p:cNvPr id="53" name="08" descr=""/>
            <p:cNvPicPr/>
            <p:nvPr/>
          </p:nvPicPr>
          <p:blipFill>
            <a:blip r:embed="rId4"/>
            <a:stretch/>
          </p:blipFill>
          <p:spPr>
            <a:xfrm>
              <a:off x="914400" y="3506760"/>
              <a:ext cx="30481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5238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暗  红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29200" y="3505320"/>
            <a:ext cx="3200400" cy="3125520"/>
            <a:chOff x="5029200" y="3505320"/>
            <a:chExt cx="3200400" cy="3125520"/>
          </a:xfrm>
        </p:grpSpPr>
        <p:pic>
          <p:nvPicPr>
            <p:cNvPr id="56" name="09" descr=""/>
            <p:cNvPicPr/>
            <p:nvPr/>
          </p:nvPicPr>
          <p:blipFill>
            <a:blip r:embed="rId5"/>
            <a:stretch/>
          </p:blipFill>
          <p:spPr>
            <a:xfrm>
              <a:off x="5029200" y="3505320"/>
              <a:ext cx="3200400" cy="25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638680" y="61102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淡  绿  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324480" cy="5638680"/>
          </a:xfrm>
          <a:prstGeom prst="rect">
            <a:avLst/>
          </a:prstGeom>
          <a:ln w="76320">
            <a:solidFill>
              <a:srgbClr val="666699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677640" y="914400"/>
            <a:ext cx="200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 光 十 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39280" y="21938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13:15:59Z</dcterms:created>
  <dc:creator>Ying Ying</dc:creator>
  <dc:description/>
  <dc:language>en-US</dc:language>
  <cp:lastModifiedBy>hdk</cp:lastModifiedBy>
  <dcterms:modified xsi:type="dcterms:W3CDTF">1998-09-02T02:59:15Z</dcterms:modified>
  <cp:revision>7</cp:revision>
  <dc:subject/>
  <dc:title>没有幻灯片标题</dc:title>
</cp:coreProperties>
</file>