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9D33-0225-42F0-87C5-DBF8020E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F0CD-9892-4B4C-A326-2CC3E6AF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CB5-3B61-47B8-833C-21E3FDDD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3C0E-1A51-411B-B394-09891D2F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87C-A069-4B7F-B14D-C80D5242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349E-DF2C-43E4-B631-95F030F2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16E-8D0E-4A62-BC40-D78FF1DA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2014-CCBA-4704-8EB8-990C2CA4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9F9E-113C-4D1F-8ADA-63C01D9D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BAF-4DF2-4E66-9E37-68ACB82A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3EB-CF64-4FC8-A1F2-55BA206A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583-6656-434D-9737-9402DF0B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B32B-1B71-4CD0-9AE3-C7C0869DF1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7" descr=""/>
          <p:cNvPicPr/>
          <p:nvPr/>
        </p:nvPicPr>
        <p:blipFill>
          <a:blip r:embed="rId1"/>
          <a:stretch/>
        </p:blipFill>
        <p:spPr>
          <a:xfrm>
            <a:off x="0" y="373392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42" name="01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5257800" cy="4114800"/>
          </a:xfrm>
          <a:prstGeom prst="rect">
            <a:avLst/>
          </a:prstGeom>
          <a:ln w="0">
            <a:noFill/>
          </a:ln>
        </p:spPr>
      </p:pic>
      <p:pic>
        <p:nvPicPr>
          <p:cNvPr id="43" name="01.bmp" descr=""/>
          <p:cNvPicPr/>
          <p:nvPr/>
        </p:nvPicPr>
        <p:blipFill>
          <a:blip r:embed="rId3"/>
          <a:stretch/>
        </p:blipFill>
        <p:spPr>
          <a:xfrm>
            <a:off x="3352680" y="1600200"/>
            <a:ext cx="4953240" cy="3886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144792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小白兔和小灰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215040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38880" y="1752480"/>
            <a:ext cx="1524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帮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21504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129528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04" descr=""/>
          <p:cNvPicPr/>
          <p:nvPr/>
        </p:nvPicPr>
        <p:blipFill>
          <a:blip r:embed="rId1"/>
          <a:stretch/>
        </p:blipFill>
        <p:spPr>
          <a:xfrm>
            <a:off x="-914400" y="0"/>
            <a:ext cx="10058400" cy="7635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914400"/>
            <a:ext cx="6553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小白兔回到家里，把地翻松了，种上菜子。        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过了几天，白菜长出来了。小白兔常常给白菜浇水，施肥，拔草，捉虫。白菜很快就长大了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426708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1676520"/>
            <a:ext cx="4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5029200"/>
            <a:ext cx="53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426708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426708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6765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21504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2150406" descr=""/>
          <p:cNvPicPr/>
          <p:nvPr/>
        </p:nvPicPr>
        <p:blipFill>
          <a:blip r:embed="rId1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96080" y="1600200"/>
            <a:ext cx="990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不干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2362320"/>
            <a:ext cx="236196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021504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66680" y="213372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送白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1337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要白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39625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奇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21504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562720" y="0"/>
            <a:ext cx="3581280" cy="6858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16002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只有自己种，才有吃不完的菜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609480"/>
            <a:ext cx="80769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填空，再读一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小灰兔饿了就（    ）老山羊送的白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小白兔把地翻松了，种上（       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小白兔说：“只有（       ）种，才有（      ）不完的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55627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160020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39625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菜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8769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自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715000" y="2209680"/>
            <a:ext cx="1219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2209680"/>
            <a:ext cx="12193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3520"/>
            <a:ext cx="72388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收   谢    拔    挑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菜   您   完    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274320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8195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12193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6094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12193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2193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6094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819520"/>
            <a:ext cx="1218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6094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53352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13372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哪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274320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2209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2209680"/>
            <a:ext cx="0" cy="1067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05" descr=""/>
          <p:cNvPicPr/>
          <p:nvPr/>
        </p:nvPicPr>
        <p:blipFill>
          <a:blip r:embed="rId1"/>
          <a:stretch/>
        </p:blipFill>
        <p:spPr>
          <a:xfrm>
            <a:off x="0" y="0"/>
            <a:ext cx="107442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38280" y="259092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  </a:t>
            </a:r>
            <a:r>
              <a:rPr b="1" lang="zh-CN" sz="9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6880" y="22096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收菜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43200" y="24382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白菜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1800" y="2438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228600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拔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95480" y="22096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吃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71800" y="21337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挑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8120" y="228600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哪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3880" y="1295280"/>
            <a:ext cx="63248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收菜  白菜  谢谢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您好  拔草  吃完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挑水  哪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07:55:10Z</dcterms:created>
  <dc:creator>user</dc:creator>
  <dc:description/>
  <dc:language>en-US</dc:language>
  <cp:lastModifiedBy>user</cp:lastModifiedBy>
  <dcterms:modified xsi:type="dcterms:W3CDTF">2001-05-07T12:47:25Z</dcterms:modified>
  <cp:revision>5</cp:revision>
  <dc:subject/>
  <dc:title>PowerPoint 演示文稿</dc:title>
</cp:coreProperties>
</file>