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54C-5DAA-43CE-8248-9C535140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FC7-54A7-43DD-81F9-AD7277D7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42E-F443-42E2-AAD0-38DD20B9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760-1057-42E8-97B9-465C037E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BCF-1CC8-4664-A9CC-9E1F4E51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DF3-B463-406D-85E9-915EAE66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99B2-08EA-4C34-8504-DA64568F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2EA-0F83-4971-A343-208B26F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6B7-49A1-4CCF-B741-84AB2142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672-22BC-4BC5-9A0B-F33DB22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851-E443-4233-A731-7B56BB6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AA0-1C98-4EF8-BE57-26C82CD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4BEA-B7CC-497A-865B-E504DFB7AC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99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要 下 雨 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625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福州市三平小学    陈奋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035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请小朋友们打开课本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9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页。这段话讲了谁在什么地方，干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819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这时，小白兔有什么感觉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267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直起了身子，这时，它看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6880" y="2286000"/>
            <a:ext cx="2514600" cy="1828800"/>
          </a:xfrm>
          <a:prstGeom prst="wedgeRoundRectCallout">
            <a:avLst>
              <a:gd name="adj1" fmla="val -39583"/>
              <a:gd name="adj2" fmla="val 6701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燕子，燕子，你为什么飞得这么低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1896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看图比较，小燕子与平时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看到后又是怎么做的呢？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燕子是怎么回答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4800600" y="3048120"/>
            <a:ext cx="4038480" cy="2133360"/>
          </a:xfrm>
          <a:prstGeom prst="wedgeRectCallout">
            <a:avLst>
              <a:gd name="adj1" fmla="val 36555"/>
              <a:gd name="adj2" fmla="val 68671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空气很潮湿，虫子的翅膀沾了小水珠，飞不高。我正忙着捉虫子呢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燕子的话，小白兔的心里是怎么想的呢？后来又看见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57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观察，小鱼与平时有什么不一样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觉得很奇怪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"/>
            <a:ext cx="2743200" cy="2590920"/>
          </a:xfrm>
          <a:prstGeom prst="cloudCallout">
            <a:avLst>
              <a:gd name="adj1" fmla="val -68347"/>
              <a:gd name="adj2" fmla="val 4418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鱼，小鱼，今天怎么有空出来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鱼把什么消息告诉了小白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3048120"/>
            <a:ext cx="3581280" cy="1904760"/>
          </a:xfrm>
          <a:prstGeom prst="wedgeRoundRectCallout">
            <a:avLst>
              <a:gd name="adj1" fmla="val -45879"/>
              <a:gd name="adj2" fmla="val 67583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要下雨了。水里闷得很，我们到水面上来透透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362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还说了些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809880"/>
            <a:ext cx="3733920" cy="1067040"/>
          </a:xfrm>
          <a:prstGeom prst="wedgeRectCallout">
            <a:avLst>
              <a:gd name="adj1" fmla="val -43152"/>
              <a:gd name="adj2" fmla="val 843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小白兔，你快回家吧，小心淋着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360" y="5735520"/>
            <a:ext cx="74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听了小鱼的话，小白兔相信要下雨了吗？在回家的路上，又碰到了谁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685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碰到多少只蚂蚁？它做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295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说了些什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3810240" cy="1219320"/>
          </a:xfrm>
          <a:prstGeom prst="wedgeRoundRectCallout">
            <a:avLst>
              <a:gd name="adj1" fmla="val -43500"/>
              <a:gd name="adj2" fmla="val 61199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是要下雨了，我们正忙着搬东西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191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是往哪个方向搬呢？为什么这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588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蚂蚁的话使小白兔更加相信要下雨了，它是怎么做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小白兔一边跑一边喊，喊什么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743200"/>
            <a:ext cx="3353040" cy="1219320"/>
          </a:xfrm>
          <a:prstGeom prst="wedgeRoundRectCallout">
            <a:avLst>
              <a:gd name="adj1" fmla="val 45263"/>
              <a:gd name="adj2" fmla="val 82814"/>
              <a:gd name="adj3" fmla="val 1666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妈妈，妈妈，要下雨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结果，真的下雨了吗？雨下得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）练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800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页第3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4100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课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P85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页第4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99ff"/>
            </a:gs>
            <a:gs pos="100000">
              <a:srgbClr val="66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685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组成句子写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说话        蚂蚁        正在        小白兔        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09680"/>
            <a:ext cx="449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Times New Roman"/>
                <a:ea typeface="楷体_GB2312"/>
              </a:rPr>
              <a:t>小白兔正在跟蚂蚁说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1240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宋体"/>
                <a:ea typeface="楷体_GB2312"/>
              </a:rPr>
              <a:t>蚂蚁正在跟小白兔说话</a:t>
            </a: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9625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华文新魏"/>
              </a:rPr>
              <a:t>妈妈        要        了        我        下雨        告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678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9966"/>
                </a:solidFill>
                <a:uFillTx/>
                <a:latin typeface="楷体_GB2312"/>
                <a:ea typeface="楷体_GB2312"/>
              </a:rPr>
              <a:t>我告诉妈妈要下雨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990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、读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3429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495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小白兔弯着腰在山坡上割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91520" y="54100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7493"/>
                </a:moveTo>
                <a:lnTo>
                  <a:pt x="8961" y="7493"/>
                </a:lnTo>
                <a:lnTo>
                  <a:pt x="8961" y="12828"/>
                </a:lnTo>
                <a:cubicBezTo>
                  <a:pt x="8961" y="13751"/>
                  <a:pt x="9761" y="14482"/>
                  <a:pt x="10797" y="14482"/>
                </a:cubicBezTo>
                <a:lnTo>
                  <a:pt x="12459" y="14482"/>
                </a:lnTo>
                <a:cubicBezTo>
                  <a:pt x="13495" y="14482"/>
                  <a:pt x="14296" y="13751"/>
                  <a:pt x="14296" y="12828"/>
                </a:cubicBezTo>
                <a:lnTo>
                  <a:pt x="14296" y="7493"/>
                </a:lnTo>
                <a:lnTo>
                  <a:pt x="12459" y="7493"/>
                </a:lnTo>
                <a:lnTo>
                  <a:pt x="15967" y="3985"/>
                </a:lnTo>
                <a:lnTo>
                  <a:pt x="19640" y="7493"/>
                </a:lnTo>
                <a:lnTo>
                  <a:pt x="17804" y="7493"/>
                </a:lnTo>
                <a:lnTo>
                  <a:pt x="17804" y="12828"/>
                </a:lnTo>
                <a:cubicBezTo>
                  <a:pt x="17804" y="15596"/>
                  <a:pt x="15227" y="18155"/>
                  <a:pt x="12459" y="18155"/>
                </a:cubicBezTo>
                <a:lnTo>
                  <a:pt x="10797" y="18155"/>
                </a:lnTo>
                <a:cubicBezTo>
                  <a:pt x="8029" y="18155"/>
                  <a:pt x="5453" y="15596"/>
                  <a:pt x="5453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在山坡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17320" y="44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94739"/>
                </a:solidFill>
                <a:latin typeface="Times New Roman"/>
                <a:ea typeface="楷体_GB2312"/>
              </a:rPr>
              <a:t>弯着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2T02:56:55Z</dcterms:created>
  <dc:creator>cfm</dc:creator>
  <dc:description/>
  <dc:language>en-US</dc:language>
  <cp:lastModifiedBy>cfm</cp:lastModifiedBy>
  <dcterms:modified xsi:type="dcterms:W3CDTF">2001-11-27T04:05:20Z</dcterms:modified>
  <cp:revision>9</cp:revision>
  <dc:subject/>
  <dc:title>PowerPoint 演示文稿</dc:title>
</cp:coreProperties>
</file>