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2C41-E193-4F04-B0D2-2AC239874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89A4-E7A1-4C49-8DA2-D51C6340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8088-CB43-416C-96D9-B88D48709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B8AE-B52E-4580-B96B-4726FEAD7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519C-D372-40CC-849B-AD420130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F10E-68C4-4E94-A73F-328BBE0D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27A4-BFDD-41DB-AEAE-44ED89BE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3E17-D1DE-4DA3-84E6-2113D9DD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1E45-7467-4AA0-A22C-93D1EEDD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2FD7-4FC3-4246-B17C-455A139A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429D-7ACE-481A-80BC-B21DD33E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2F5B-6346-44C4-88B6-039C556A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89F9-E3ED-4D04-A74B-D27C4AD090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8.xm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9900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9144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6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要 下 雨 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36259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33"/>
                </a:solidFill>
                <a:latin typeface="Times New Roman"/>
                <a:ea typeface="华文行楷"/>
              </a:rPr>
              <a:t>福州市三平小学    陈奋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ff"/>
            </a:gs>
            <a:gs pos="100000">
              <a:srgbClr val="66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0350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1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请小朋友们打开课本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9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页。这段话讲了谁在什么地方，干什么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8195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这时，小白兔有什么感觉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42670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3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小白兔直起了身子，这时，它看到了谁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6880" y="2286000"/>
            <a:ext cx="2514600" cy="1828800"/>
          </a:xfrm>
          <a:prstGeom prst="wedgeRoundRectCallout">
            <a:avLst>
              <a:gd name="adj1" fmla="val -39583"/>
              <a:gd name="adj2" fmla="val 67013"/>
              <a:gd name="adj3" fmla="val 16667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燕子，燕子，你为什么飞得这么低呀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31896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1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看图比较，小燕子与平时有什么不同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9144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小白兔看到后又是怎么做的呢？喊什么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5238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3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燕子是怎么回答的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0800000">
            <a:off x="4800600" y="3048120"/>
            <a:ext cx="4038480" cy="2133360"/>
          </a:xfrm>
          <a:prstGeom prst="wedgeRectCallout">
            <a:avLst>
              <a:gd name="adj1" fmla="val 36555"/>
              <a:gd name="adj2" fmla="val 68671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要下雨了。空气很潮湿，虫子的翅膀沾了小水珠，飞不高。我正忙着捉虫子呢</a:t>
            </a:r>
            <a:r>
              <a:rPr b="0" lang="zh-CN" sz="32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54864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4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听了燕子的话，小白兔的心里是怎么想的呢？后来又看见了谁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4572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1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观察，小鱼与平时有什么不一样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小白兔觉得很奇怪，它是怎么做的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00800" y="228600"/>
            <a:ext cx="2743200" cy="2590920"/>
          </a:xfrm>
          <a:prstGeom prst="cloudCallout">
            <a:avLst>
              <a:gd name="adj1" fmla="val -68347"/>
              <a:gd name="adj2" fmla="val 44180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小鱼，小鱼，今天怎么有空出来呀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766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3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小鱼把什么消息告诉了小白兔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57400" y="3048120"/>
            <a:ext cx="3581280" cy="1904760"/>
          </a:xfrm>
          <a:prstGeom prst="wedgeRoundRectCallout">
            <a:avLst>
              <a:gd name="adj1" fmla="val -45879"/>
              <a:gd name="adj2" fmla="val 67583"/>
              <a:gd name="adj3" fmla="val 16667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要下雨了。水里闷得很，我们到水面上来透透气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23623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还说了些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3809880"/>
            <a:ext cx="3733920" cy="1067040"/>
          </a:xfrm>
          <a:prstGeom prst="wedgeRectCallout">
            <a:avLst>
              <a:gd name="adj1" fmla="val -43152"/>
              <a:gd name="adj2" fmla="val 84375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小白兔，你快回家吧，小心淋着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360" y="5735520"/>
            <a:ext cx="748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4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听了小鱼的话，小白兔相信要下雨了吗？在回家的路上，又碰到了谁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09480" y="68580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1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小白兔碰到多少只蚂蚁？它做了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2952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蚂蚁说了些什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3581280"/>
            <a:ext cx="3810240" cy="1219320"/>
          </a:xfrm>
          <a:prstGeom prst="wedgeRoundRectCallout">
            <a:avLst>
              <a:gd name="adj1" fmla="val -43500"/>
              <a:gd name="adj2" fmla="val 61199"/>
              <a:gd name="adj3" fmla="val 16667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是要下雨了，我们正忙着搬东西呢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91916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3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蚂蚁是往哪个方向搬呢？为什么这样做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255888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4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蚂蚁的话使小白兔更加相信要下雨了，它是怎么做的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91440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1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小白兔一边跑一边喊，喊什么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09680" y="2743200"/>
            <a:ext cx="3353040" cy="1219320"/>
          </a:xfrm>
          <a:prstGeom prst="wedgeRoundRectCallout">
            <a:avLst>
              <a:gd name="adj1" fmla="val 45263"/>
              <a:gd name="adj2" fmla="val 82814"/>
              <a:gd name="adj3" fmla="val 16667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妈妈，妈妈，要下雨了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6765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结果，真的下雨了吗？雨下得怎样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41911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3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练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3880" y="480060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课本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P85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页第3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541008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课本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P85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页第4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3399ff"/>
            </a:gs>
            <a:gs pos="100000">
              <a:srgbClr val="66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62120" y="6858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3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、组成句子写下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13860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94739"/>
                </a:solidFill>
                <a:latin typeface="Times New Roman"/>
                <a:ea typeface="华文新魏"/>
              </a:rPr>
              <a:t>说话        蚂蚁        正在        小白兔        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2209680"/>
            <a:ext cx="4495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9966"/>
                </a:solidFill>
                <a:uFillTx/>
                <a:latin typeface="Times New Roman"/>
                <a:ea typeface="楷体_GB2312"/>
              </a:rPr>
              <a:t>小白兔正在跟蚂蚁说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90920" y="312408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9966"/>
                </a:solidFill>
                <a:uFillTx/>
                <a:latin typeface="宋体"/>
                <a:ea typeface="楷体_GB2312"/>
              </a:rPr>
              <a:t>蚂蚁正在跟小白兔说话</a:t>
            </a:r>
            <a:r>
              <a:rPr b="0" lang="zh-CN" sz="3200" spc="-1" strike="noStrike">
                <a:solidFill>
                  <a:srgbClr val="ff9966"/>
                </a:solidFill>
                <a:latin typeface="Times New Roman"/>
                <a:ea typeface="楷体_GB2312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396252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94739"/>
                </a:solidFill>
                <a:latin typeface="Times New Roman"/>
                <a:ea typeface="华文新魏"/>
              </a:rPr>
              <a:t>妈妈        要        了        我        下雨        告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46782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9966"/>
                </a:solidFill>
                <a:uFillTx/>
                <a:latin typeface="楷体_GB2312"/>
                <a:ea typeface="楷体_GB2312"/>
              </a:rPr>
              <a:t>我告诉妈妈要下雨了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1" action="ppaction://hlinksldjump"/>
          </p:cNvPr>
          <p:cNvSpPr/>
          <p:nvPr/>
        </p:nvSpPr>
        <p:spPr>
          <a:xfrm>
            <a:off x="7391520" y="54100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5453" y="7493"/>
                </a:moveTo>
                <a:lnTo>
                  <a:pt x="8961" y="7493"/>
                </a:lnTo>
                <a:lnTo>
                  <a:pt x="8961" y="12828"/>
                </a:lnTo>
                <a:cubicBezTo>
                  <a:pt x="8961" y="13751"/>
                  <a:pt x="9761" y="14482"/>
                  <a:pt x="10797" y="14482"/>
                </a:cubicBezTo>
                <a:lnTo>
                  <a:pt x="12459" y="14482"/>
                </a:lnTo>
                <a:cubicBezTo>
                  <a:pt x="13495" y="14482"/>
                  <a:pt x="14296" y="13751"/>
                  <a:pt x="14296" y="12828"/>
                </a:cubicBezTo>
                <a:lnTo>
                  <a:pt x="14296" y="7493"/>
                </a:lnTo>
                <a:lnTo>
                  <a:pt x="12459" y="7493"/>
                </a:lnTo>
                <a:lnTo>
                  <a:pt x="15967" y="3985"/>
                </a:lnTo>
                <a:lnTo>
                  <a:pt x="19640" y="7493"/>
                </a:lnTo>
                <a:lnTo>
                  <a:pt x="17804" y="7493"/>
                </a:lnTo>
                <a:lnTo>
                  <a:pt x="17804" y="12828"/>
                </a:lnTo>
                <a:cubicBezTo>
                  <a:pt x="17804" y="15596"/>
                  <a:pt x="15227" y="18155"/>
                  <a:pt x="12459" y="18155"/>
                </a:cubicBezTo>
                <a:lnTo>
                  <a:pt x="10797" y="18155"/>
                </a:lnTo>
                <a:cubicBezTo>
                  <a:pt x="8029" y="18155"/>
                  <a:pt x="5453" y="15596"/>
                  <a:pt x="5453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66ff33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71600" y="9907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4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、读句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76520" y="220968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66"/>
                </a:solidFill>
                <a:latin typeface="Times New Roman"/>
                <a:ea typeface="楷体_GB2312"/>
              </a:rPr>
              <a:t>小白兔割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76520" y="34290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66"/>
                </a:solidFill>
                <a:latin typeface="Times New Roman"/>
                <a:ea typeface="楷体_GB2312"/>
              </a:rPr>
              <a:t>小白兔在山坡上割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44956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66"/>
                </a:solidFill>
                <a:latin typeface="Times New Roman"/>
                <a:ea typeface="楷体_GB2312"/>
              </a:rPr>
              <a:t>小白兔弯着腰在山坡上割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7391520" y="54100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5453" y="7493"/>
                </a:moveTo>
                <a:lnTo>
                  <a:pt x="8961" y="7493"/>
                </a:lnTo>
                <a:lnTo>
                  <a:pt x="8961" y="12828"/>
                </a:lnTo>
                <a:cubicBezTo>
                  <a:pt x="8961" y="13751"/>
                  <a:pt x="9761" y="14482"/>
                  <a:pt x="10797" y="14482"/>
                </a:cubicBezTo>
                <a:lnTo>
                  <a:pt x="12459" y="14482"/>
                </a:lnTo>
                <a:cubicBezTo>
                  <a:pt x="13495" y="14482"/>
                  <a:pt x="14296" y="13751"/>
                  <a:pt x="14296" y="12828"/>
                </a:cubicBezTo>
                <a:lnTo>
                  <a:pt x="14296" y="7493"/>
                </a:lnTo>
                <a:lnTo>
                  <a:pt x="12459" y="7493"/>
                </a:lnTo>
                <a:lnTo>
                  <a:pt x="15967" y="3985"/>
                </a:lnTo>
                <a:lnTo>
                  <a:pt x="19640" y="7493"/>
                </a:lnTo>
                <a:lnTo>
                  <a:pt x="17804" y="7493"/>
                </a:lnTo>
                <a:lnTo>
                  <a:pt x="17804" y="12828"/>
                </a:lnTo>
                <a:cubicBezTo>
                  <a:pt x="17804" y="15596"/>
                  <a:pt x="15227" y="18155"/>
                  <a:pt x="12459" y="18155"/>
                </a:cubicBezTo>
                <a:lnTo>
                  <a:pt x="10797" y="18155"/>
                </a:lnTo>
                <a:cubicBezTo>
                  <a:pt x="8029" y="18155"/>
                  <a:pt x="5453" y="15596"/>
                  <a:pt x="5453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95480" y="34290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94739"/>
                </a:solidFill>
                <a:latin typeface="Times New Roman"/>
                <a:ea typeface="楷体_GB2312"/>
              </a:rPr>
              <a:t>在山坡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17320" y="44956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94739"/>
                </a:solidFill>
                <a:latin typeface="Times New Roman"/>
                <a:ea typeface="楷体_GB2312"/>
              </a:rPr>
              <a:t>弯着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2T02:56:55Z</dcterms:created>
  <dc:creator>cfm</dc:creator>
  <dc:description/>
  <dc:language>en-US</dc:language>
  <cp:lastModifiedBy>cfm</cp:lastModifiedBy>
  <dcterms:modified xsi:type="dcterms:W3CDTF">2001-11-27T04:05:20Z</dcterms:modified>
  <cp:revision>9</cp:revision>
  <dc:subject/>
  <dc:title>PowerPoint 演示文稿</dc:title>
</cp:coreProperties>
</file>