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4F1-1176-449C-BF9F-C0ADE7EF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450-4A70-4B92-8F11-14FEA7D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587-1EC1-40DE-99FF-94A433B2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8FF-A975-4E36-A858-6D5E0FA9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F2C-7B38-4B09-AE6F-CD6CC48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927-DE25-41FA-87A4-FEF3D3A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422-0DC6-4140-B1C8-75AF128F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110-13AE-4388-BFA0-3E53958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85C-4E67-4930-B74B-29ED6AF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30A-DD06-4505-BAF7-46FE3B4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1D-C5BF-4738-AA50-AC8C675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93A-ED36-42DA-AE14-9EAC4F7F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35D-9932-47DD-BF89-C97E55A6FE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n6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by6" descr="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baby6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58760" y="1219320"/>
            <a:ext cx="921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《列子 汤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40880" y="42670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字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40880" y="47242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2字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40880" y="51814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3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0880" y="56386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4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40880" y="60199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5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87680" y="64594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乐羊子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440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4" name="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77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—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—远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5800" y="35272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—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08440" y="4518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—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un8" descr="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sun9" descr="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38560" y="1143000"/>
            <a:ext cx="36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832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1720" y="6019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47480" y="1600200"/>
            <a:ext cx="52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/>
          <p:nvPr/>
        </p:nvSpPr>
        <p:spPr>
          <a:xfrm>
            <a:off x="8558640" y="6172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后汉书》纪、传的作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8" name=""/>
          <p:cNvSpPr/>
          <p:nvPr/>
        </p:nvSpPr>
        <p:spPr>
          <a:xfrm>
            <a:off x="182484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01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……有什么不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L.X</cp:lastModifiedBy>
  <dcterms:modified xsi:type="dcterms:W3CDTF">2000-10-17T15:37:34Z</dcterms:modified>
  <cp:revision>12</cp:revision>
  <dc:subject/>
  <dc:title>PowerPoint 演示文稿</dc:title>
</cp:coreProperties>
</file>