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10.jpeg" ContentType="image/jpeg"/>
  <Override PartName="/ppt/media/image11.gif" ContentType="image/gif"/>
  <Override PartName="/ppt/media/image7.gif" ContentType="image/gif"/>
  <Override PartName="/ppt/media/image12.gif" ContentType="image/gi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AC9-BDB4-42D1-9BF2-BB483282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70E-BB68-41DD-B91F-BCDA10EA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6CD-2655-4535-879B-2B647CA9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3558-124F-4352-98F0-6BCFFCA2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D038-A7EC-4A0D-9C09-32A43E53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7B56-36F4-4A23-AA45-FDD49C73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D54-3D9A-49C2-86D1-D42A5E6F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6E2-AE90-4421-8F8B-5D82F184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0CB-76CD-4C36-B5F9-871C55CB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6D1D-231E-48E3-B70D-3AA15996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F61-B686-497A-BD89-6A2C6BE7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18EB-EAC4-4A3C-9D2B-3EF60E50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8F74-63B0-403E-A7E8-B05D866D98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4.xml"/><Relationship Id="rId5" Type="http://schemas.openxmlformats.org/officeDocument/2006/relationships/image" Target="../media/image4.gif"/><Relationship Id="rId6" Type="http://schemas.openxmlformats.org/officeDocument/2006/relationships/slide" Target="slide6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image" Target="../media/image3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080" descr=""/>
          <p:cNvPicPr/>
          <p:nvPr/>
        </p:nvPicPr>
        <p:blipFill>
          <a:blip r:embed="rId1"/>
          <a:stretch/>
        </p:blipFill>
        <p:spPr>
          <a:xfrm>
            <a:off x="609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47920" y="1143000"/>
            <a:ext cx="6629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海底世界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07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5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00200" y="762120"/>
            <a:ext cx="1371600" cy="1184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990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景色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奇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000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66680" y="1905120"/>
            <a:ext cx="175284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8120" y="24382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物产丰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oldfishCLR-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200400" y="3276720"/>
            <a:ext cx="1143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078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50" name="46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12571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61" descr=""/>
          <p:cNvPicPr/>
          <p:nvPr/>
        </p:nvPicPr>
        <p:blipFill>
          <a:blip r:embed="rId3"/>
          <a:stretch/>
        </p:blipFill>
        <p:spPr>
          <a:xfrm>
            <a:off x="4952880" y="4038480"/>
            <a:ext cx="1009800" cy="1047960"/>
          </a:xfrm>
          <a:prstGeom prst="rect">
            <a:avLst/>
          </a:prstGeom>
          <a:ln w="0">
            <a:noFill/>
          </a:ln>
        </p:spPr>
      </p:pic>
      <p:pic>
        <p:nvPicPr>
          <p:cNvPr id="52" name="46" descr=""/>
          <p:cNvPicPr/>
          <p:nvPr/>
        </p:nvPicPr>
        <p:blipFill>
          <a:blip r:embed="rId4"/>
          <a:stretch/>
        </p:blipFill>
        <p:spPr>
          <a:xfrm>
            <a:off x="7010280" y="4572000"/>
            <a:ext cx="1257480" cy="873000"/>
          </a:xfrm>
          <a:prstGeom prst="rect">
            <a:avLst/>
          </a:prstGeom>
          <a:ln w="0">
            <a:noFill/>
          </a:ln>
        </p:spPr>
      </p:pic>
      <p:pic>
        <p:nvPicPr>
          <p:cNvPr id="53" name="56" descr=""/>
          <p:cNvPicPr/>
          <p:nvPr/>
        </p:nvPicPr>
        <p:blipFill>
          <a:blip r:embed="rId5"/>
          <a:stretch/>
        </p:blipFill>
        <p:spPr>
          <a:xfrm>
            <a:off x="3124080" y="2743200"/>
            <a:ext cx="1570320" cy="1515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8305920" y="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08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95280" y="22096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海参、梭子鱼、乌贼、章鱼、贝类的活动方式各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1676520" y="457200"/>
            <a:ext cx="1218960" cy="1434960"/>
            <a:chOff x="1676520" y="457200"/>
            <a:chExt cx="1218960" cy="1434960"/>
          </a:xfrm>
        </p:grpSpPr>
        <p:pic>
          <p:nvPicPr>
            <p:cNvPr id="61" name="12" descr=""/>
            <p:cNvPicPr/>
            <p:nvPr/>
          </p:nvPicPr>
          <p:blipFill>
            <a:blip r:embed="rId2"/>
            <a:stretch/>
          </p:blipFill>
          <p:spPr>
            <a:xfrm>
              <a:off x="1676520" y="457200"/>
              <a:ext cx="9140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676520" y="137160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2480" y="13716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海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800600" y="685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伸缩爬行、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2096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游动、很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19320" y="2057400"/>
            <a:ext cx="5029200" cy="1206360"/>
            <a:chOff x="1219320" y="2057400"/>
            <a:chExt cx="5029200" cy="1206360"/>
          </a:xfrm>
        </p:grpSpPr>
        <p:sp>
          <p:nvSpPr>
            <p:cNvPr id="67" name=""/>
            <p:cNvSpPr/>
            <p:nvPr/>
          </p:nvSpPr>
          <p:spPr>
            <a:xfrm>
              <a:off x="2895480" y="2209680"/>
              <a:ext cx="3353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fish_clr-1" descr=""/>
            <p:cNvPicPr/>
            <p:nvPr/>
          </p:nvPicPr>
          <p:blipFill>
            <a:blip r:embed="rId3"/>
            <a:stretch/>
          </p:blipFill>
          <p:spPr>
            <a:xfrm>
              <a:off x="1219320" y="2057400"/>
              <a:ext cx="41148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752480" y="274320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梭子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600200" y="3200400"/>
            <a:ext cx="2209680" cy="1587240"/>
            <a:chOff x="1600200" y="3200400"/>
            <a:chExt cx="2209680" cy="1587240"/>
          </a:xfrm>
        </p:grpSpPr>
        <p:pic>
          <p:nvPicPr>
            <p:cNvPr id="71" name="8" descr=""/>
            <p:cNvPicPr/>
            <p:nvPr/>
          </p:nvPicPr>
          <p:blipFill>
            <a:blip r:embed="rId4"/>
            <a:stretch/>
          </p:blipFill>
          <p:spPr>
            <a:xfrm>
              <a:off x="1752480" y="3200400"/>
              <a:ext cx="175284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600200" y="42670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乌贼、章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952880" y="35812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向前喷水、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828800" y="4648320"/>
            <a:ext cx="2133720" cy="1434960"/>
            <a:chOff x="1828800" y="4648320"/>
            <a:chExt cx="2133720" cy="1434960"/>
          </a:xfrm>
        </p:grpSpPr>
        <p:pic>
          <p:nvPicPr>
            <p:cNvPr id="75" name="oyster" descr=""/>
            <p:cNvPicPr/>
            <p:nvPr/>
          </p:nvPicPr>
          <p:blipFill>
            <a:blip r:embed="rId5"/>
            <a:stretch/>
          </p:blipFill>
          <p:spPr>
            <a:xfrm>
              <a:off x="1828800" y="464832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905120" y="556272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贝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952880" y="49528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蠕动、很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6" action="ppaction://hlinksldjump"/>
          </p:cNvPr>
          <p:cNvSpPr/>
          <p:nvPr/>
        </p:nvSpPr>
        <p:spPr>
          <a:xfrm>
            <a:off x="8458200" y="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95280" y="21337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海底真是个景色奇异，物产丰富的世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3T07:36:29Z</dcterms:created>
  <dc:creator>llz</dc:creator>
  <dc:description/>
  <dc:language>en-US</dc:language>
  <cp:lastModifiedBy>llz</cp:lastModifiedBy>
  <dcterms:modified xsi:type="dcterms:W3CDTF">2002-01-30T14:13:19Z</dcterms:modified>
  <cp:revision>15</cp:revision>
  <dc:subject/>
  <dc:title>PowerPoint 演示文稿</dc:title>
</cp:coreProperties>
</file>