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12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5ED-6230-4CD3-964B-243301B7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1B5-79BC-4FC0-AC33-10E11A6C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312-9F76-4E9E-B884-884579CB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A1D-28B7-47FB-A704-0B5E18EA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434-3E87-466C-AAAC-95293312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7DC-CCD8-4BBC-AF54-D8B08004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B9B-825F-4A87-A768-17C4A7AC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947-DFB9-4767-8BEB-0832C1C7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534-B086-41D0-B159-19BACF71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50E-5694-486A-9979-04B1797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68B-2BDE-4F8D-BDAD-7435501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E8A-4800-474D-815E-A972180F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8463-BDEE-4A44-ACBC-E017D83DA9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6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80" descr=""/>
          <p:cNvPicPr/>
          <p:nvPr/>
        </p:nvPicPr>
        <p:blipFill>
          <a:blip r:embed="rId1"/>
          <a:stretch/>
        </p:blipFill>
        <p:spPr>
          <a:xfrm>
            <a:off x="609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海底世界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5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7621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990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景色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奇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0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1905120"/>
            <a:ext cx="175284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物产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oldfishCLR-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32767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078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0" name="46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1257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61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100980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46" descr=""/>
          <p:cNvPicPr/>
          <p:nvPr/>
        </p:nvPicPr>
        <p:blipFill>
          <a:blip r:embed="rId4"/>
          <a:stretch/>
        </p:blipFill>
        <p:spPr>
          <a:xfrm>
            <a:off x="7010280" y="4572000"/>
            <a:ext cx="1257480" cy="873000"/>
          </a:xfrm>
          <a:prstGeom prst="rect">
            <a:avLst/>
          </a:prstGeom>
          <a:ln w="0">
            <a:noFill/>
          </a:ln>
        </p:spPr>
      </p:pic>
      <p:pic>
        <p:nvPicPr>
          <p:cNvPr id="53" name="56" descr=""/>
          <p:cNvPicPr/>
          <p:nvPr/>
        </p:nvPicPr>
        <p:blipFill>
          <a:blip r:embed="rId5"/>
          <a:stretch/>
        </p:blipFill>
        <p:spPr>
          <a:xfrm>
            <a:off x="3124080" y="2743200"/>
            <a:ext cx="1570320" cy="1515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305920" y="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2209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参、梭子鱼、乌贼、章鱼、贝类的活动方式各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76520" y="457200"/>
            <a:ext cx="1218960" cy="1434960"/>
            <a:chOff x="1676520" y="457200"/>
            <a:chExt cx="1218960" cy="1434960"/>
          </a:xfrm>
        </p:grpSpPr>
        <p:pic>
          <p:nvPicPr>
            <p:cNvPr id="61" name="12" descr=""/>
            <p:cNvPicPr/>
            <p:nvPr/>
          </p:nvPicPr>
          <p:blipFill>
            <a:blip r:embed="rId2"/>
            <a:stretch/>
          </p:blipFill>
          <p:spPr>
            <a:xfrm>
              <a:off x="1676520" y="457200"/>
              <a:ext cx="914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76520" y="137160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3716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海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060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伸缩爬行、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游动、很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2057400"/>
            <a:ext cx="5029200" cy="1206360"/>
            <a:chOff x="1219320" y="2057400"/>
            <a:chExt cx="5029200" cy="1206360"/>
          </a:xfrm>
        </p:grpSpPr>
        <p:sp>
          <p:nvSpPr>
            <p:cNvPr id="67" name=""/>
            <p:cNvSpPr/>
            <p:nvPr/>
          </p:nvSpPr>
          <p:spPr>
            <a:xfrm>
              <a:off x="2895480" y="2209680"/>
              <a:ext cx="335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fish_clr-1" descr=""/>
            <p:cNvPicPr/>
            <p:nvPr/>
          </p:nvPicPr>
          <p:blipFill>
            <a:blip r:embed="rId3"/>
            <a:stretch/>
          </p:blipFill>
          <p:spPr>
            <a:xfrm>
              <a:off x="1219320" y="2057400"/>
              <a:ext cx="4114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7432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梭子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00200" y="3200400"/>
            <a:ext cx="2209680" cy="1587240"/>
            <a:chOff x="1600200" y="3200400"/>
            <a:chExt cx="2209680" cy="1587240"/>
          </a:xfrm>
        </p:grpSpPr>
        <p:pic>
          <p:nvPicPr>
            <p:cNvPr id="71" name="8" descr=""/>
            <p:cNvPicPr/>
            <p:nvPr/>
          </p:nvPicPr>
          <p:blipFill>
            <a:blip r:embed="rId4"/>
            <a:stretch/>
          </p:blipFill>
          <p:spPr>
            <a:xfrm>
              <a:off x="1752480" y="3200400"/>
              <a:ext cx="1752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42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乌贼、章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952880" y="3581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向前喷水、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828800" y="4648320"/>
            <a:ext cx="2133720" cy="1434960"/>
            <a:chOff x="1828800" y="4648320"/>
            <a:chExt cx="2133720" cy="1434960"/>
          </a:xfrm>
        </p:grpSpPr>
        <p:pic>
          <p:nvPicPr>
            <p:cNvPr id="75" name="oyster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5120" y="5562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贝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528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蠕动、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8458200" y="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底真是个景色奇异，物产丰富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07:36:29Z</dcterms:created>
  <dc:creator>llz</dc:creator>
  <dc:description/>
  <dc:language>en-US</dc:language>
  <cp:lastModifiedBy>llz</cp:lastModifiedBy>
  <dcterms:modified xsi:type="dcterms:W3CDTF">2002-01-30T14:13:19Z</dcterms:modified>
  <cp:revision>15</cp:revision>
  <dc:subject/>
  <dc:title>PowerPoint 演示文稿</dc:title>
</cp:coreProperties>
</file>