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12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7E2-4AAF-4448-9317-93DCDD14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27B-9AC7-4F8A-92C3-EBB28A46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22E-8E3C-4FFA-9CFE-2FF9B560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056-BB58-49EC-A1BD-8AD186A1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EB2-A87D-4331-8828-97342DC1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D5A-E290-4302-89CB-5DF6AAD6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991-53BA-405E-AF27-96CEB188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F61-4995-4104-85B1-0E5DA4D5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A44-1349-4215-A254-1B88CF33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9DA-D8E9-4744-AE82-7E292CC7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1B42-F4C9-4BB2-A02D-161D85D9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910D-39B3-417F-9F50-141A671A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846A-84D2-4E3E-A248-82EBA11DFF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4.xml"/><Relationship Id="rId5" Type="http://schemas.openxmlformats.org/officeDocument/2006/relationships/image" Target="../media/image4.gif"/><Relationship Id="rId6" Type="http://schemas.openxmlformats.org/officeDocument/2006/relationships/slide" Target="slide6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3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080" descr=""/>
          <p:cNvPicPr/>
          <p:nvPr/>
        </p:nvPicPr>
        <p:blipFill>
          <a:blip r:embed="rId1"/>
          <a:stretch/>
        </p:blipFill>
        <p:spPr>
          <a:xfrm>
            <a:off x="609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114300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海底世界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0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5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762120"/>
            <a:ext cx="1371600" cy="118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990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景色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奇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00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66680" y="1905120"/>
            <a:ext cx="175284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8120" y="2438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物产丰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oldfishCLR-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0400" y="3276720"/>
            <a:ext cx="1143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078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50" name="46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1257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61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100980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46" descr=""/>
          <p:cNvPicPr/>
          <p:nvPr/>
        </p:nvPicPr>
        <p:blipFill>
          <a:blip r:embed="rId4"/>
          <a:stretch/>
        </p:blipFill>
        <p:spPr>
          <a:xfrm>
            <a:off x="7010280" y="4572000"/>
            <a:ext cx="1257480" cy="873000"/>
          </a:xfrm>
          <a:prstGeom prst="rect">
            <a:avLst/>
          </a:prstGeom>
          <a:ln w="0">
            <a:noFill/>
          </a:ln>
        </p:spPr>
      </p:pic>
      <p:pic>
        <p:nvPicPr>
          <p:cNvPr id="53" name="56" descr=""/>
          <p:cNvPicPr/>
          <p:nvPr/>
        </p:nvPicPr>
        <p:blipFill>
          <a:blip r:embed="rId5"/>
          <a:stretch/>
        </p:blipFill>
        <p:spPr>
          <a:xfrm>
            <a:off x="3124080" y="2743200"/>
            <a:ext cx="1570320" cy="1515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8305920" y="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22096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参、梭子鱼、乌贼、章鱼、贝类的活动方式各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1676520" y="457200"/>
            <a:ext cx="1218960" cy="1434960"/>
            <a:chOff x="1676520" y="457200"/>
            <a:chExt cx="1218960" cy="1434960"/>
          </a:xfrm>
        </p:grpSpPr>
        <p:pic>
          <p:nvPicPr>
            <p:cNvPr id="61" name="12" descr=""/>
            <p:cNvPicPr/>
            <p:nvPr/>
          </p:nvPicPr>
          <p:blipFill>
            <a:blip r:embed="rId2"/>
            <a:stretch/>
          </p:blipFill>
          <p:spPr>
            <a:xfrm>
              <a:off x="1676520" y="457200"/>
              <a:ext cx="9140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676520" y="137160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13716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海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800600" y="685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伸缩爬行、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2096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游动、很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19320" y="2057400"/>
            <a:ext cx="5029200" cy="1206360"/>
            <a:chOff x="1219320" y="2057400"/>
            <a:chExt cx="5029200" cy="1206360"/>
          </a:xfrm>
        </p:grpSpPr>
        <p:sp>
          <p:nvSpPr>
            <p:cNvPr id="67" name=""/>
            <p:cNvSpPr/>
            <p:nvPr/>
          </p:nvSpPr>
          <p:spPr>
            <a:xfrm>
              <a:off x="2895480" y="2209680"/>
              <a:ext cx="335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fish_clr-1" descr=""/>
            <p:cNvPicPr/>
            <p:nvPr/>
          </p:nvPicPr>
          <p:blipFill>
            <a:blip r:embed="rId3"/>
            <a:stretch/>
          </p:blipFill>
          <p:spPr>
            <a:xfrm>
              <a:off x="1219320" y="2057400"/>
              <a:ext cx="41148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752480" y="27432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梭子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600200" y="3200400"/>
            <a:ext cx="2209680" cy="1587240"/>
            <a:chOff x="1600200" y="3200400"/>
            <a:chExt cx="2209680" cy="1587240"/>
          </a:xfrm>
        </p:grpSpPr>
        <p:pic>
          <p:nvPicPr>
            <p:cNvPr id="71" name="8" descr=""/>
            <p:cNvPicPr/>
            <p:nvPr/>
          </p:nvPicPr>
          <p:blipFill>
            <a:blip r:embed="rId4"/>
            <a:stretch/>
          </p:blipFill>
          <p:spPr>
            <a:xfrm>
              <a:off x="1752480" y="3200400"/>
              <a:ext cx="17528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00200" y="42670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乌贼、章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952880" y="3581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向前喷水、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828800" y="4648320"/>
            <a:ext cx="2133720" cy="1434960"/>
            <a:chOff x="1828800" y="4648320"/>
            <a:chExt cx="2133720" cy="1434960"/>
          </a:xfrm>
        </p:grpSpPr>
        <p:pic>
          <p:nvPicPr>
            <p:cNvPr id="75" name="oyster" descr=""/>
            <p:cNvPicPr/>
            <p:nvPr/>
          </p:nvPicPr>
          <p:blipFill>
            <a:blip r:embed="rId5"/>
            <a:stretch/>
          </p:blipFill>
          <p:spPr>
            <a:xfrm>
              <a:off x="1828800" y="464832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905120" y="556272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贝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952880" y="4952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蠕动、很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8458200" y="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95280" y="2133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底真是个景色奇异，物产丰富的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07:36:29Z</dcterms:created>
  <dc:creator>llz</dc:creator>
  <dc:description/>
  <dc:language>en-US</dc:language>
  <cp:lastModifiedBy>llz</cp:lastModifiedBy>
  <dcterms:modified xsi:type="dcterms:W3CDTF">2002-01-30T14:13:19Z</dcterms:modified>
  <cp:revision>15</cp:revision>
  <dc:subject/>
  <dc:title>PowerPoint 演示文稿</dc:title>
</cp:coreProperties>
</file>