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97C9-5E49-41FA-BF6A-1A28127E4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AF7F-940C-4E92-AA77-B7CF7975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F13-5E6C-4634-A564-EFE6629C7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D2F1-EABA-4C31-ABD5-35019A36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8505-6666-4BF4-977E-0318F6B4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87D-6D3D-4980-8034-DCD3876B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F1BE-7D96-4099-8597-7066DE1F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67BB-25E8-46F7-A1B7-205954906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5EBD-8994-4A39-94B3-E357FF5F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DBF-1AB3-4600-9EED-58228DFB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4EE4-A2AE-4F0C-BD0A-B8C93223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C5B-168A-44ED-AE74-847E5DF5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8A1C-0619-4BDA-992A-026E18A64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image" Target="../media/image6.pn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10.wmf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image" Target="../media/image8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8.png"/><Relationship Id="rId28" Type="http://schemas.openxmlformats.org/officeDocument/2006/relationships/image" Target="../media/image8.png"/><Relationship Id="rId29" Type="http://schemas.openxmlformats.org/officeDocument/2006/relationships/image" Target="../media/image8.png"/><Relationship Id="rId30" Type="http://schemas.openxmlformats.org/officeDocument/2006/relationships/image" Target="../media/image8.png"/><Relationship Id="rId31" Type="http://schemas.openxmlformats.org/officeDocument/2006/relationships/image" Target="../media/image8.png"/><Relationship Id="rId32" Type="http://schemas.openxmlformats.org/officeDocument/2006/relationships/image" Target="../media/image8.png"/><Relationship Id="rId33" Type="http://schemas.openxmlformats.org/officeDocument/2006/relationships/image" Target="../media/image2.png"/><Relationship Id="rId3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16440" y="53352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求一个数比另一个数多几的应用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65760" y="6278400"/>
            <a:ext cx="496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九 年 义 务 教 育 小 学 六 年 制 第 二 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354320" y="533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66ff"/>
                </a:solidFill>
                <a:latin typeface="Times New Roman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356120" y="1646280"/>
            <a:ext cx="587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红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小明有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本书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60336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69680" y="3808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cc"/>
                </a:solidFill>
                <a:latin typeface="Times New Roman"/>
              </a:rPr>
              <a:t>口算练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54600" y="19018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45240" y="281952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0-2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62160" y="3809880"/>
            <a:ext cx="17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71280" y="19051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 9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67880" y="2819520"/>
            <a:ext cx="178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9-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75240" y="3733920"/>
            <a:ext cx="151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+6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893200" y="1981080"/>
            <a:ext cx="16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30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57280" y="2819520"/>
            <a:ext cx="152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4- 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960" y="373392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0 +4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880" y="1828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880" y="28195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88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920" y="19051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169960" y="28195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92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6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15200" y="190512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2819520"/>
            <a:ext cx="78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48400" y="3657600"/>
            <a:ext cx="78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289080" y="1828800"/>
            <a:ext cx="2868480" cy="457200"/>
            <a:chOff x="289080" y="1828800"/>
            <a:chExt cx="2868480" cy="457200"/>
          </a:xfrm>
        </p:grpSpPr>
        <p:sp>
          <p:nvSpPr>
            <p:cNvPr id="65" name=""/>
            <p:cNvSpPr/>
            <p:nvPr/>
          </p:nvSpPr>
          <p:spPr>
            <a:xfrm>
              <a:off x="2890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0666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909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4403880" y="1828800"/>
            <a:ext cx="4392360" cy="457200"/>
            <a:chOff x="4403880" y="1828800"/>
            <a:chExt cx="4392360" cy="457200"/>
          </a:xfrm>
        </p:grpSpPr>
        <p:sp>
          <p:nvSpPr>
            <p:cNvPr id="70" name=""/>
            <p:cNvSpPr/>
            <p:nvPr/>
          </p:nvSpPr>
          <p:spPr>
            <a:xfrm>
              <a:off x="440388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81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70572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467480" y="182880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229600" y="18288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0" y="0"/>
            <a:ext cx="1905120" cy="685800"/>
          </a:xfrm>
          <a:custGeom>
            <a:avLst/>
            <a:gdLst>
              <a:gd name="textAreaLeft" fmla="*/ 0 w 1905120"/>
              <a:gd name="textAreaRight" fmla="*/ 1905480 w 19051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Times New Roman"/>
              </a:rPr>
              <a:t>比一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286000"/>
            <a:ext cx="457200" cy="1295280"/>
            <a:chOff x="304920" y="2286000"/>
            <a:chExt cx="457200" cy="1295280"/>
          </a:xfrm>
        </p:grpSpPr>
        <p:sp>
          <p:nvSpPr>
            <p:cNvPr id="79" name=""/>
            <p:cNvSpPr/>
            <p:nvPr/>
          </p:nvSpPr>
          <p:spPr>
            <a:xfrm>
              <a:off x="304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352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066680" y="2362320"/>
            <a:ext cx="457200" cy="1218960"/>
            <a:chOff x="1066680" y="2362320"/>
            <a:chExt cx="457200" cy="1218960"/>
          </a:xfrm>
        </p:grpSpPr>
        <p:sp>
          <p:nvSpPr>
            <p:cNvPr id="82" name=""/>
            <p:cNvSpPr/>
            <p:nvPr/>
          </p:nvSpPr>
          <p:spPr>
            <a:xfrm>
              <a:off x="1066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37160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905120" y="2362320"/>
            <a:ext cx="457200" cy="1218960"/>
            <a:chOff x="1905120" y="2362320"/>
            <a:chExt cx="457200" cy="1218960"/>
          </a:xfrm>
        </p:grpSpPr>
        <p:sp>
          <p:nvSpPr>
            <p:cNvPr id="85" name=""/>
            <p:cNvSpPr/>
            <p:nvPr/>
          </p:nvSpPr>
          <p:spPr>
            <a:xfrm>
              <a:off x="19051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1337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666880" y="2362320"/>
            <a:ext cx="457200" cy="1218960"/>
            <a:chOff x="2666880" y="2362320"/>
            <a:chExt cx="457200" cy="1218960"/>
          </a:xfrm>
        </p:grpSpPr>
        <p:sp>
          <p:nvSpPr>
            <p:cNvPr id="88" name=""/>
            <p:cNvSpPr/>
            <p:nvPr/>
          </p:nvSpPr>
          <p:spPr>
            <a:xfrm>
              <a:off x="26668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954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419720" y="2362320"/>
            <a:ext cx="457200" cy="1218960"/>
            <a:chOff x="4419720" y="2362320"/>
            <a:chExt cx="457200" cy="1218960"/>
          </a:xfrm>
        </p:grpSpPr>
        <p:sp>
          <p:nvSpPr>
            <p:cNvPr id="91" name=""/>
            <p:cNvSpPr/>
            <p:nvPr/>
          </p:nvSpPr>
          <p:spPr>
            <a:xfrm>
              <a:off x="44197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181480" y="2362320"/>
            <a:ext cx="457200" cy="1218960"/>
            <a:chOff x="5181480" y="2362320"/>
            <a:chExt cx="457200" cy="1218960"/>
          </a:xfrm>
        </p:grpSpPr>
        <p:sp>
          <p:nvSpPr>
            <p:cNvPr id="94" name=""/>
            <p:cNvSpPr/>
            <p:nvPr/>
          </p:nvSpPr>
          <p:spPr>
            <a:xfrm>
              <a:off x="51814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1008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6019920" y="2362320"/>
            <a:ext cx="457200" cy="1218960"/>
            <a:chOff x="6019920" y="2362320"/>
            <a:chExt cx="457200" cy="1218960"/>
          </a:xfrm>
        </p:grpSpPr>
        <p:sp>
          <p:nvSpPr>
            <p:cNvPr id="97" name=""/>
            <p:cNvSpPr/>
            <p:nvPr/>
          </p:nvSpPr>
          <p:spPr>
            <a:xfrm>
              <a:off x="601992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48520" y="236232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781680" y="2286000"/>
            <a:ext cx="457200" cy="1295280"/>
            <a:chOff x="6781680" y="2286000"/>
            <a:chExt cx="457200" cy="1295280"/>
          </a:xfrm>
        </p:grpSpPr>
        <p:sp>
          <p:nvSpPr>
            <p:cNvPr id="100" name=""/>
            <p:cNvSpPr/>
            <p:nvPr/>
          </p:nvSpPr>
          <p:spPr>
            <a:xfrm>
              <a:off x="6781680" y="312408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10280" y="2286000"/>
              <a:ext cx="0" cy="83808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609480" y="4952880"/>
            <a:ext cx="3276720" cy="703440"/>
            <a:chOff x="609480" y="4952880"/>
            <a:chExt cx="3276720" cy="703440"/>
          </a:xfrm>
        </p:grpSpPr>
        <p:sp>
          <p:nvSpPr>
            <p:cNvPr id="103" name=""/>
            <p:cNvSpPr/>
            <p:nvPr/>
          </p:nvSpPr>
          <p:spPr>
            <a:xfrm>
              <a:off x="609480" y="5105520"/>
              <a:ext cx="56700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05120" y="510552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19320" y="4952880"/>
              <a:ext cx="691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和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362320" y="5562720"/>
              <a:ext cx="1523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646360" y="49370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同样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648320" y="4876920"/>
            <a:ext cx="4495680" cy="703440"/>
            <a:chOff x="4648320" y="4876920"/>
            <a:chExt cx="4495680" cy="703440"/>
          </a:xfrm>
        </p:grpSpPr>
        <p:sp>
          <p:nvSpPr>
            <p:cNvPr id="109" name=""/>
            <p:cNvSpPr/>
            <p:nvPr/>
          </p:nvSpPr>
          <p:spPr>
            <a:xfrm>
              <a:off x="4648320" y="5029200"/>
              <a:ext cx="566640" cy="4572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43600" y="5029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7800" y="4876920"/>
              <a:ext cx="692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比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48520" y="4876920"/>
              <a:ext cx="2895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多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(      )</a:t>
              </a:r>
              <a:r>
                <a:rPr b="0" lang="zh-CN" sz="4000" spc="-1" strike="noStrike">
                  <a:solidFill>
                    <a:srgbClr val="000000"/>
                  </a:solidFill>
                  <a:latin typeface="Times New Roman"/>
                </a:rPr>
                <a:t>个 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959880" y="4800600"/>
            <a:ext cx="104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895480" y="4648320"/>
            <a:ext cx="1043280" cy="1058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62920" y="4572000"/>
            <a:ext cx="1042920" cy="10587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1523880"/>
            <a:ext cx="335268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1066680" cy="762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8600" y="2590920"/>
            <a:ext cx="685800" cy="1447560"/>
            <a:chOff x="228600" y="2590920"/>
            <a:chExt cx="685800" cy="1447560"/>
          </a:xfrm>
        </p:grpSpPr>
        <p:sp>
          <p:nvSpPr>
            <p:cNvPr id="123" name=""/>
            <p:cNvSpPr/>
            <p:nvPr/>
          </p:nvSpPr>
          <p:spPr>
            <a:xfrm>
              <a:off x="2286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096920" y="2590920"/>
            <a:ext cx="685800" cy="1447560"/>
            <a:chOff x="1096920" y="2590920"/>
            <a:chExt cx="685800" cy="1447560"/>
          </a:xfrm>
        </p:grpSpPr>
        <p:sp>
          <p:nvSpPr>
            <p:cNvPr id="126" name=""/>
            <p:cNvSpPr/>
            <p:nvPr/>
          </p:nvSpPr>
          <p:spPr>
            <a:xfrm>
              <a:off x="109692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7780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1965240" y="2590920"/>
            <a:ext cx="685800" cy="1447560"/>
            <a:chOff x="1965240" y="2590920"/>
            <a:chExt cx="685800" cy="1447560"/>
          </a:xfrm>
        </p:grpSpPr>
        <p:sp>
          <p:nvSpPr>
            <p:cNvPr id="129" name=""/>
            <p:cNvSpPr/>
            <p:nvPr/>
          </p:nvSpPr>
          <p:spPr>
            <a:xfrm>
              <a:off x="196524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4612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833560" y="2590920"/>
            <a:ext cx="685800" cy="1447560"/>
            <a:chOff x="2833560" y="2590920"/>
            <a:chExt cx="685800" cy="1447560"/>
          </a:xfrm>
        </p:grpSpPr>
        <p:sp>
          <p:nvSpPr>
            <p:cNvPr id="132" name=""/>
            <p:cNvSpPr/>
            <p:nvPr/>
          </p:nvSpPr>
          <p:spPr>
            <a:xfrm>
              <a:off x="283356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1444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701880" y="2590920"/>
            <a:ext cx="685800" cy="1447560"/>
            <a:chOff x="3701880" y="2590920"/>
            <a:chExt cx="685800" cy="1447560"/>
          </a:xfrm>
        </p:grpSpPr>
        <p:sp>
          <p:nvSpPr>
            <p:cNvPr id="135" name=""/>
            <p:cNvSpPr/>
            <p:nvPr/>
          </p:nvSpPr>
          <p:spPr>
            <a:xfrm>
              <a:off x="370188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8276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572000" y="2590920"/>
            <a:ext cx="685800" cy="1447560"/>
            <a:chOff x="4572000" y="2590920"/>
            <a:chExt cx="685800" cy="1447560"/>
          </a:xfrm>
        </p:grpSpPr>
        <p:sp>
          <p:nvSpPr>
            <p:cNvPr id="138" name=""/>
            <p:cNvSpPr/>
            <p:nvPr/>
          </p:nvSpPr>
          <p:spPr>
            <a:xfrm>
              <a:off x="4572000" y="335268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952880" y="2590920"/>
              <a:ext cx="0" cy="685800"/>
            </a:xfrm>
            <a:prstGeom prst="line">
              <a:avLst/>
            </a:prstGeom>
            <a:ln cap="rnd" w="7632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514600" y="4876920"/>
            <a:ext cx="4991400" cy="685800"/>
            <a:chOff x="2514600" y="4876920"/>
            <a:chExt cx="4991400" cy="685800"/>
          </a:xfrm>
        </p:grpSpPr>
        <p:sp>
          <p:nvSpPr>
            <p:cNvPr id="141" name=""/>
            <p:cNvSpPr/>
            <p:nvPr/>
          </p:nvSpPr>
          <p:spPr>
            <a:xfrm>
              <a:off x="2514600" y="487692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38480" y="4876920"/>
              <a:ext cx="685800" cy="68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336120" y="4952880"/>
              <a:ext cx="416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684760" y="48150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1523880"/>
            <a:ext cx="510516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289080" y="1828800"/>
            <a:ext cx="8534160" cy="609480"/>
            <a:chOff x="289080" y="1828800"/>
            <a:chExt cx="8534160" cy="609480"/>
          </a:xfrm>
        </p:grpSpPr>
        <p:sp>
          <p:nvSpPr>
            <p:cNvPr id="149" name=""/>
            <p:cNvSpPr/>
            <p:nvPr/>
          </p:nvSpPr>
          <p:spPr>
            <a:xfrm>
              <a:off x="2890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606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318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90520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77676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48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132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288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4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137440" y="1828800"/>
              <a:ext cx="685800" cy="60948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 rot="5400000">
            <a:off x="2590560" y="-1219320"/>
            <a:ext cx="533160" cy="4953240"/>
          </a:xfrm>
          <a:custGeom>
            <a:avLst/>
            <a:gdLst>
              <a:gd name="textAreaLeft" fmla="*/ 340560 w 533160"/>
              <a:gd name="textAreaRight" fmla="*/ 533520 w 533160"/>
              <a:gd name="textAreaTop" fmla="*/ 128880 h 4953240"/>
              <a:gd name="textAreaBottom" fmla="*/ 4824360 h 4953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6858000" y="1218600"/>
            <a:ext cx="533160" cy="3276720"/>
          </a:xfrm>
          <a:custGeom>
            <a:avLst/>
            <a:gdLst>
              <a:gd name="textAreaLeft" fmla="*/ 340560 w 533160"/>
              <a:gd name="textAreaRight" fmla="*/ 533520 w 533160"/>
              <a:gd name="textAreaTop" fmla="*/ 63360 h 3276720"/>
              <a:gd name="textAreaBottom" fmla="*/ 321336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0"/>
                  <a:pt x="10800" y="1339"/>
                </a:cubicBezTo>
                <a:lnTo>
                  <a:pt x="10800" y="9136"/>
                </a:lnTo>
                <a:cubicBezTo>
                  <a:pt x="10800" y="9806"/>
                  <a:pt x="5400" y="10475"/>
                  <a:pt x="0" y="10475"/>
                </a:cubicBezTo>
                <a:cubicBezTo>
                  <a:pt x="5400" y="10475"/>
                  <a:pt x="10800" y="11145"/>
                  <a:pt x="10800" y="11814"/>
                </a:cubicBezTo>
                <a:lnTo>
                  <a:pt x="10800" y="20261"/>
                </a:lnTo>
                <a:cubicBezTo>
                  <a:pt x="10800" y="2093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610720" y="380880"/>
            <a:ext cx="1820520" cy="581400"/>
            <a:chOff x="2610720" y="380880"/>
            <a:chExt cx="1820520" cy="581400"/>
          </a:xfrm>
        </p:grpSpPr>
        <p:sp>
          <p:nvSpPr>
            <p:cNvPr id="162" name=""/>
            <p:cNvSpPr/>
            <p:nvPr/>
          </p:nvSpPr>
          <p:spPr>
            <a:xfrm>
              <a:off x="2610720" y="380880"/>
              <a:ext cx="182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跟    同样多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66880" y="4572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305760" y="3124080"/>
            <a:ext cx="1479240" cy="642600"/>
            <a:chOff x="6305760" y="3124080"/>
            <a:chExt cx="1479240" cy="642600"/>
          </a:xfrm>
        </p:grpSpPr>
        <p:sp>
          <p:nvSpPr>
            <p:cNvPr id="165" name=""/>
            <p:cNvSpPr/>
            <p:nvPr/>
          </p:nvSpPr>
          <p:spPr>
            <a:xfrm>
              <a:off x="6305760" y="3124080"/>
              <a:ext cx="1479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比    多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629400" y="3200400"/>
              <a:ext cx="457200" cy="4572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5410080" y="914400"/>
            <a:ext cx="0" cy="2514600"/>
          </a:xfrm>
          <a:prstGeom prst="line">
            <a:avLst/>
          </a:prstGeom>
          <a:ln w="9828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76520"/>
            <a:ext cx="45720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2895480"/>
            <a:ext cx="4572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蓝碗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蓝碗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蓝碗" descr=""/>
          <p:cNvPicPr/>
          <p:nvPr/>
        </p:nvPicPr>
        <p:blipFill>
          <a:blip r:embed="rId3"/>
          <a:stretch/>
        </p:blipFill>
        <p:spPr>
          <a:xfrm>
            <a:off x="2514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5" name="蓝碗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6" name="蓝碗" descr=""/>
          <p:cNvPicPr/>
          <p:nvPr/>
        </p:nvPicPr>
        <p:blipFill>
          <a:blip r:embed="rId5"/>
          <a:stretch/>
        </p:blipFill>
        <p:spPr>
          <a:xfrm>
            <a:off x="43434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蓝碗" descr=""/>
          <p:cNvPicPr/>
          <p:nvPr/>
        </p:nvPicPr>
        <p:blipFill>
          <a:blip r:embed="rId6"/>
          <a:stretch/>
        </p:blipFill>
        <p:spPr>
          <a:xfrm>
            <a:off x="52578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8" name="蓝碗" descr=""/>
          <p:cNvPicPr/>
          <p:nvPr/>
        </p:nvPicPr>
        <p:blipFill>
          <a:blip r:embed="rId7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黄碗" descr=""/>
          <p:cNvPicPr/>
          <p:nvPr/>
        </p:nvPicPr>
        <p:blipFill>
          <a:blip r:embed="rId8"/>
          <a:stretch/>
        </p:blipFill>
        <p:spPr>
          <a:xfrm>
            <a:off x="6858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黄碗" descr=""/>
          <p:cNvPicPr/>
          <p:nvPr/>
        </p:nvPicPr>
        <p:blipFill>
          <a:blip r:embed="rId9"/>
          <a:stretch/>
        </p:blipFill>
        <p:spPr>
          <a:xfrm>
            <a:off x="16002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1" name="黄碗" descr=""/>
          <p:cNvPicPr/>
          <p:nvPr/>
        </p:nvPicPr>
        <p:blipFill>
          <a:blip r:embed="rId10"/>
          <a:stretch/>
        </p:blipFill>
        <p:spPr>
          <a:xfrm>
            <a:off x="25146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2" name="黄碗" descr=""/>
          <p:cNvPicPr/>
          <p:nvPr/>
        </p:nvPicPr>
        <p:blipFill>
          <a:blip r:embed="rId11"/>
          <a:stretch/>
        </p:blipFill>
        <p:spPr>
          <a:xfrm>
            <a:off x="3429000" y="2971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83" name="黄碗" descr=""/>
          <p:cNvPicPr/>
          <p:nvPr/>
        </p:nvPicPr>
        <p:blipFill>
          <a:blip r:embed="rId12"/>
          <a:stretch/>
        </p:blipFill>
        <p:spPr>
          <a:xfrm>
            <a:off x="4419720" y="297180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257800" y="1676520"/>
            <a:ext cx="18288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1676520"/>
            <a:ext cx="2743200" cy="838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蓝碗" descr=""/>
          <p:cNvPicPr/>
          <p:nvPr/>
        </p:nvPicPr>
        <p:blipFill>
          <a:blip r:embed="rId14"/>
          <a:stretch/>
        </p:blipFill>
        <p:spPr>
          <a:xfrm>
            <a:off x="70866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0" name="蓝碗" descr=""/>
          <p:cNvPicPr/>
          <p:nvPr/>
        </p:nvPicPr>
        <p:blipFill>
          <a:blip r:embed="rId15"/>
          <a:stretch/>
        </p:blipFill>
        <p:spPr>
          <a:xfrm>
            <a:off x="6172200" y="1828800"/>
            <a:ext cx="914400" cy="609480"/>
          </a:xfrm>
          <a:prstGeom prst="rect">
            <a:avLst/>
          </a:prstGeom>
          <a:ln w="0">
            <a:noFill/>
          </a:ln>
        </p:spPr>
      </p:pic>
      <p:pic>
        <p:nvPicPr>
          <p:cNvPr id="191" name="蓝碗" descr=""/>
          <p:cNvPicPr/>
          <p:nvPr/>
        </p:nvPicPr>
        <p:blipFill>
          <a:blip r:embed="rId16"/>
          <a:stretch/>
        </p:blipFill>
        <p:spPr>
          <a:xfrm>
            <a:off x="8001000" y="182880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1676520" y="4572000"/>
            <a:ext cx="5069160" cy="609480"/>
            <a:chOff x="1676520" y="4572000"/>
            <a:chExt cx="5069160" cy="609480"/>
          </a:xfrm>
        </p:grpSpPr>
        <p:sp>
          <p:nvSpPr>
            <p:cNvPr id="193" name=""/>
            <p:cNvSpPr/>
            <p:nvPr/>
          </p:nvSpPr>
          <p:spPr>
            <a:xfrm>
              <a:off x="2680920" y="4572000"/>
              <a:ext cx="4064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比           多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(        )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4" name="蓝碗" descr=""/>
            <p:cNvPicPr/>
            <p:nvPr/>
          </p:nvPicPr>
          <p:blipFill>
            <a:blip r:embed="rId17"/>
            <a:stretch/>
          </p:blipFill>
          <p:spPr>
            <a:xfrm>
              <a:off x="167652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黄碗" descr=""/>
            <p:cNvPicPr/>
            <p:nvPr/>
          </p:nvPicPr>
          <p:blipFill>
            <a:blip r:embed="rId18"/>
            <a:stretch/>
          </p:blipFill>
          <p:spPr>
            <a:xfrm>
              <a:off x="3200400" y="4572000"/>
              <a:ext cx="914400" cy="6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"/>
          <p:cNvSpPr/>
          <p:nvPr/>
        </p:nvSpPr>
        <p:spPr>
          <a:xfrm>
            <a:off x="4922640" y="443376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0"/>
            <a:ext cx="2133720" cy="685800"/>
            <a:chOff x="0" y="0"/>
            <a:chExt cx="2133720" cy="685800"/>
          </a:xfrm>
        </p:grpSpPr>
        <p:sp>
          <p:nvSpPr>
            <p:cNvPr id="198" name=""/>
            <p:cNvSpPr/>
            <p:nvPr/>
          </p:nvSpPr>
          <p:spPr>
            <a:xfrm>
              <a:off x="0" y="0"/>
              <a:ext cx="2133720" cy="685800"/>
            </a:xfrm>
            <a:custGeom>
              <a:avLst/>
              <a:gdLst>
                <a:gd name="textAreaLeft" fmla="*/ 0 w 2133720"/>
                <a:gd name="textAreaRight" fmla="*/ 2134080 w 2133720"/>
                <a:gd name="textAreaTop" fmla="*/ 0 h 685800"/>
                <a:gd name="textAreaBottom" fmla="*/ 686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320" y="0"/>
                  </a:lnTo>
                  <a:lnTo>
                    <a:pt x="21600" y="10800"/>
                  </a:lnTo>
                  <a:lnTo>
                    <a:pt x="1432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cc00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20" y="50760"/>
              <a:ext cx="1285560" cy="581400"/>
            </a:xfrm>
            <a:prstGeom prst="rect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做 一 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47920" y="0"/>
              <a:ext cx="0" cy="6858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685800" y="2514600"/>
            <a:ext cx="4572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2057400" y="838080"/>
            <a:ext cx="5257800" cy="1828440"/>
            <a:chOff x="2057400" y="838080"/>
            <a:chExt cx="5257800" cy="1828440"/>
          </a:xfrm>
        </p:grpSpPr>
        <p:grpSp>
          <p:nvGrpSpPr>
            <p:cNvPr id="203" name=""/>
            <p:cNvGrpSpPr/>
            <p:nvPr/>
          </p:nvGrpSpPr>
          <p:grpSpPr>
            <a:xfrm>
              <a:off x="2057400" y="1828440"/>
              <a:ext cx="380880" cy="838080"/>
              <a:chOff x="2057400" y="1828440"/>
              <a:chExt cx="380880" cy="838080"/>
            </a:xfrm>
          </p:grpSpPr>
          <p:sp>
            <p:nvSpPr>
              <p:cNvPr id="204" name=""/>
              <p:cNvSpPr/>
              <p:nvPr/>
            </p:nvSpPr>
            <p:spPr>
              <a:xfrm>
                <a:off x="20574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2687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2514600" y="1828440"/>
              <a:ext cx="380880" cy="838080"/>
              <a:chOff x="2514600" y="1828440"/>
              <a:chExt cx="380880" cy="838080"/>
            </a:xfrm>
          </p:grpSpPr>
          <p:sp>
            <p:nvSpPr>
              <p:cNvPr id="207" name=""/>
              <p:cNvSpPr/>
              <p:nvPr/>
            </p:nvSpPr>
            <p:spPr>
              <a:xfrm>
                <a:off x="25146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7259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048120" y="1828440"/>
              <a:ext cx="380880" cy="838080"/>
              <a:chOff x="3048120" y="1828440"/>
              <a:chExt cx="380880" cy="838080"/>
            </a:xfrm>
          </p:grpSpPr>
          <p:sp>
            <p:nvSpPr>
              <p:cNvPr id="210" name=""/>
              <p:cNvSpPr/>
              <p:nvPr/>
            </p:nvSpPr>
            <p:spPr>
              <a:xfrm>
                <a:off x="304812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5944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3581280" y="1828440"/>
              <a:ext cx="381240" cy="838080"/>
              <a:chOff x="3581280" y="1828440"/>
              <a:chExt cx="381240" cy="838080"/>
            </a:xfrm>
          </p:grpSpPr>
          <p:sp>
            <p:nvSpPr>
              <p:cNvPr id="213" name=""/>
              <p:cNvSpPr/>
              <p:nvPr/>
            </p:nvSpPr>
            <p:spPr>
              <a:xfrm>
                <a:off x="3581280" y="2269440"/>
                <a:ext cx="38124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296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114800" y="1828440"/>
              <a:ext cx="380880" cy="838080"/>
              <a:chOff x="4114800" y="1828440"/>
              <a:chExt cx="380880" cy="838080"/>
            </a:xfrm>
          </p:grpSpPr>
          <p:sp>
            <p:nvSpPr>
              <p:cNvPr id="216" name=""/>
              <p:cNvSpPr/>
              <p:nvPr/>
            </p:nvSpPr>
            <p:spPr>
              <a:xfrm>
                <a:off x="41148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3261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4572000" y="1828440"/>
              <a:ext cx="380880" cy="838080"/>
              <a:chOff x="4572000" y="1828440"/>
              <a:chExt cx="380880" cy="838080"/>
            </a:xfrm>
          </p:grpSpPr>
          <p:sp>
            <p:nvSpPr>
              <p:cNvPr id="219" name=""/>
              <p:cNvSpPr/>
              <p:nvPr/>
            </p:nvSpPr>
            <p:spPr>
              <a:xfrm>
                <a:off x="4572000" y="2269440"/>
                <a:ext cx="380880" cy="397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783320" y="1828440"/>
                <a:ext cx="0" cy="397080"/>
              </a:xfrm>
              <a:prstGeom prst="line">
                <a:avLst/>
              </a:prstGeom>
              <a:ln cap="rnd" w="7632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21178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6020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628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719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561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540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799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9641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48320" y="1066680"/>
              <a:ext cx="38124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34320" y="1066680"/>
              <a:ext cx="380880" cy="35244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57800" y="838080"/>
              <a:ext cx="0" cy="1218960"/>
            </a:xfrm>
            <a:prstGeom prst="line">
              <a:avLst/>
            </a:prstGeom>
            <a:ln w="3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905120" y="3886200"/>
            <a:ext cx="5638320" cy="1752120"/>
            <a:chOff x="1905120" y="3886200"/>
            <a:chExt cx="5638320" cy="1752120"/>
          </a:xfrm>
        </p:grpSpPr>
        <p:grpSp>
          <p:nvGrpSpPr>
            <p:cNvPr id="233" name=""/>
            <p:cNvGrpSpPr/>
            <p:nvPr/>
          </p:nvGrpSpPr>
          <p:grpSpPr>
            <a:xfrm>
              <a:off x="1905120" y="4191120"/>
              <a:ext cx="5638320" cy="1447200"/>
              <a:chOff x="1905120" y="4191120"/>
              <a:chExt cx="5638320" cy="1447200"/>
            </a:xfrm>
          </p:grpSpPr>
          <p:pic>
            <p:nvPicPr>
              <p:cNvPr id="234" name="蓝碗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51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5" name="蓝碗" descr=""/>
              <p:cNvPicPr/>
              <p:nvPr/>
            </p:nvPicPr>
            <p:blipFill>
              <a:blip r:embed="rId2"/>
              <a:stretch/>
            </p:blipFill>
            <p:spPr>
              <a:xfrm>
                <a:off x="25315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6" name="蓝碗" descr=""/>
              <p:cNvPicPr/>
              <p:nvPr/>
            </p:nvPicPr>
            <p:blipFill>
              <a:blip r:embed="rId3"/>
              <a:stretch/>
            </p:blipFill>
            <p:spPr>
              <a:xfrm>
                <a:off x="315792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蓝碗" descr=""/>
              <p:cNvPicPr/>
              <p:nvPr/>
            </p:nvPicPr>
            <p:blipFill>
              <a:blip r:embed="rId4"/>
              <a:stretch/>
            </p:blipFill>
            <p:spPr>
              <a:xfrm>
                <a:off x="37846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蓝碗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108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黄碗" descr=""/>
              <p:cNvPicPr/>
              <p:nvPr/>
            </p:nvPicPr>
            <p:blipFill>
              <a:blip r:embed="rId6"/>
              <a:stretch/>
            </p:blipFill>
            <p:spPr>
              <a:xfrm>
                <a:off x="19051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黄碗" descr=""/>
              <p:cNvPicPr/>
              <p:nvPr/>
            </p:nvPicPr>
            <p:blipFill>
              <a:blip r:embed="rId7"/>
              <a:stretch/>
            </p:blipFill>
            <p:spPr>
              <a:xfrm>
                <a:off x="25315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黄碗" descr=""/>
              <p:cNvPicPr/>
              <p:nvPr/>
            </p:nvPicPr>
            <p:blipFill>
              <a:blip r:embed="rId8"/>
              <a:stretch/>
            </p:blipFill>
            <p:spPr>
              <a:xfrm>
                <a:off x="315792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黄碗" descr=""/>
              <p:cNvPicPr/>
              <p:nvPr/>
            </p:nvPicPr>
            <p:blipFill>
              <a:blip r:embed="rId9"/>
              <a:stretch/>
            </p:blipFill>
            <p:spPr>
              <a:xfrm>
                <a:off x="37846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黄碗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63280" y="513504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4" name="蓝碗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906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5" name="蓝碗" descr=""/>
              <p:cNvPicPr/>
              <p:nvPr/>
            </p:nvPicPr>
            <p:blipFill>
              <a:blip r:embed="rId12"/>
              <a:stretch/>
            </p:blipFill>
            <p:spPr>
              <a:xfrm>
                <a:off x="56642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蓝碗" descr=""/>
              <p:cNvPicPr/>
              <p:nvPr/>
            </p:nvPicPr>
            <p:blipFill>
              <a:blip r:embed="rId13"/>
              <a:stretch/>
            </p:blipFill>
            <p:spPr>
              <a:xfrm>
                <a:off x="6917040" y="4191120"/>
                <a:ext cx="626400" cy="503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7" name=""/>
            <p:cNvSpPr/>
            <p:nvPr/>
          </p:nvSpPr>
          <p:spPr>
            <a:xfrm>
              <a:off x="5410080" y="38862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ub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49" name="tuh" descr=""/>
          <p:cNvPicPr/>
          <p:nvPr/>
        </p:nvPicPr>
        <p:blipFill>
          <a:blip r:embed="rId2"/>
          <a:stretch/>
        </p:blipFill>
        <p:spPr>
          <a:xfrm>
            <a:off x="1295280" y="3962520"/>
            <a:ext cx="586080" cy="838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521440" y="380880"/>
            <a:ext cx="479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学校里养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白兔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只黑兔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66440" y="1219320"/>
            <a:ext cx="324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白兔比黑兔多几只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ub" descr=""/>
          <p:cNvPicPr/>
          <p:nvPr/>
        </p:nvPicPr>
        <p:blipFill>
          <a:blip r:embed="rId3"/>
          <a:stretch/>
        </p:blipFill>
        <p:spPr>
          <a:xfrm>
            <a:off x="19540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tub" descr=""/>
          <p:cNvPicPr/>
          <p:nvPr/>
        </p:nvPicPr>
        <p:blipFill>
          <a:blip r:embed="rId4"/>
          <a:stretch/>
        </p:blipFill>
        <p:spPr>
          <a:xfrm>
            <a:off x="253692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4" name="tub" descr=""/>
          <p:cNvPicPr/>
          <p:nvPr/>
        </p:nvPicPr>
        <p:blipFill>
          <a:blip r:embed="rId5"/>
          <a:stretch/>
        </p:blipFill>
        <p:spPr>
          <a:xfrm>
            <a:off x="311796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55" name="tub" descr=""/>
          <p:cNvPicPr/>
          <p:nvPr/>
        </p:nvPicPr>
        <p:blipFill>
          <a:blip r:embed="rId6"/>
          <a:stretch/>
        </p:blipFill>
        <p:spPr>
          <a:xfrm>
            <a:off x="370044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6" name="tub" descr=""/>
          <p:cNvPicPr/>
          <p:nvPr/>
        </p:nvPicPr>
        <p:blipFill>
          <a:blip r:embed="rId7"/>
          <a:stretch/>
        </p:blipFill>
        <p:spPr>
          <a:xfrm>
            <a:off x="428148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7" name="tub" descr=""/>
          <p:cNvPicPr/>
          <p:nvPr/>
        </p:nvPicPr>
        <p:blipFill>
          <a:blip r:embed="rId8"/>
          <a:stretch/>
        </p:blipFill>
        <p:spPr>
          <a:xfrm>
            <a:off x="48639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8" name="tub" descr=""/>
          <p:cNvPicPr/>
          <p:nvPr/>
        </p:nvPicPr>
        <p:blipFill>
          <a:blip r:embed="rId9"/>
          <a:stretch/>
        </p:blipFill>
        <p:spPr>
          <a:xfrm>
            <a:off x="54450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59" name="tub" descr=""/>
          <p:cNvPicPr/>
          <p:nvPr/>
        </p:nvPicPr>
        <p:blipFill>
          <a:blip r:embed="rId10"/>
          <a:stretch/>
        </p:blipFill>
        <p:spPr>
          <a:xfrm>
            <a:off x="602784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0" name="tub" descr=""/>
          <p:cNvPicPr/>
          <p:nvPr/>
        </p:nvPicPr>
        <p:blipFill>
          <a:blip r:embed="rId11"/>
          <a:stretch/>
        </p:blipFill>
        <p:spPr>
          <a:xfrm>
            <a:off x="6608880" y="2971800"/>
            <a:ext cx="587160" cy="838080"/>
          </a:xfrm>
          <a:prstGeom prst="rect">
            <a:avLst/>
          </a:prstGeom>
          <a:ln w="0">
            <a:noFill/>
          </a:ln>
        </p:spPr>
      </p:pic>
      <p:pic>
        <p:nvPicPr>
          <p:cNvPr id="261" name="tub" descr=""/>
          <p:cNvPicPr/>
          <p:nvPr/>
        </p:nvPicPr>
        <p:blipFill>
          <a:blip r:embed="rId12"/>
          <a:stretch/>
        </p:blipFill>
        <p:spPr>
          <a:xfrm>
            <a:off x="719136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2" name="tub" descr=""/>
          <p:cNvPicPr/>
          <p:nvPr/>
        </p:nvPicPr>
        <p:blipFill>
          <a:blip r:embed="rId13"/>
          <a:stretch/>
        </p:blipFill>
        <p:spPr>
          <a:xfrm>
            <a:off x="7772400" y="2971800"/>
            <a:ext cx="587520" cy="838080"/>
          </a:xfrm>
          <a:prstGeom prst="rect">
            <a:avLst/>
          </a:prstGeom>
          <a:ln w="0">
            <a:noFill/>
          </a:ln>
        </p:spPr>
      </p:pic>
      <p:pic>
        <p:nvPicPr>
          <p:cNvPr id="263" name="tuh" descr=""/>
          <p:cNvPicPr/>
          <p:nvPr/>
        </p:nvPicPr>
        <p:blipFill>
          <a:blip r:embed="rId14"/>
          <a:stretch/>
        </p:blipFill>
        <p:spPr>
          <a:xfrm>
            <a:off x="189216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4" name="tuh" descr=""/>
          <p:cNvPicPr/>
          <p:nvPr/>
        </p:nvPicPr>
        <p:blipFill>
          <a:blip r:embed="rId15"/>
          <a:stretch/>
        </p:blipFill>
        <p:spPr>
          <a:xfrm>
            <a:off x="2489040" y="3962520"/>
            <a:ext cx="586080" cy="838080"/>
          </a:xfrm>
          <a:prstGeom prst="rect">
            <a:avLst/>
          </a:prstGeom>
          <a:ln w="0">
            <a:noFill/>
          </a:ln>
        </p:spPr>
      </p:pic>
      <p:pic>
        <p:nvPicPr>
          <p:cNvPr id="265" name="tuh" descr=""/>
          <p:cNvPicPr/>
          <p:nvPr/>
        </p:nvPicPr>
        <p:blipFill>
          <a:blip r:embed="rId16"/>
          <a:stretch/>
        </p:blipFill>
        <p:spPr>
          <a:xfrm>
            <a:off x="308628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6" name="tuh" descr=""/>
          <p:cNvPicPr/>
          <p:nvPr/>
        </p:nvPicPr>
        <p:blipFill>
          <a:blip r:embed="rId17"/>
          <a:stretch/>
        </p:blipFill>
        <p:spPr>
          <a:xfrm>
            <a:off x="368316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7" name="tuh" descr=""/>
          <p:cNvPicPr/>
          <p:nvPr/>
        </p:nvPicPr>
        <p:blipFill>
          <a:blip r:embed="rId18"/>
          <a:stretch/>
        </p:blipFill>
        <p:spPr>
          <a:xfrm>
            <a:off x="4280040" y="3962520"/>
            <a:ext cx="585720" cy="838080"/>
          </a:xfrm>
          <a:prstGeom prst="rect">
            <a:avLst/>
          </a:prstGeom>
          <a:ln w="0">
            <a:noFill/>
          </a:ln>
        </p:spPr>
      </p:pic>
      <p:pic>
        <p:nvPicPr>
          <p:cNvPr id="268" name="tuh" descr=""/>
          <p:cNvPicPr/>
          <p:nvPr/>
        </p:nvPicPr>
        <p:blipFill>
          <a:blip r:embed="rId19"/>
          <a:stretch/>
        </p:blipFill>
        <p:spPr>
          <a:xfrm>
            <a:off x="4876920" y="3962520"/>
            <a:ext cx="585720" cy="838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90720" y="1905120"/>
            <a:ext cx="43434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24480" y="1066680"/>
            <a:ext cx="221004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259092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657600" y="1066680"/>
            <a:ext cx="2209680" cy="7632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4320" y="32004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白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3600" y="411480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黑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610160" y="-723960"/>
            <a:ext cx="457200" cy="6934320"/>
          </a:xfrm>
          <a:custGeom>
            <a:avLst/>
            <a:gdLst>
              <a:gd name="textAreaLeft" fmla="*/ 292320 w 457200"/>
              <a:gd name="textAreaRight" fmla="*/ 457560 w 457200"/>
              <a:gd name="textAreaTop" fmla="*/ 180720 h 6934320"/>
              <a:gd name="textAreaBottom" fmla="*/ 6753600 h 6934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826"/>
                </a:lnTo>
                <a:cubicBezTo>
                  <a:pt x="10800" y="9726"/>
                  <a:pt x="5400" y="10626"/>
                  <a:pt x="0" y="10626"/>
                </a:cubicBezTo>
                <a:cubicBezTo>
                  <a:pt x="5400" y="10626"/>
                  <a:pt x="10800" y="11526"/>
                  <a:pt x="10800" y="1242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 rot="16189200">
            <a:off x="3085560" y="3008880"/>
            <a:ext cx="457200" cy="4038840"/>
          </a:xfrm>
          <a:custGeom>
            <a:avLst/>
            <a:gdLst>
              <a:gd name="textAreaLeft" fmla="*/ 292320 w 457200"/>
              <a:gd name="textAreaRight" fmla="*/ 457560 w 457200"/>
              <a:gd name="textAreaTop" fmla="*/ 105120 h 4038840"/>
              <a:gd name="textAreaBottom" fmla="*/ 3933720 h 403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452840" y="2133720"/>
            <a:ext cx="9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29320" y="5181480"/>
            <a:ext cx="7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 rot="16189200">
            <a:off x="6705360" y="2590920"/>
            <a:ext cx="304920" cy="2895840"/>
          </a:xfrm>
          <a:custGeom>
            <a:avLst/>
            <a:gdLst>
              <a:gd name="textAreaLeft" fmla="*/ 194760 w 304920"/>
              <a:gd name="textAreaRight" fmla="*/ 305280 w 3049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16"/>
                </a:lnTo>
                <a:cubicBezTo>
                  <a:pt x="10800" y="10116"/>
                  <a:pt x="5400" y="11016"/>
                  <a:pt x="0" y="11016"/>
                </a:cubicBezTo>
                <a:cubicBezTo>
                  <a:pt x="5400" y="11016"/>
                  <a:pt x="10800" y="11916"/>
                  <a:pt x="10800" y="1281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15480" y="4191120"/>
            <a:ext cx="10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多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跟黑兔同样多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70080" y="5257800"/>
            <a:ext cx="304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 - 7= 5 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77320" y="6156360"/>
            <a:ext cx="40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白兔比黑兔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0" y="0"/>
            <a:ext cx="1695600" cy="1347840"/>
            <a:chOff x="0" y="0"/>
            <a:chExt cx="1695600" cy="1347840"/>
          </a:xfrm>
        </p:grpSpPr>
        <p:pic>
          <p:nvPicPr>
            <p:cNvPr id="286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16956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381240" y="304560"/>
              <a:ext cx="609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371600" y="2971800"/>
            <a:ext cx="4079880" cy="838080"/>
            <a:chOff x="1371600" y="2971800"/>
            <a:chExt cx="4079880" cy="838080"/>
          </a:xfrm>
        </p:grpSpPr>
        <p:pic>
          <p:nvPicPr>
            <p:cNvPr id="289" name="tub" descr=""/>
            <p:cNvPicPr/>
            <p:nvPr/>
          </p:nvPicPr>
          <p:blipFill>
            <a:blip r:embed="rId21"/>
            <a:stretch/>
          </p:blipFill>
          <p:spPr>
            <a:xfrm>
              <a:off x="137160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tub" descr=""/>
            <p:cNvPicPr/>
            <p:nvPr/>
          </p:nvPicPr>
          <p:blipFill>
            <a:blip r:embed="rId22"/>
            <a:stretch/>
          </p:blipFill>
          <p:spPr>
            <a:xfrm>
              <a:off x="1954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tub" descr=""/>
            <p:cNvPicPr/>
            <p:nvPr/>
          </p:nvPicPr>
          <p:blipFill>
            <a:blip r:embed="rId23"/>
            <a:stretch/>
          </p:blipFill>
          <p:spPr>
            <a:xfrm>
              <a:off x="25365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tub" descr=""/>
            <p:cNvPicPr/>
            <p:nvPr/>
          </p:nvPicPr>
          <p:blipFill>
            <a:blip r:embed="rId24"/>
            <a:stretch/>
          </p:blipFill>
          <p:spPr>
            <a:xfrm>
              <a:off x="311760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tub" descr=""/>
            <p:cNvPicPr/>
            <p:nvPr/>
          </p:nvPicPr>
          <p:blipFill>
            <a:blip r:embed="rId25"/>
            <a:stretch/>
          </p:blipFill>
          <p:spPr>
            <a:xfrm>
              <a:off x="370044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tub" descr=""/>
            <p:cNvPicPr/>
            <p:nvPr/>
          </p:nvPicPr>
          <p:blipFill>
            <a:blip r:embed="rId26"/>
            <a:stretch/>
          </p:blipFill>
          <p:spPr>
            <a:xfrm>
              <a:off x="428148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tub" descr=""/>
            <p:cNvPicPr/>
            <p:nvPr/>
          </p:nvPicPr>
          <p:blipFill>
            <a:blip r:embed="rId27"/>
            <a:stretch/>
          </p:blipFill>
          <p:spPr>
            <a:xfrm>
              <a:off x="486396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6" name=""/>
          <p:cNvSpPr/>
          <p:nvPr/>
        </p:nvSpPr>
        <p:spPr>
          <a:xfrm>
            <a:off x="0" y="59436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5410080" y="2971800"/>
            <a:ext cx="2914920" cy="838080"/>
            <a:chOff x="5410080" y="2971800"/>
            <a:chExt cx="2914920" cy="838080"/>
          </a:xfrm>
        </p:grpSpPr>
        <p:pic>
          <p:nvPicPr>
            <p:cNvPr id="298" name="tub" descr=""/>
            <p:cNvPicPr/>
            <p:nvPr/>
          </p:nvPicPr>
          <p:blipFill>
            <a:blip r:embed="rId28"/>
            <a:stretch/>
          </p:blipFill>
          <p:spPr>
            <a:xfrm>
              <a:off x="54100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tub" descr=""/>
            <p:cNvPicPr/>
            <p:nvPr/>
          </p:nvPicPr>
          <p:blipFill>
            <a:blip r:embed="rId29"/>
            <a:stretch/>
          </p:blipFill>
          <p:spPr>
            <a:xfrm>
              <a:off x="599292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tub" descr=""/>
            <p:cNvPicPr/>
            <p:nvPr/>
          </p:nvPicPr>
          <p:blipFill>
            <a:blip r:embed="rId30"/>
            <a:stretch/>
          </p:blipFill>
          <p:spPr>
            <a:xfrm>
              <a:off x="6573960" y="2971800"/>
              <a:ext cx="58716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1" name="tub" descr=""/>
            <p:cNvPicPr/>
            <p:nvPr/>
          </p:nvPicPr>
          <p:blipFill>
            <a:blip r:embed="rId31"/>
            <a:stretch/>
          </p:blipFill>
          <p:spPr>
            <a:xfrm>
              <a:off x="715644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tub" descr=""/>
            <p:cNvPicPr/>
            <p:nvPr/>
          </p:nvPicPr>
          <p:blipFill>
            <a:blip r:embed="rId32"/>
            <a:stretch/>
          </p:blipFill>
          <p:spPr>
            <a:xfrm>
              <a:off x="7737480" y="2971800"/>
              <a:ext cx="58752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895480"/>
            <a:ext cx="396216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3"/>
          <a:stretch/>
        </p:blipFill>
        <p:spPr>
          <a:xfrm>
            <a:off x="5715000" y="1523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2895480"/>
            <a:ext cx="2895840" cy="990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988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5181480"/>
            <a:ext cx="914400" cy="7621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dbc" descr=""/>
          <p:cNvPicPr/>
          <p:nvPr/>
        </p:nvPicPr>
        <p:blipFill>
          <a:blip r:embed="rId1"/>
          <a:stretch/>
        </p:blipFill>
        <p:spPr>
          <a:xfrm>
            <a:off x="4952880" y="380880"/>
            <a:ext cx="542880" cy="831960"/>
          </a:xfrm>
          <a:prstGeom prst="rect">
            <a:avLst/>
          </a:prstGeom>
          <a:ln w="0">
            <a:noFill/>
          </a:ln>
        </p:spPr>
      </p:pic>
      <p:pic>
        <p:nvPicPr>
          <p:cNvPr id="312" name="ybc" descr=""/>
          <p:cNvPicPr/>
          <p:nvPr/>
        </p:nvPicPr>
        <p:blipFill>
          <a:blip r:embed="rId2"/>
          <a:stretch/>
        </p:blipFill>
        <p:spPr>
          <a:xfrm>
            <a:off x="7391520" y="609480"/>
            <a:ext cx="615960" cy="533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1247400" y="533520"/>
            <a:ext cx="856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方民家收了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13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51920" y="1676520"/>
            <a:ext cx="391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几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8440" y="5029200"/>
            <a:ext cx="423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13 - 8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5 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39960" y="5943600"/>
            <a:ext cx="552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口答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圆白菜比大白菜多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棵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8305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4360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1219320"/>
            <a:ext cx="259056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05320" y="1219320"/>
            <a:ext cx="2209680" cy="75960"/>
          </a:xfrm>
          <a:custGeom>
            <a:avLst/>
            <a:gdLst/>
            <a:ahLst/>
            <a:rect l="l" t="t" r="r" b="b"/>
            <a:pathLst>
              <a:path w="1608" h="132">
                <a:moveTo>
                  <a:pt x="0" y="0"/>
                </a:moveTo>
                <a:cubicBezTo>
                  <a:pt x="3" y="16"/>
                  <a:pt x="10" y="104"/>
                  <a:pt x="36" y="120"/>
                </a:cubicBezTo>
                <a:cubicBezTo>
                  <a:pt x="47" y="127"/>
                  <a:pt x="60" y="112"/>
                  <a:pt x="72" y="108"/>
                </a:cubicBezTo>
                <a:cubicBezTo>
                  <a:pt x="92" y="49"/>
                  <a:pt x="69" y="33"/>
                  <a:pt x="132" y="12"/>
                </a:cubicBezTo>
                <a:cubicBezTo>
                  <a:pt x="185" y="47"/>
                  <a:pt x="177" y="59"/>
                  <a:pt x="192" y="120"/>
                </a:cubicBezTo>
                <a:cubicBezTo>
                  <a:pt x="204" y="112"/>
                  <a:pt x="219" y="107"/>
                  <a:pt x="228" y="96"/>
                </a:cubicBezTo>
                <a:cubicBezTo>
                  <a:pt x="255" y="62"/>
                  <a:pt x="221" y="53"/>
                  <a:pt x="264" y="24"/>
                </a:cubicBezTo>
                <a:cubicBezTo>
                  <a:pt x="278" y="15"/>
                  <a:pt x="296" y="16"/>
                  <a:pt x="312" y="12"/>
                </a:cubicBezTo>
                <a:cubicBezTo>
                  <a:pt x="367" y="95"/>
                  <a:pt x="351" y="57"/>
                  <a:pt x="372" y="120"/>
                </a:cubicBezTo>
                <a:cubicBezTo>
                  <a:pt x="384" y="104"/>
                  <a:pt x="399" y="90"/>
                  <a:pt x="408" y="72"/>
                </a:cubicBezTo>
                <a:cubicBezTo>
                  <a:pt x="441" y="6"/>
                  <a:pt x="390" y="34"/>
                  <a:pt x="456" y="12"/>
                </a:cubicBezTo>
                <a:cubicBezTo>
                  <a:pt x="529" y="30"/>
                  <a:pt x="499" y="8"/>
                  <a:pt x="528" y="96"/>
                </a:cubicBezTo>
                <a:cubicBezTo>
                  <a:pt x="532" y="108"/>
                  <a:pt x="540" y="132"/>
                  <a:pt x="540" y="132"/>
                </a:cubicBezTo>
                <a:cubicBezTo>
                  <a:pt x="576" y="78"/>
                  <a:pt x="569" y="34"/>
                  <a:pt x="636" y="12"/>
                </a:cubicBezTo>
                <a:cubicBezTo>
                  <a:pt x="689" y="47"/>
                  <a:pt x="677" y="64"/>
                  <a:pt x="696" y="120"/>
                </a:cubicBezTo>
                <a:cubicBezTo>
                  <a:pt x="708" y="104"/>
                  <a:pt x="715" y="83"/>
                  <a:pt x="732" y="72"/>
                </a:cubicBezTo>
                <a:cubicBezTo>
                  <a:pt x="753" y="58"/>
                  <a:pt x="804" y="48"/>
                  <a:pt x="804" y="48"/>
                </a:cubicBezTo>
                <a:cubicBezTo>
                  <a:pt x="816" y="56"/>
                  <a:pt x="831" y="61"/>
                  <a:pt x="840" y="72"/>
                </a:cubicBezTo>
                <a:cubicBezTo>
                  <a:pt x="848" y="82"/>
                  <a:pt x="839" y="108"/>
                  <a:pt x="852" y="108"/>
                </a:cubicBezTo>
                <a:cubicBezTo>
                  <a:pt x="865" y="108"/>
                  <a:pt x="859" y="84"/>
                  <a:pt x="864" y="72"/>
                </a:cubicBezTo>
                <a:cubicBezTo>
                  <a:pt x="871" y="56"/>
                  <a:pt x="880" y="40"/>
                  <a:pt x="888" y="24"/>
                </a:cubicBezTo>
                <a:cubicBezTo>
                  <a:pt x="899" y="26"/>
                  <a:pt x="978" y="40"/>
                  <a:pt x="984" y="48"/>
                </a:cubicBezTo>
                <a:cubicBezTo>
                  <a:pt x="999" y="69"/>
                  <a:pt x="1008" y="120"/>
                  <a:pt x="1008" y="120"/>
                </a:cubicBezTo>
                <a:cubicBezTo>
                  <a:pt x="1020" y="104"/>
                  <a:pt x="1027" y="83"/>
                  <a:pt x="1044" y="72"/>
                </a:cubicBezTo>
                <a:cubicBezTo>
                  <a:pt x="1065" y="58"/>
                  <a:pt x="1116" y="48"/>
                  <a:pt x="1116" y="48"/>
                </a:cubicBezTo>
                <a:cubicBezTo>
                  <a:pt x="1136" y="52"/>
                  <a:pt x="1162" y="46"/>
                  <a:pt x="1176" y="60"/>
                </a:cubicBezTo>
                <a:cubicBezTo>
                  <a:pt x="1194" y="78"/>
                  <a:pt x="1200" y="132"/>
                  <a:pt x="1200" y="132"/>
                </a:cubicBezTo>
                <a:cubicBezTo>
                  <a:pt x="1212" y="120"/>
                  <a:pt x="1227" y="110"/>
                  <a:pt x="1236" y="96"/>
                </a:cubicBezTo>
                <a:cubicBezTo>
                  <a:pt x="1243" y="85"/>
                  <a:pt x="1239" y="69"/>
                  <a:pt x="1248" y="60"/>
                </a:cubicBezTo>
                <a:cubicBezTo>
                  <a:pt x="1257" y="51"/>
                  <a:pt x="1273" y="54"/>
                  <a:pt x="1284" y="48"/>
                </a:cubicBezTo>
                <a:cubicBezTo>
                  <a:pt x="1297" y="42"/>
                  <a:pt x="1308" y="32"/>
                  <a:pt x="1320" y="24"/>
                </a:cubicBezTo>
                <a:cubicBezTo>
                  <a:pt x="1332" y="28"/>
                  <a:pt x="1349" y="26"/>
                  <a:pt x="1356" y="36"/>
                </a:cubicBezTo>
                <a:cubicBezTo>
                  <a:pt x="1371" y="57"/>
                  <a:pt x="1380" y="108"/>
                  <a:pt x="1380" y="108"/>
                </a:cubicBezTo>
                <a:cubicBezTo>
                  <a:pt x="1396" y="104"/>
                  <a:pt x="1415" y="106"/>
                  <a:pt x="1428" y="96"/>
                </a:cubicBezTo>
                <a:cubicBezTo>
                  <a:pt x="1438" y="88"/>
                  <a:pt x="1431" y="69"/>
                  <a:pt x="1440" y="60"/>
                </a:cubicBezTo>
                <a:cubicBezTo>
                  <a:pt x="1449" y="51"/>
                  <a:pt x="1464" y="52"/>
                  <a:pt x="1476" y="48"/>
                </a:cubicBezTo>
                <a:cubicBezTo>
                  <a:pt x="1480" y="36"/>
                  <a:pt x="1475" y="14"/>
                  <a:pt x="1488" y="12"/>
                </a:cubicBezTo>
                <a:cubicBezTo>
                  <a:pt x="1513" y="8"/>
                  <a:pt x="1560" y="36"/>
                  <a:pt x="1560" y="36"/>
                </a:cubicBezTo>
                <a:cubicBezTo>
                  <a:pt x="1571" y="70"/>
                  <a:pt x="1582" y="106"/>
                  <a:pt x="1608" y="13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438280"/>
            <a:ext cx="54100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10160" y="2666880"/>
            <a:ext cx="7281360" cy="2485800"/>
            <a:chOff x="110160" y="2666880"/>
            <a:chExt cx="7281360" cy="2485800"/>
          </a:xfrm>
        </p:grpSpPr>
        <p:pic>
          <p:nvPicPr>
            <p:cNvPr id="323" name="dbc" descr=""/>
            <p:cNvPicPr/>
            <p:nvPr/>
          </p:nvPicPr>
          <p:blipFill>
            <a:blip r:embed="rId4"/>
            <a:stretch/>
          </p:blipFill>
          <p:spPr>
            <a:xfrm>
              <a:off x="31240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4" name="dbc" descr=""/>
            <p:cNvPicPr/>
            <p:nvPr/>
          </p:nvPicPr>
          <p:blipFill>
            <a:blip r:embed="rId5"/>
            <a:stretch/>
          </p:blipFill>
          <p:spPr>
            <a:xfrm>
              <a:off x="36576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dbc" descr=""/>
            <p:cNvPicPr/>
            <p:nvPr/>
          </p:nvPicPr>
          <p:blipFill>
            <a:blip r:embed="rId6"/>
            <a:stretch/>
          </p:blipFill>
          <p:spPr>
            <a:xfrm>
              <a:off x="411480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dbc" descr=""/>
            <p:cNvPicPr/>
            <p:nvPr/>
          </p:nvPicPr>
          <p:blipFill>
            <a:blip r:embed="rId7"/>
            <a:stretch/>
          </p:blipFill>
          <p:spPr>
            <a:xfrm>
              <a:off x="46483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7" name="dbc" descr=""/>
            <p:cNvPicPr/>
            <p:nvPr/>
          </p:nvPicPr>
          <p:blipFill>
            <a:blip r:embed="rId8"/>
            <a:stretch/>
          </p:blipFill>
          <p:spPr>
            <a:xfrm>
              <a:off x="5105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dbc" descr=""/>
            <p:cNvPicPr/>
            <p:nvPr/>
          </p:nvPicPr>
          <p:blipFill>
            <a:blip r:embed="rId9"/>
            <a:stretch/>
          </p:blipFill>
          <p:spPr>
            <a:xfrm>
              <a:off x="26668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dbc" descr=""/>
            <p:cNvPicPr/>
            <p:nvPr/>
          </p:nvPicPr>
          <p:blipFill>
            <a:blip r:embed="rId10"/>
            <a:stretch/>
          </p:blipFill>
          <p:spPr>
            <a:xfrm>
              <a:off x="2209680" y="2666880"/>
              <a:ext cx="44784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dbc" descr=""/>
            <p:cNvPicPr/>
            <p:nvPr/>
          </p:nvPicPr>
          <p:blipFill>
            <a:blip r:embed="rId11"/>
            <a:stretch/>
          </p:blipFill>
          <p:spPr>
            <a:xfrm>
              <a:off x="1676520" y="2666880"/>
              <a:ext cx="44748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1752480" y="3505320"/>
              <a:ext cx="5639040" cy="685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86400" y="3581280"/>
              <a:ext cx="0" cy="6098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0160" y="274284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大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0160" y="3580920"/>
              <a:ext cx="125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</a:rPr>
                <a:t>圆白菜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 rot="16189200">
              <a:off x="4381560" y="1712880"/>
              <a:ext cx="379440" cy="54849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142920 h 5484960"/>
                <a:gd name="textAreaBottom" fmla="*/ 5342040 h 548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191480" y="45712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</a:rPr>
                <a:t>1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 rot="5389200">
              <a:off x="6247080" y="2360880"/>
              <a:ext cx="379440" cy="190476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9680 h 1904760"/>
                <a:gd name="textAreaBottom" fmla="*/ 1855080 h 190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16"/>
                  </a:lnTo>
                  <a:cubicBezTo>
                    <a:pt x="10800" y="10116"/>
                    <a:pt x="5400" y="11016"/>
                    <a:pt x="0" y="11016"/>
                  </a:cubicBezTo>
                  <a:cubicBezTo>
                    <a:pt x="5400" y="11016"/>
                    <a:pt x="10800" y="11916"/>
                    <a:pt x="10800" y="1281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75640" y="2696400"/>
              <a:ext cx="10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多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r>
                <a:rPr b="0" lang="zh-CN" sz="3200" spc="-1" strike="noStrike">
                  <a:solidFill>
                    <a:srgbClr val="ff3300"/>
                  </a:solidFill>
                  <a:latin typeface="Times New Roman"/>
                </a:rPr>
                <a:t>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3505320"/>
            <a:ext cx="190512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skt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28600" y="762120"/>
            <a:ext cx="4191120" cy="416232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4923360" y="70812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鸭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96360" y="225900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896360" y="3782880"/>
            <a:ext cx="304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鸭比鹅多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(    )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60720" y="14968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30=1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860720" y="294480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-20=2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4400" y="4468680"/>
            <a:ext cx="27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0-20=10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758280" y="6858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758280" y="220968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81960" y="37339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43680" y="5105520"/>
            <a:ext cx="41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鸡、鸭、鹅一共（     ）只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904200" y="5762520"/>
            <a:ext cx="358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5+30+20=95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23200" y="50436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</a:rPr>
              <a:t>9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2T12:27:05Z</dcterms:created>
  <dc:creator>hdk</dc:creator>
  <dc:description/>
  <dc:language>en-US</dc:language>
  <cp:lastModifiedBy>电教室</cp:lastModifiedBy>
  <dcterms:modified xsi:type="dcterms:W3CDTF">1996-04-12T09:50:00Z</dcterms:modified>
  <cp:revision>42</cp:revision>
  <dc:subject/>
  <dc:title>没有幻灯片标题</dc:title>
</cp:coreProperties>
</file>