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9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4.wmf" ContentType="image/x-wmf"/>
  <Override PartName="/ppt/media/image5.png" ContentType="image/png"/>
  <Override PartName="/ppt/media/image6.png" ContentType="image/png"/>
  <Override PartName="/ppt/media/image11.png" ContentType="image/pn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8DD28-9FBD-498B-8603-061D2A235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40940-4913-46C4-A3A5-007A0BF2D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1FC29-53C3-401A-8D50-878329972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9E9D6-6FFC-43EE-A923-104C426D2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70919-286C-40B7-9B99-A6BE02B67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84349-E934-4D7F-BD23-7CC4F7BAE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8880D-234B-4EC2-AEBB-C62B97A46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A4FEB-BB5C-406B-80A7-A1BA230A5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AE472-211F-43D3-958B-BCC8A2E88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BE3DD-DB47-4F29-882F-ECFF97CAD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EEF38-DCCA-4314-A444-329778DF4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5577B-6205-4067-9E54-7A9B70BB8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210BA-4EC8-41A6-AAC7-9FE4C63C33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image" Target="../media/image7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5.png"/><Relationship Id="rId18" Type="http://schemas.openxmlformats.org/officeDocument/2006/relationships/image" Target="../media/image6.png"/><Relationship Id="rId1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image" Target="../media/image8.png"/><Relationship Id="rId14" Type="http://schemas.openxmlformats.org/officeDocument/2006/relationships/image" Target="../media/image9.png"/><Relationship Id="rId15" Type="http://schemas.openxmlformats.org/officeDocument/2006/relationships/image" Target="../media/image9.png"/><Relationship Id="rId16" Type="http://schemas.openxmlformats.org/officeDocument/2006/relationships/image" Target="../media/image9.png"/><Relationship Id="rId17" Type="http://schemas.openxmlformats.org/officeDocument/2006/relationships/image" Target="../media/image9.png"/><Relationship Id="rId18" Type="http://schemas.openxmlformats.org/officeDocument/2006/relationships/image" Target="../media/image9.png"/><Relationship Id="rId19" Type="http://schemas.openxmlformats.org/officeDocument/2006/relationships/image" Target="../media/image9.png"/><Relationship Id="rId20" Type="http://schemas.openxmlformats.org/officeDocument/2006/relationships/image" Target="../media/image10.wmf"/><Relationship Id="rId21" Type="http://schemas.openxmlformats.org/officeDocument/2006/relationships/image" Target="../media/image8.png"/><Relationship Id="rId22" Type="http://schemas.openxmlformats.org/officeDocument/2006/relationships/image" Target="../media/image8.png"/><Relationship Id="rId23" Type="http://schemas.openxmlformats.org/officeDocument/2006/relationships/image" Target="../media/image8.png"/><Relationship Id="rId24" Type="http://schemas.openxmlformats.org/officeDocument/2006/relationships/image" Target="../media/image8.png"/><Relationship Id="rId25" Type="http://schemas.openxmlformats.org/officeDocument/2006/relationships/image" Target="../media/image8.png"/><Relationship Id="rId26" Type="http://schemas.openxmlformats.org/officeDocument/2006/relationships/image" Target="../media/image8.png"/><Relationship Id="rId27" Type="http://schemas.openxmlformats.org/officeDocument/2006/relationships/image" Target="../media/image8.png"/><Relationship Id="rId28" Type="http://schemas.openxmlformats.org/officeDocument/2006/relationships/image" Target="../media/image8.png"/><Relationship Id="rId29" Type="http://schemas.openxmlformats.org/officeDocument/2006/relationships/image" Target="../media/image8.png"/><Relationship Id="rId30" Type="http://schemas.openxmlformats.org/officeDocument/2006/relationships/image" Target="../media/image8.png"/><Relationship Id="rId31" Type="http://schemas.openxmlformats.org/officeDocument/2006/relationships/image" Target="../media/image8.png"/><Relationship Id="rId32" Type="http://schemas.openxmlformats.org/officeDocument/2006/relationships/image" Target="../media/image8.png"/><Relationship Id="rId33" Type="http://schemas.openxmlformats.org/officeDocument/2006/relationships/image" Target="../media/image2.png"/><Relationship Id="rId3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2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11.png"/><Relationship Id="rId11" Type="http://schemas.openxmlformats.org/officeDocument/2006/relationships/image" Target="../media/image11.png"/><Relationship Id="rId1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50000">
              <a:srgbClr val="ffffff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209680" y="1447920"/>
            <a:ext cx="5181840" cy="3886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916440" y="533520"/>
            <a:ext cx="1400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</a:rPr>
              <a:t>求一个数比另一个数多几的应用题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065760" y="6278400"/>
            <a:ext cx="496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九 年 义 务 教 育 小 学 六 年 制 第 二 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1828800" y="32767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1354320" y="533520"/>
            <a:ext cx="68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ff66ff"/>
                </a:solidFill>
                <a:latin typeface="Times New Roman"/>
              </a:rPr>
              <a:t>试一试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1356120" y="1646280"/>
            <a:ext cx="5873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小红有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本书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小明有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30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本书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2"/>
          <a:stretch/>
        </p:blipFill>
        <p:spPr>
          <a:xfrm>
            <a:off x="380880" y="304920"/>
            <a:ext cx="60336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769680" y="38088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3333cc"/>
                </a:solidFill>
                <a:latin typeface="Times New Roman"/>
              </a:rPr>
              <a:t>口算练习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254600" y="1901880"/>
            <a:ext cx="1654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80-60=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245240" y="2819520"/>
            <a:ext cx="1654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80-20=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262160" y="3809880"/>
            <a:ext cx="1771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20+60=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671280" y="1905120"/>
            <a:ext cx="1526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69- 9=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467880" y="2819520"/>
            <a:ext cx="1780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69-60=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675240" y="3733920"/>
            <a:ext cx="1517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9+60=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893200" y="1981080"/>
            <a:ext cx="1654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34-30=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57280" y="2819520"/>
            <a:ext cx="1526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34- 4=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943960" y="3733920"/>
            <a:ext cx="1643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30 +4=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819880" y="182880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Times New Roman"/>
              </a:rPr>
              <a:t>2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9880" y="281952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Times New Roman"/>
              </a:rPr>
              <a:t>6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819880" y="373392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Times New Roman"/>
              </a:rPr>
              <a:t>8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029920" y="190512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Times New Roman"/>
              </a:rPr>
              <a:t>6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169960" y="281952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029920" y="373392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Times New Roman"/>
              </a:rPr>
              <a:t>6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315200" y="1905120"/>
            <a:ext cx="781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391520" y="2819520"/>
            <a:ext cx="780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Times New Roman"/>
              </a:rPr>
              <a:t>3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448400" y="3657600"/>
            <a:ext cx="781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Times New Roman"/>
              </a:rPr>
              <a:t>3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289080" y="1828800"/>
            <a:ext cx="2868480" cy="457200"/>
            <a:chOff x="289080" y="1828800"/>
            <a:chExt cx="2868480" cy="457200"/>
          </a:xfrm>
        </p:grpSpPr>
        <p:sp>
          <p:nvSpPr>
            <p:cNvPr id="65" name=""/>
            <p:cNvSpPr/>
            <p:nvPr/>
          </p:nvSpPr>
          <p:spPr>
            <a:xfrm>
              <a:off x="289080" y="1828800"/>
              <a:ext cx="566640" cy="45720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066680" y="1828800"/>
              <a:ext cx="567000" cy="45720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828800" y="1828800"/>
              <a:ext cx="566640" cy="45720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590920" y="1828800"/>
              <a:ext cx="566640" cy="45720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4403880" y="1828800"/>
            <a:ext cx="4392360" cy="457200"/>
            <a:chOff x="4403880" y="1828800"/>
            <a:chExt cx="4392360" cy="457200"/>
          </a:xfrm>
        </p:grpSpPr>
        <p:sp>
          <p:nvSpPr>
            <p:cNvPr id="70" name=""/>
            <p:cNvSpPr/>
            <p:nvPr/>
          </p:nvSpPr>
          <p:spPr>
            <a:xfrm>
              <a:off x="4403880" y="1828800"/>
              <a:ext cx="566640" cy="45720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181480" y="1828800"/>
              <a:ext cx="567000" cy="45720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943600" y="1828800"/>
              <a:ext cx="566640" cy="45720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705720" y="1828800"/>
              <a:ext cx="566640" cy="45720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467480" y="1828800"/>
              <a:ext cx="567000" cy="45720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229600" y="1828800"/>
              <a:ext cx="566640" cy="45720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0" y="0"/>
            <a:ext cx="1905120" cy="685800"/>
          </a:xfrm>
          <a:custGeom>
            <a:avLst/>
            <a:gdLst>
              <a:gd name="textAreaLeft" fmla="*/ 0 w 1905120"/>
              <a:gd name="textAreaRight" fmla="*/ 1905480 w 1905120"/>
              <a:gd name="textAreaTop" fmla="*/ 0 h 685800"/>
              <a:gd name="textAreaBottom" fmla="*/ 686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ff"/>
                </a:solidFill>
                <a:latin typeface="Times New Roman"/>
              </a:rPr>
              <a:t>比一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47920" y="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304920" y="2286000"/>
            <a:ext cx="457200" cy="1295280"/>
            <a:chOff x="304920" y="2286000"/>
            <a:chExt cx="457200" cy="1295280"/>
          </a:xfrm>
        </p:grpSpPr>
        <p:sp>
          <p:nvSpPr>
            <p:cNvPr id="79" name=""/>
            <p:cNvSpPr/>
            <p:nvPr/>
          </p:nvSpPr>
          <p:spPr>
            <a:xfrm>
              <a:off x="304920" y="3124080"/>
              <a:ext cx="457200" cy="4572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533520" y="2286000"/>
              <a:ext cx="0" cy="838080"/>
            </a:xfrm>
            <a:prstGeom prst="line">
              <a:avLst/>
            </a:prstGeom>
            <a:ln cap="rnd" w="7632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1066680" y="2362320"/>
            <a:ext cx="457200" cy="1218960"/>
            <a:chOff x="1066680" y="2362320"/>
            <a:chExt cx="457200" cy="1218960"/>
          </a:xfrm>
        </p:grpSpPr>
        <p:sp>
          <p:nvSpPr>
            <p:cNvPr id="82" name=""/>
            <p:cNvSpPr/>
            <p:nvPr/>
          </p:nvSpPr>
          <p:spPr>
            <a:xfrm>
              <a:off x="1066680" y="3124080"/>
              <a:ext cx="457200" cy="4572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371600" y="2362320"/>
              <a:ext cx="0" cy="838080"/>
            </a:xfrm>
            <a:prstGeom prst="line">
              <a:avLst/>
            </a:prstGeom>
            <a:ln cap="rnd" w="7632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1905120" y="2362320"/>
            <a:ext cx="457200" cy="1218960"/>
            <a:chOff x="1905120" y="2362320"/>
            <a:chExt cx="457200" cy="1218960"/>
          </a:xfrm>
        </p:grpSpPr>
        <p:sp>
          <p:nvSpPr>
            <p:cNvPr id="85" name=""/>
            <p:cNvSpPr/>
            <p:nvPr/>
          </p:nvSpPr>
          <p:spPr>
            <a:xfrm>
              <a:off x="1905120" y="3124080"/>
              <a:ext cx="457200" cy="4572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133720" y="2362320"/>
              <a:ext cx="0" cy="838080"/>
            </a:xfrm>
            <a:prstGeom prst="line">
              <a:avLst/>
            </a:prstGeom>
            <a:ln cap="rnd" w="7632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666880" y="2362320"/>
            <a:ext cx="457200" cy="1218960"/>
            <a:chOff x="2666880" y="2362320"/>
            <a:chExt cx="457200" cy="1218960"/>
          </a:xfrm>
        </p:grpSpPr>
        <p:sp>
          <p:nvSpPr>
            <p:cNvPr id="88" name=""/>
            <p:cNvSpPr/>
            <p:nvPr/>
          </p:nvSpPr>
          <p:spPr>
            <a:xfrm>
              <a:off x="2666880" y="3124080"/>
              <a:ext cx="457200" cy="4572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895480" y="2362320"/>
              <a:ext cx="0" cy="838080"/>
            </a:xfrm>
            <a:prstGeom prst="line">
              <a:avLst/>
            </a:prstGeom>
            <a:ln cap="rnd" w="7632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4419720" y="2362320"/>
            <a:ext cx="457200" cy="1218960"/>
            <a:chOff x="4419720" y="2362320"/>
            <a:chExt cx="457200" cy="1218960"/>
          </a:xfrm>
        </p:grpSpPr>
        <p:sp>
          <p:nvSpPr>
            <p:cNvPr id="91" name=""/>
            <p:cNvSpPr/>
            <p:nvPr/>
          </p:nvSpPr>
          <p:spPr>
            <a:xfrm>
              <a:off x="4419720" y="3124080"/>
              <a:ext cx="457200" cy="4572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648320" y="2362320"/>
              <a:ext cx="0" cy="838080"/>
            </a:xfrm>
            <a:prstGeom prst="line">
              <a:avLst/>
            </a:prstGeom>
            <a:ln cap="rnd" w="7632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5181480" y="2362320"/>
            <a:ext cx="457200" cy="1218960"/>
            <a:chOff x="5181480" y="2362320"/>
            <a:chExt cx="457200" cy="1218960"/>
          </a:xfrm>
        </p:grpSpPr>
        <p:sp>
          <p:nvSpPr>
            <p:cNvPr id="94" name=""/>
            <p:cNvSpPr/>
            <p:nvPr/>
          </p:nvSpPr>
          <p:spPr>
            <a:xfrm>
              <a:off x="5181480" y="3124080"/>
              <a:ext cx="457200" cy="4572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410080" y="2362320"/>
              <a:ext cx="0" cy="838080"/>
            </a:xfrm>
            <a:prstGeom prst="line">
              <a:avLst/>
            </a:prstGeom>
            <a:ln cap="rnd" w="7632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6019920" y="2362320"/>
            <a:ext cx="457200" cy="1218960"/>
            <a:chOff x="6019920" y="2362320"/>
            <a:chExt cx="457200" cy="1218960"/>
          </a:xfrm>
        </p:grpSpPr>
        <p:sp>
          <p:nvSpPr>
            <p:cNvPr id="97" name=""/>
            <p:cNvSpPr/>
            <p:nvPr/>
          </p:nvSpPr>
          <p:spPr>
            <a:xfrm>
              <a:off x="6019920" y="3124080"/>
              <a:ext cx="457200" cy="4572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248520" y="2362320"/>
              <a:ext cx="0" cy="838080"/>
            </a:xfrm>
            <a:prstGeom prst="line">
              <a:avLst/>
            </a:prstGeom>
            <a:ln cap="rnd" w="7632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" name=""/>
          <p:cNvGrpSpPr/>
          <p:nvPr/>
        </p:nvGrpSpPr>
        <p:grpSpPr>
          <a:xfrm>
            <a:off x="6781680" y="2286000"/>
            <a:ext cx="457200" cy="1295280"/>
            <a:chOff x="6781680" y="2286000"/>
            <a:chExt cx="457200" cy="1295280"/>
          </a:xfrm>
        </p:grpSpPr>
        <p:sp>
          <p:nvSpPr>
            <p:cNvPr id="100" name=""/>
            <p:cNvSpPr/>
            <p:nvPr/>
          </p:nvSpPr>
          <p:spPr>
            <a:xfrm>
              <a:off x="6781680" y="3124080"/>
              <a:ext cx="457200" cy="4572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010280" y="2286000"/>
              <a:ext cx="0" cy="838080"/>
            </a:xfrm>
            <a:prstGeom prst="line">
              <a:avLst/>
            </a:prstGeom>
            <a:ln cap="rnd" w="7632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609480" y="4952880"/>
            <a:ext cx="3276720" cy="703440"/>
            <a:chOff x="609480" y="4952880"/>
            <a:chExt cx="3276720" cy="703440"/>
          </a:xfrm>
        </p:grpSpPr>
        <p:sp>
          <p:nvSpPr>
            <p:cNvPr id="103" name=""/>
            <p:cNvSpPr/>
            <p:nvPr/>
          </p:nvSpPr>
          <p:spPr>
            <a:xfrm>
              <a:off x="609480" y="5105520"/>
              <a:ext cx="567000" cy="45720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905120" y="5105520"/>
              <a:ext cx="457200" cy="4572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219320" y="4952880"/>
              <a:ext cx="6919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000000"/>
                  </a:solidFill>
                  <a:latin typeface="Times New Roman"/>
                </a:rPr>
                <a:t>和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362320" y="5562720"/>
              <a:ext cx="1523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" name=""/>
          <p:cNvSpPr/>
          <p:nvPr/>
        </p:nvSpPr>
        <p:spPr>
          <a:xfrm>
            <a:off x="2646360" y="493704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cc"/>
                </a:solidFill>
                <a:latin typeface="Times New Roman"/>
              </a:rPr>
              <a:t>同样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4648320" y="4876920"/>
            <a:ext cx="4495680" cy="703440"/>
            <a:chOff x="4648320" y="4876920"/>
            <a:chExt cx="4495680" cy="703440"/>
          </a:xfrm>
        </p:grpSpPr>
        <p:sp>
          <p:nvSpPr>
            <p:cNvPr id="109" name=""/>
            <p:cNvSpPr/>
            <p:nvPr/>
          </p:nvSpPr>
          <p:spPr>
            <a:xfrm>
              <a:off x="4648320" y="5029200"/>
              <a:ext cx="566640" cy="45720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943600" y="5029200"/>
              <a:ext cx="457200" cy="4572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257800" y="4876920"/>
              <a:ext cx="692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000000"/>
                  </a:solidFill>
                  <a:latin typeface="Times New Roman"/>
                </a:rPr>
                <a:t>比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248520" y="4876920"/>
              <a:ext cx="2895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000000"/>
                  </a:solidFill>
                  <a:latin typeface="Times New Roman"/>
                </a:rPr>
                <a:t>多</a:t>
              </a:r>
              <a:r>
                <a:rPr b="0" lang="zh-CN" sz="4000" spc="-1" strike="noStrike">
                  <a:solidFill>
                    <a:srgbClr val="000000"/>
                  </a:solidFill>
                  <a:latin typeface="Times New Roman"/>
                </a:rPr>
                <a:t>(      )</a:t>
              </a:r>
              <a:r>
                <a:rPr b="0" lang="zh-CN" sz="4000" spc="-1" strike="noStrike">
                  <a:solidFill>
                    <a:srgbClr val="000000"/>
                  </a:solidFill>
                  <a:latin typeface="Times New Roman"/>
                </a:rPr>
                <a:t>个 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" name=""/>
          <p:cNvSpPr/>
          <p:nvPr/>
        </p:nvSpPr>
        <p:spPr>
          <a:xfrm>
            <a:off x="6959880" y="4800600"/>
            <a:ext cx="1040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3300"/>
                </a:solidFill>
                <a:latin typeface="Times New Roman"/>
              </a:rPr>
              <a:t>   </a:t>
            </a:r>
            <a:r>
              <a:rPr b="0" lang="zh-CN" sz="54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895480" y="4648320"/>
            <a:ext cx="1043280" cy="10587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7162920" y="4572000"/>
            <a:ext cx="1042920" cy="105876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5486400" y="1523880"/>
            <a:ext cx="3352680" cy="9907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1523880"/>
            <a:ext cx="5105160" cy="9907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486400" y="1523880"/>
            <a:ext cx="3352680" cy="990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486400" y="1523880"/>
            <a:ext cx="3352680" cy="99072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486400" y="1523880"/>
            <a:ext cx="3352680" cy="990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0"/>
            <a:ext cx="1066680" cy="762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228600" y="2590920"/>
            <a:ext cx="685800" cy="1447560"/>
            <a:chOff x="228600" y="2590920"/>
            <a:chExt cx="685800" cy="1447560"/>
          </a:xfrm>
        </p:grpSpPr>
        <p:sp>
          <p:nvSpPr>
            <p:cNvPr id="123" name=""/>
            <p:cNvSpPr/>
            <p:nvPr/>
          </p:nvSpPr>
          <p:spPr>
            <a:xfrm>
              <a:off x="228600" y="3352680"/>
              <a:ext cx="685800" cy="6858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2590920"/>
              <a:ext cx="0" cy="685800"/>
            </a:xfrm>
            <a:prstGeom prst="line">
              <a:avLst/>
            </a:prstGeom>
            <a:ln cap="rnd" w="7632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1096920" y="2590920"/>
            <a:ext cx="685800" cy="1447560"/>
            <a:chOff x="1096920" y="2590920"/>
            <a:chExt cx="685800" cy="1447560"/>
          </a:xfrm>
        </p:grpSpPr>
        <p:sp>
          <p:nvSpPr>
            <p:cNvPr id="126" name=""/>
            <p:cNvSpPr/>
            <p:nvPr/>
          </p:nvSpPr>
          <p:spPr>
            <a:xfrm>
              <a:off x="1096920" y="3352680"/>
              <a:ext cx="685800" cy="6858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477800" y="2590920"/>
              <a:ext cx="0" cy="685800"/>
            </a:xfrm>
            <a:prstGeom prst="line">
              <a:avLst/>
            </a:prstGeom>
            <a:ln cap="rnd" w="7632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1965240" y="2590920"/>
            <a:ext cx="685800" cy="1447560"/>
            <a:chOff x="1965240" y="2590920"/>
            <a:chExt cx="685800" cy="1447560"/>
          </a:xfrm>
        </p:grpSpPr>
        <p:sp>
          <p:nvSpPr>
            <p:cNvPr id="129" name=""/>
            <p:cNvSpPr/>
            <p:nvPr/>
          </p:nvSpPr>
          <p:spPr>
            <a:xfrm>
              <a:off x="1965240" y="3352680"/>
              <a:ext cx="685800" cy="6858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346120" y="2590920"/>
              <a:ext cx="0" cy="685800"/>
            </a:xfrm>
            <a:prstGeom prst="line">
              <a:avLst/>
            </a:prstGeom>
            <a:ln cap="rnd" w="7632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2833560" y="2590920"/>
            <a:ext cx="685800" cy="1447560"/>
            <a:chOff x="2833560" y="2590920"/>
            <a:chExt cx="685800" cy="1447560"/>
          </a:xfrm>
        </p:grpSpPr>
        <p:sp>
          <p:nvSpPr>
            <p:cNvPr id="132" name=""/>
            <p:cNvSpPr/>
            <p:nvPr/>
          </p:nvSpPr>
          <p:spPr>
            <a:xfrm>
              <a:off x="2833560" y="3352680"/>
              <a:ext cx="685800" cy="6858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214440" y="2590920"/>
              <a:ext cx="0" cy="685800"/>
            </a:xfrm>
            <a:prstGeom prst="line">
              <a:avLst/>
            </a:prstGeom>
            <a:ln cap="rnd" w="7632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3701880" y="2590920"/>
            <a:ext cx="685800" cy="1447560"/>
            <a:chOff x="3701880" y="2590920"/>
            <a:chExt cx="685800" cy="1447560"/>
          </a:xfrm>
        </p:grpSpPr>
        <p:sp>
          <p:nvSpPr>
            <p:cNvPr id="135" name=""/>
            <p:cNvSpPr/>
            <p:nvPr/>
          </p:nvSpPr>
          <p:spPr>
            <a:xfrm>
              <a:off x="3701880" y="3352680"/>
              <a:ext cx="685800" cy="6858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082760" y="2590920"/>
              <a:ext cx="0" cy="685800"/>
            </a:xfrm>
            <a:prstGeom prst="line">
              <a:avLst/>
            </a:prstGeom>
            <a:ln cap="rnd" w="7632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4572000" y="2590920"/>
            <a:ext cx="685800" cy="1447560"/>
            <a:chOff x="4572000" y="2590920"/>
            <a:chExt cx="685800" cy="1447560"/>
          </a:xfrm>
        </p:grpSpPr>
        <p:sp>
          <p:nvSpPr>
            <p:cNvPr id="138" name=""/>
            <p:cNvSpPr/>
            <p:nvPr/>
          </p:nvSpPr>
          <p:spPr>
            <a:xfrm>
              <a:off x="4572000" y="3352680"/>
              <a:ext cx="685800" cy="6858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952880" y="2590920"/>
              <a:ext cx="0" cy="685800"/>
            </a:xfrm>
            <a:prstGeom prst="line">
              <a:avLst/>
            </a:prstGeom>
            <a:ln cap="rnd" w="7632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2514600" y="4876920"/>
            <a:ext cx="4991400" cy="685800"/>
            <a:chOff x="2514600" y="4876920"/>
            <a:chExt cx="4991400" cy="685800"/>
          </a:xfrm>
        </p:grpSpPr>
        <p:sp>
          <p:nvSpPr>
            <p:cNvPr id="141" name=""/>
            <p:cNvSpPr/>
            <p:nvPr/>
          </p:nvSpPr>
          <p:spPr>
            <a:xfrm>
              <a:off x="2514600" y="4876920"/>
              <a:ext cx="685800" cy="60948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038480" y="4876920"/>
              <a:ext cx="685800" cy="6858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336120" y="4952880"/>
              <a:ext cx="4169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比           多 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(        )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个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    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4" name=""/>
          <p:cNvSpPr/>
          <p:nvPr/>
        </p:nvSpPr>
        <p:spPr>
          <a:xfrm>
            <a:off x="5684760" y="4815000"/>
            <a:ext cx="48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04920" y="1523880"/>
            <a:ext cx="5105160" cy="990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04920" y="1523880"/>
            <a:ext cx="5105160" cy="9907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04920" y="1523880"/>
            <a:ext cx="5105160" cy="990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289080" y="1828800"/>
            <a:ext cx="8534160" cy="609480"/>
            <a:chOff x="289080" y="1828800"/>
            <a:chExt cx="8534160" cy="609480"/>
          </a:xfrm>
        </p:grpSpPr>
        <p:sp>
          <p:nvSpPr>
            <p:cNvPr id="149" name=""/>
            <p:cNvSpPr/>
            <p:nvPr/>
          </p:nvSpPr>
          <p:spPr>
            <a:xfrm>
              <a:off x="289080" y="1828800"/>
              <a:ext cx="685800" cy="60948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160640" y="1828800"/>
              <a:ext cx="685800" cy="60948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31840" y="1828800"/>
              <a:ext cx="685800" cy="60948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905200" y="1828800"/>
              <a:ext cx="685800" cy="60948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776760" y="1828800"/>
              <a:ext cx="685800" cy="60948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648320" y="1828800"/>
              <a:ext cx="685800" cy="60948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521320" y="1828800"/>
              <a:ext cx="685800" cy="60948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392880" y="1828800"/>
              <a:ext cx="685800" cy="60948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264440" y="1828800"/>
              <a:ext cx="685800" cy="60948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137440" y="1828800"/>
              <a:ext cx="685800" cy="60948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 rot="5400000">
            <a:off x="2590560" y="-1219320"/>
            <a:ext cx="533160" cy="4953240"/>
          </a:xfrm>
          <a:custGeom>
            <a:avLst/>
            <a:gdLst>
              <a:gd name="textAreaLeft" fmla="*/ 340560 w 533160"/>
              <a:gd name="textAreaRight" fmla="*/ 533520 w 533160"/>
              <a:gd name="textAreaTop" fmla="*/ 128880 h 4953240"/>
              <a:gd name="textAreaBottom" fmla="*/ 4824360 h 4953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826"/>
                </a:lnTo>
                <a:cubicBezTo>
                  <a:pt x="10800" y="9726"/>
                  <a:pt x="5400" y="10626"/>
                  <a:pt x="0" y="10626"/>
                </a:cubicBezTo>
                <a:cubicBezTo>
                  <a:pt x="5400" y="10626"/>
                  <a:pt x="10800" y="11526"/>
                  <a:pt x="10800" y="12426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rot="16200000">
            <a:off x="6858000" y="1218600"/>
            <a:ext cx="533160" cy="3276720"/>
          </a:xfrm>
          <a:custGeom>
            <a:avLst/>
            <a:gdLst>
              <a:gd name="textAreaLeft" fmla="*/ 340560 w 533160"/>
              <a:gd name="textAreaRight" fmla="*/ 533520 w 533160"/>
              <a:gd name="textAreaTop" fmla="*/ 63360 h 3276720"/>
              <a:gd name="textAreaBottom" fmla="*/ 3213360 h 327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670"/>
                  <a:pt x="10800" y="1339"/>
                </a:cubicBezTo>
                <a:lnTo>
                  <a:pt x="10800" y="9136"/>
                </a:lnTo>
                <a:cubicBezTo>
                  <a:pt x="10800" y="9806"/>
                  <a:pt x="5400" y="10475"/>
                  <a:pt x="0" y="10475"/>
                </a:cubicBezTo>
                <a:cubicBezTo>
                  <a:pt x="5400" y="10475"/>
                  <a:pt x="10800" y="11145"/>
                  <a:pt x="10800" y="11814"/>
                </a:cubicBezTo>
                <a:lnTo>
                  <a:pt x="10800" y="20261"/>
                </a:lnTo>
                <a:cubicBezTo>
                  <a:pt x="10800" y="20931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2610720" y="380880"/>
            <a:ext cx="1820520" cy="581400"/>
            <a:chOff x="2610720" y="380880"/>
            <a:chExt cx="1820520" cy="581400"/>
          </a:xfrm>
        </p:grpSpPr>
        <p:sp>
          <p:nvSpPr>
            <p:cNvPr id="162" name=""/>
            <p:cNvSpPr/>
            <p:nvPr/>
          </p:nvSpPr>
          <p:spPr>
            <a:xfrm>
              <a:off x="2610720" y="380880"/>
              <a:ext cx="1820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Times New Roman"/>
                </a:rPr>
                <a:t>跟    同样多的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666880" y="457200"/>
              <a:ext cx="457200" cy="4572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6305760" y="3124080"/>
            <a:ext cx="1479240" cy="642600"/>
            <a:chOff x="6305760" y="3124080"/>
            <a:chExt cx="1479240" cy="642600"/>
          </a:xfrm>
        </p:grpSpPr>
        <p:sp>
          <p:nvSpPr>
            <p:cNvPr id="165" name=""/>
            <p:cNvSpPr/>
            <p:nvPr/>
          </p:nvSpPr>
          <p:spPr>
            <a:xfrm>
              <a:off x="6305760" y="3124080"/>
              <a:ext cx="1479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Times New Roman"/>
                </a:rPr>
                <a:t>比    多的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629400" y="3200400"/>
              <a:ext cx="457200" cy="4572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5410080" y="914400"/>
            <a:ext cx="0" cy="2514600"/>
          </a:xfrm>
          <a:prstGeom prst="line">
            <a:avLst/>
          </a:prstGeom>
          <a:ln w="9828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685800" y="1676520"/>
            <a:ext cx="4572000" cy="838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85800" y="1676520"/>
            <a:ext cx="4572000" cy="838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85800" y="2895480"/>
            <a:ext cx="4572000" cy="8384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2895480"/>
            <a:ext cx="4572000" cy="838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蓝碗" descr=""/>
          <p:cNvPicPr/>
          <p:nvPr/>
        </p:nvPicPr>
        <p:blipFill>
          <a:blip r:embed="rId1"/>
          <a:stretch/>
        </p:blipFill>
        <p:spPr>
          <a:xfrm>
            <a:off x="685800" y="1828800"/>
            <a:ext cx="914400" cy="609480"/>
          </a:xfrm>
          <a:prstGeom prst="rect">
            <a:avLst/>
          </a:prstGeom>
          <a:ln w="0">
            <a:noFill/>
          </a:ln>
        </p:spPr>
      </p:pic>
      <p:pic>
        <p:nvPicPr>
          <p:cNvPr id="173" name="蓝碗" descr=""/>
          <p:cNvPicPr/>
          <p:nvPr/>
        </p:nvPicPr>
        <p:blipFill>
          <a:blip r:embed="rId2"/>
          <a:stretch/>
        </p:blipFill>
        <p:spPr>
          <a:xfrm>
            <a:off x="1600200" y="1828800"/>
            <a:ext cx="914400" cy="609480"/>
          </a:xfrm>
          <a:prstGeom prst="rect">
            <a:avLst/>
          </a:prstGeom>
          <a:ln w="0">
            <a:noFill/>
          </a:ln>
        </p:spPr>
      </p:pic>
      <p:pic>
        <p:nvPicPr>
          <p:cNvPr id="174" name="蓝碗" descr=""/>
          <p:cNvPicPr/>
          <p:nvPr/>
        </p:nvPicPr>
        <p:blipFill>
          <a:blip r:embed="rId3"/>
          <a:stretch/>
        </p:blipFill>
        <p:spPr>
          <a:xfrm>
            <a:off x="2514600" y="1828800"/>
            <a:ext cx="914400" cy="609480"/>
          </a:xfrm>
          <a:prstGeom prst="rect">
            <a:avLst/>
          </a:prstGeom>
          <a:ln w="0">
            <a:noFill/>
          </a:ln>
        </p:spPr>
      </p:pic>
      <p:pic>
        <p:nvPicPr>
          <p:cNvPr id="175" name="蓝碗" descr=""/>
          <p:cNvPicPr/>
          <p:nvPr/>
        </p:nvPicPr>
        <p:blipFill>
          <a:blip r:embed="rId4"/>
          <a:stretch/>
        </p:blipFill>
        <p:spPr>
          <a:xfrm>
            <a:off x="3429000" y="1828800"/>
            <a:ext cx="914400" cy="609480"/>
          </a:xfrm>
          <a:prstGeom prst="rect">
            <a:avLst/>
          </a:prstGeom>
          <a:ln w="0">
            <a:noFill/>
          </a:ln>
        </p:spPr>
      </p:pic>
      <p:pic>
        <p:nvPicPr>
          <p:cNvPr id="176" name="蓝碗" descr=""/>
          <p:cNvPicPr/>
          <p:nvPr/>
        </p:nvPicPr>
        <p:blipFill>
          <a:blip r:embed="rId5"/>
          <a:stretch/>
        </p:blipFill>
        <p:spPr>
          <a:xfrm>
            <a:off x="4343400" y="1828800"/>
            <a:ext cx="914400" cy="609480"/>
          </a:xfrm>
          <a:prstGeom prst="rect">
            <a:avLst/>
          </a:prstGeom>
          <a:ln w="0">
            <a:noFill/>
          </a:ln>
        </p:spPr>
      </p:pic>
      <p:pic>
        <p:nvPicPr>
          <p:cNvPr id="177" name="蓝碗" descr=""/>
          <p:cNvPicPr/>
          <p:nvPr/>
        </p:nvPicPr>
        <p:blipFill>
          <a:blip r:embed="rId6"/>
          <a:stretch/>
        </p:blipFill>
        <p:spPr>
          <a:xfrm>
            <a:off x="5257800" y="1828800"/>
            <a:ext cx="914400" cy="609480"/>
          </a:xfrm>
          <a:prstGeom prst="rect">
            <a:avLst/>
          </a:prstGeom>
          <a:ln w="0">
            <a:noFill/>
          </a:ln>
        </p:spPr>
      </p:pic>
      <p:pic>
        <p:nvPicPr>
          <p:cNvPr id="178" name="蓝碗" descr=""/>
          <p:cNvPicPr/>
          <p:nvPr/>
        </p:nvPicPr>
        <p:blipFill>
          <a:blip r:embed="rId7"/>
          <a:stretch/>
        </p:blipFill>
        <p:spPr>
          <a:xfrm>
            <a:off x="6172200" y="1828800"/>
            <a:ext cx="914400" cy="609480"/>
          </a:xfrm>
          <a:prstGeom prst="rect">
            <a:avLst/>
          </a:prstGeom>
          <a:ln w="0">
            <a:noFill/>
          </a:ln>
        </p:spPr>
      </p:pic>
      <p:pic>
        <p:nvPicPr>
          <p:cNvPr id="179" name="黄碗" descr=""/>
          <p:cNvPicPr/>
          <p:nvPr/>
        </p:nvPicPr>
        <p:blipFill>
          <a:blip r:embed="rId8"/>
          <a:stretch/>
        </p:blipFill>
        <p:spPr>
          <a:xfrm>
            <a:off x="685800" y="2971800"/>
            <a:ext cx="914400" cy="609480"/>
          </a:xfrm>
          <a:prstGeom prst="rect">
            <a:avLst/>
          </a:prstGeom>
          <a:ln w="0">
            <a:noFill/>
          </a:ln>
        </p:spPr>
      </p:pic>
      <p:pic>
        <p:nvPicPr>
          <p:cNvPr id="180" name="黄碗" descr=""/>
          <p:cNvPicPr/>
          <p:nvPr/>
        </p:nvPicPr>
        <p:blipFill>
          <a:blip r:embed="rId9"/>
          <a:stretch/>
        </p:blipFill>
        <p:spPr>
          <a:xfrm>
            <a:off x="1600200" y="2971800"/>
            <a:ext cx="914400" cy="609480"/>
          </a:xfrm>
          <a:prstGeom prst="rect">
            <a:avLst/>
          </a:prstGeom>
          <a:ln w="0">
            <a:noFill/>
          </a:ln>
        </p:spPr>
      </p:pic>
      <p:pic>
        <p:nvPicPr>
          <p:cNvPr id="181" name="黄碗" descr=""/>
          <p:cNvPicPr/>
          <p:nvPr/>
        </p:nvPicPr>
        <p:blipFill>
          <a:blip r:embed="rId10"/>
          <a:stretch/>
        </p:blipFill>
        <p:spPr>
          <a:xfrm>
            <a:off x="2514600" y="2971800"/>
            <a:ext cx="914400" cy="609480"/>
          </a:xfrm>
          <a:prstGeom prst="rect">
            <a:avLst/>
          </a:prstGeom>
          <a:ln w="0">
            <a:noFill/>
          </a:ln>
        </p:spPr>
      </p:pic>
      <p:pic>
        <p:nvPicPr>
          <p:cNvPr id="182" name="黄碗" descr=""/>
          <p:cNvPicPr/>
          <p:nvPr/>
        </p:nvPicPr>
        <p:blipFill>
          <a:blip r:embed="rId11"/>
          <a:stretch/>
        </p:blipFill>
        <p:spPr>
          <a:xfrm>
            <a:off x="3429000" y="2971800"/>
            <a:ext cx="914400" cy="609480"/>
          </a:xfrm>
          <a:prstGeom prst="rect">
            <a:avLst/>
          </a:prstGeom>
          <a:ln w="0">
            <a:noFill/>
          </a:ln>
        </p:spPr>
      </p:pic>
      <p:pic>
        <p:nvPicPr>
          <p:cNvPr id="183" name="黄碗" descr=""/>
          <p:cNvPicPr/>
          <p:nvPr/>
        </p:nvPicPr>
        <p:blipFill>
          <a:blip r:embed="rId12"/>
          <a:stretch/>
        </p:blipFill>
        <p:spPr>
          <a:xfrm>
            <a:off x="4419720" y="2971800"/>
            <a:ext cx="914400" cy="60948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5257800" y="1676520"/>
            <a:ext cx="182880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85800" y="2514600"/>
            <a:ext cx="4572000" cy="4572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5880" y="1676520"/>
            <a:ext cx="2743200" cy="8380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5880" y="1676520"/>
            <a:ext cx="2743200" cy="838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5880" y="1676520"/>
            <a:ext cx="2743200" cy="8380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蓝碗" descr=""/>
          <p:cNvPicPr/>
          <p:nvPr/>
        </p:nvPicPr>
        <p:blipFill>
          <a:blip r:embed="rId14"/>
          <a:stretch/>
        </p:blipFill>
        <p:spPr>
          <a:xfrm>
            <a:off x="7086600" y="1828800"/>
            <a:ext cx="914400" cy="609480"/>
          </a:xfrm>
          <a:prstGeom prst="rect">
            <a:avLst/>
          </a:prstGeom>
          <a:ln w="0">
            <a:noFill/>
          </a:ln>
        </p:spPr>
      </p:pic>
      <p:pic>
        <p:nvPicPr>
          <p:cNvPr id="190" name="蓝碗" descr=""/>
          <p:cNvPicPr/>
          <p:nvPr/>
        </p:nvPicPr>
        <p:blipFill>
          <a:blip r:embed="rId15"/>
          <a:stretch/>
        </p:blipFill>
        <p:spPr>
          <a:xfrm>
            <a:off x="6172200" y="1828800"/>
            <a:ext cx="914400" cy="609480"/>
          </a:xfrm>
          <a:prstGeom prst="rect">
            <a:avLst/>
          </a:prstGeom>
          <a:ln w="0">
            <a:noFill/>
          </a:ln>
        </p:spPr>
      </p:pic>
      <p:pic>
        <p:nvPicPr>
          <p:cNvPr id="191" name="蓝碗" descr=""/>
          <p:cNvPicPr/>
          <p:nvPr/>
        </p:nvPicPr>
        <p:blipFill>
          <a:blip r:embed="rId16"/>
          <a:stretch/>
        </p:blipFill>
        <p:spPr>
          <a:xfrm>
            <a:off x="8001000" y="1828800"/>
            <a:ext cx="914400" cy="609480"/>
          </a:xfrm>
          <a:prstGeom prst="rect">
            <a:avLst/>
          </a:prstGeom>
          <a:ln w="0">
            <a:noFill/>
          </a:ln>
        </p:spPr>
      </p:pic>
      <p:grpSp>
        <p:nvGrpSpPr>
          <p:cNvPr id="192" name=""/>
          <p:cNvGrpSpPr/>
          <p:nvPr/>
        </p:nvGrpSpPr>
        <p:grpSpPr>
          <a:xfrm>
            <a:off x="1676520" y="4572000"/>
            <a:ext cx="5069160" cy="609480"/>
            <a:chOff x="1676520" y="4572000"/>
            <a:chExt cx="5069160" cy="609480"/>
          </a:xfrm>
        </p:grpSpPr>
        <p:sp>
          <p:nvSpPr>
            <p:cNvPr id="193" name=""/>
            <p:cNvSpPr/>
            <p:nvPr/>
          </p:nvSpPr>
          <p:spPr>
            <a:xfrm>
              <a:off x="2680920" y="4572000"/>
              <a:ext cx="4064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Times New Roman"/>
                </a:rPr>
                <a:t>比           多</a:t>
              </a:r>
              <a:r>
                <a:rPr b="0" lang="zh-CN" sz="3200" spc="-1" strike="noStrike">
                  <a:solidFill>
                    <a:srgbClr val="000000"/>
                  </a:solidFill>
                  <a:latin typeface="Times New Roman"/>
                </a:rPr>
                <a:t>(        )</a:t>
              </a:r>
              <a:r>
                <a:rPr b="0" lang="zh-CN" sz="3200" spc="-1" strike="noStrike">
                  <a:solidFill>
                    <a:srgbClr val="000000"/>
                  </a:solidFill>
                  <a:latin typeface="Times New Roman"/>
                </a:rPr>
                <a:t>个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    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94" name="蓝碗" descr=""/>
            <p:cNvPicPr/>
            <p:nvPr/>
          </p:nvPicPr>
          <p:blipFill>
            <a:blip r:embed="rId17"/>
            <a:stretch/>
          </p:blipFill>
          <p:spPr>
            <a:xfrm>
              <a:off x="1676520" y="4572000"/>
              <a:ext cx="91440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5" name="黄碗" descr=""/>
            <p:cNvPicPr/>
            <p:nvPr/>
          </p:nvPicPr>
          <p:blipFill>
            <a:blip r:embed="rId18"/>
            <a:stretch/>
          </p:blipFill>
          <p:spPr>
            <a:xfrm>
              <a:off x="3200400" y="4572000"/>
              <a:ext cx="914400" cy="609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6" name=""/>
          <p:cNvSpPr/>
          <p:nvPr/>
        </p:nvSpPr>
        <p:spPr>
          <a:xfrm>
            <a:off x="4922640" y="4433760"/>
            <a:ext cx="48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0" y="0"/>
            <a:ext cx="2133720" cy="685800"/>
            <a:chOff x="0" y="0"/>
            <a:chExt cx="2133720" cy="685800"/>
          </a:xfrm>
        </p:grpSpPr>
        <p:sp>
          <p:nvSpPr>
            <p:cNvPr id="198" name=""/>
            <p:cNvSpPr/>
            <p:nvPr/>
          </p:nvSpPr>
          <p:spPr>
            <a:xfrm>
              <a:off x="0" y="0"/>
              <a:ext cx="2133720" cy="685800"/>
            </a:xfrm>
            <a:custGeom>
              <a:avLst/>
              <a:gdLst>
                <a:gd name="textAreaLeft" fmla="*/ 0 w 2133720"/>
                <a:gd name="textAreaRight" fmla="*/ 2134080 w 2133720"/>
                <a:gd name="textAreaTop" fmla="*/ 0 h 685800"/>
                <a:gd name="textAreaBottom" fmla="*/ 686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4320" y="0"/>
                  </a:lnTo>
                  <a:lnTo>
                    <a:pt x="21600" y="10800"/>
                  </a:lnTo>
                  <a:lnTo>
                    <a:pt x="1432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cc00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6320" y="50760"/>
              <a:ext cx="1285560" cy="581400"/>
            </a:xfrm>
            <a:prstGeom prst="rect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做 一 做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447920" y="0"/>
              <a:ext cx="0" cy="68580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" name=""/>
          <p:cNvSpPr/>
          <p:nvPr/>
        </p:nvSpPr>
        <p:spPr>
          <a:xfrm>
            <a:off x="685800" y="2514600"/>
            <a:ext cx="45720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2" name=""/>
          <p:cNvGrpSpPr/>
          <p:nvPr/>
        </p:nvGrpSpPr>
        <p:grpSpPr>
          <a:xfrm>
            <a:off x="2057400" y="838080"/>
            <a:ext cx="5257800" cy="1828440"/>
            <a:chOff x="2057400" y="838080"/>
            <a:chExt cx="5257800" cy="1828440"/>
          </a:xfrm>
        </p:grpSpPr>
        <p:grpSp>
          <p:nvGrpSpPr>
            <p:cNvPr id="203" name=""/>
            <p:cNvGrpSpPr/>
            <p:nvPr/>
          </p:nvGrpSpPr>
          <p:grpSpPr>
            <a:xfrm>
              <a:off x="2057400" y="1828440"/>
              <a:ext cx="380880" cy="838080"/>
              <a:chOff x="2057400" y="1828440"/>
              <a:chExt cx="380880" cy="838080"/>
            </a:xfrm>
          </p:grpSpPr>
          <p:sp>
            <p:nvSpPr>
              <p:cNvPr id="204" name=""/>
              <p:cNvSpPr/>
              <p:nvPr/>
            </p:nvSpPr>
            <p:spPr>
              <a:xfrm>
                <a:off x="2057400" y="2269440"/>
                <a:ext cx="380880" cy="39708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2268720" y="1828440"/>
                <a:ext cx="0" cy="397080"/>
              </a:xfrm>
              <a:prstGeom prst="line">
                <a:avLst/>
              </a:prstGeom>
              <a:ln cap="rnd" w="7632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6" name=""/>
            <p:cNvGrpSpPr/>
            <p:nvPr/>
          </p:nvGrpSpPr>
          <p:grpSpPr>
            <a:xfrm>
              <a:off x="2514600" y="1828440"/>
              <a:ext cx="380880" cy="838080"/>
              <a:chOff x="2514600" y="1828440"/>
              <a:chExt cx="380880" cy="838080"/>
            </a:xfrm>
          </p:grpSpPr>
          <p:sp>
            <p:nvSpPr>
              <p:cNvPr id="207" name=""/>
              <p:cNvSpPr/>
              <p:nvPr/>
            </p:nvSpPr>
            <p:spPr>
              <a:xfrm>
                <a:off x="2514600" y="2269440"/>
                <a:ext cx="380880" cy="39708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2725920" y="1828440"/>
                <a:ext cx="0" cy="397080"/>
              </a:xfrm>
              <a:prstGeom prst="line">
                <a:avLst/>
              </a:prstGeom>
              <a:ln cap="rnd" w="7632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9" name=""/>
            <p:cNvGrpSpPr/>
            <p:nvPr/>
          </p:nvGrpSpPr>
          <p:grpSpPr>
            <a:xfrm>
              <a:off x="3048120" y="1828440"/>
              <a:ext cx="380880" cy="838080"/>
              <a:chOff x="3048120" y="1828440"/>
              <a:chExt cx="380880" cy="838080"/>
            </a:xfrm>
          </p:grpSpPr>
          <p:sp>
            <p:nvSpPr>
              <p:cNvPr id="210" name=""/>
              <p:cNvSpPr/>
              <p:nvPr/>
            </p:nvSpPr>
            <p:spPr>
              <a:xfrm>
                <a:off x="3048120" y="2269440"/>
                <a:ext cx="380880" cy="39708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3259440" y="1828440"/>
                <a:ext cx="0" cy="397080"/>
              </a:xfrm>
              <a:prstGeom prst="line">
                <a:avLst/>
              </a:prstGeom>
              <a:ln cap="rnd" w="7632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2" name=""/>
            <p:cNvGrpSpPr/>
            <p:nvPr/>
          </p:nvGrpSpPr>
          <p:grpSpPr>
            <a:xfrm>
              <a:off x="3581280" y="1828440"/>
              <a:ext cx="381240" cy="838080"/>
              <a:chOff x="3581280" y="1828440"/>
              <a:chExt cx="381240" cy="838080"/>
            </a:xfrm>
          </p:grpSpPr>
          <p:sp>
            <p:nvSpPr>
              <p:cNvPr id="213" name=""/>
              <p:cNvSpPr/>
              <p:nvPr/>
            </p:nvSpPr>
            <p:spPr>
              <a:xfrm>
                <a:off x="3581280" y="2269440"/>
                <a:ext cx="381240" cy="39708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3792960" y="1828440"/>
                <a:ext cx="0" cy="397080"/>
              </a:xfrm>
              <a:prstGeom prst="line">
                <a:avLst/>
              </a:prstGeom>
              <a:ln cap="rnd" w="7632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5" name=""/>
            <p:cNvGrpSpPr/>
            <p:nvPr/>
          </p:nvGrpSpPr>
          <p:grpSpPr>
            <a:xfrm>
              <a:off x="4114800" y="1828440"/>
              <a:ext cx="380880" cy="838080"/>
              <a:chOff x="4114800" y="1828440"/>
              <a:chExt cx="380880" cy="838080"/>
            </a:xfrm>
          </p:grpSpPr>
          <p:sp>
            <p:nvSpPr>
              <p:cNvPr id="216" name=""/>
              <p:cNvSpPr/>
              <p:nvPr/>
            </p:nvSpPr>
            <p:spPr>
              <a:xfrm>
                <a:off x="4114800" y="2269440"/>
                <a:ext cx="380880" cy="39708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4326120" y="1828440"/>
                <a:ext cx="0" cy="397080"/>
              </a:xfrm>
              <a:prstGeom prst="line">
                <a:avLst/>
              </a:prstGeom>
              <a:ln cap="rnd" w="7632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8" name=""/>
            <p:cNvGrpSpPr/>
            <p:nvPr/>
          </p:nvGrpSpPr>
          <p:grpSpPr>
            <a:xfrm>
              <a:off x="4572000" y="1828440"/>
              <a:ext cx="380880" cy="838080"/>
              <a:chOff x="4572000" y="1828440"/>
              <a:chExt cx="380880" cy="838080"/>
            </a:xfrm>
          </p:grpSpPr>
          <p:sp>
            <p:nvSpPr>
              <p:cNvPr id="219" name=""/>
              <p:cNvSpPr/>
              <p:nvPr/>
            </p:nvSpPr>
            <p:spPr>
              <a:xfrm>
                <a:off x="4572000" y="2269440"/>
                <a:ext cx="380880" cy="39708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4783320" y="1828440"/>
                <a:ext cx="0" cy="397080"/>
              </a:xfrm>
              <a:prstGeom prst="line">
                <a:avLst/>
              </a:prstGeom>
              <a:ln cap="rnd" w="7632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1" name=""/>
            <p:cNvSpPr/>
            <p:nvPr/>
          </p:nvSpPr>
          <p:spPr>
            <a:xfrm>
              <a:off x="2117880" y="1066680"/>
              <a:ext cx="380880" cy="35244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602080" y="1066680"/>
              <a:ext cx="380880" cy="35244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086280" y="1066680"/>
              <a:ext cx="380880" cy="35244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571920" y="1066680"/>
              <a:ext cx="380880" cy="35244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056120" y="1066680"/>
              <a:ext cx="380880" cy="35244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540320" y="1066680"/>
              <a:ext cx="380880" cy="35244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479920" y="1066680"/>
              <a:ext cx="381240" cy="35244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964120" y="1066680"/>
              <a:ext cx="381240" cy="35244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448320" y="1066680"/>
              <a:ext cx="381240" cy="35244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934320" y="1066680"/>
              <a:ext cx="380880" cy="35244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257800" y="838080"/>
              <a:ext cx="0" cy="1218960"/>
            </a:xfrm>
            <a:prstGeom prst="line">
              <a:avLst/>
            </a:prstGeom>
            <a:ln w="3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1905120" y="3886200"/>
            <a:ext cx="5638320" cy="1752120"/>
            <a:chOff x="1905120" y="3886200"/>
            <a:chExt cx="5638320" cy="1752120"/>
          </a:xfrm>
        </p:grpSpPr>
        <p:grpSp>
          <p:nvGrpSpPr>
            <p:cNvPr id="233" name=""/>
            <p:cNvGrpSpPr/>
            <p:nvPr/>
          </p:nvGrpSpPr>
          <p:grpSpPr>
            <a:xfrm>
              <a:off x="1905120" y="4191120"/>
              <a:ext cx="5638320" cy="1447200"/>
              <a:chOff x="1905120" y="4191120"/>
              <a:chExt cx="5638320" cy="1447200"/>
            </a:xfrm>
          </p:grpSpPr>
          <p:pic>
            <p:nvPicPr>
              <p:cNvPr id="234" name="蓝碗" descr=""/>
              <p:cNvPicPr/>
              <p:nvPr/>
            </p:nvPicPr>
            <p:blipFill>
              <a:blip r:embed="rId1"/>
              <a:stretch/>
            </p:blipFill>
            <p:spPr>
              <a:xfrm>
                <a:off x="1905120" y="4191120"/>
                <a:ext cx="626400" cy="503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5" name="蓝碗" descr=""/>
              <p:cNvPicPr/>
              <p:nvPr/>
            </p:nvPicPr>
            <p:blipFill>
              <a:blip r:embed="rId2"/>
              <a:stretch/>
            </p:blipFill>
            <p:spPr>
              <a:xfrm>
                <a:off x="2531520" y="4191120"/>
                <a:ext cx="626400" cy="503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6" name="蓝碗" descr=""/>
              <p:cNvPicPr/>
              <p:nvPr/>
            </p:nvPicPr>
            <p:blipFill>
              <a:blip r:embed="rId3"/>
              <a:stretch/>
            </p:blipFill>
            <p:spPr>
              <a:xfrm>
                <a:off x="3157920" y="4191120"/>
                <a:ext cx="626400" cy="503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7" name="蓝碗" descr=""/>
              <p:cNvPicPr/>
              <p:nvPr/>
            </p:nvPicPr>
            <p:blipFill>
              <a:blip r:embed="rId4"/>
              <a:stretch/>
            </p:blipFill>
            <p:spPr>
              <a:xfrm>
                <a:off x="3784680" y="4191120"/>
                <a:ext cx="626400" cy="503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8" name="蓝碗" descr=""/>
              <p:cNvPicPr/>
              <p:nvPr/>
            </p:nvPicPr>
            <p:blipFill>
              <a:blip r:embed="rId5"/>
              <a:stretch/>
            </p:blipFill>
            <p:spPr>
              <a:xfrm>
                <a:off x="4411080" y="4191120"/>
                <a:ext cx="626400" cy="503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9" name="黄碗" descr=""/>
              <p:cNvPicPr/>
              <p:nvPr/>
            </p:nvPicPr>
            <p:blipFill>
              <a:blip r:embed="rId6"/>
              <a:stretch/>
            </p:blipFill>
            <p:spPr>
              <a:xfrm>
                <a:off x="1905120" y="5135040"/>
                <a:ext cx="626400" cy="503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0" name="黄碗" descr=""/>
              <p:cNvPicPr/>
              <p:nvPr/>
            </p:nvPicPr>
            <p:blipFill>
              <a:blip r:embed="rId7"/>
              <a:stretch/>
            </p:blipFill>
            <p:spPr>
              <a:xfrm>
                <a:off x="2531520" y="5135040"/>
                <a:ext cx="626400" cy="503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1" name="黄碗" descr=""/>
              <p:cNvPicPr/>
              <p:nvPr/>
            </p:nvPicPr>
            <p:blipFill>
              <a:blip r:embed="rId8"/>
              <a:stretch/>
            </p:blipFill>
            <p:spPr>
              <a:xfrm>
                <a:off x="3157920" y="5135040"/>
                <a:ext cx="626400" cy="503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2" name="黄碗" descr=""/>
              <p:cNvPicPr/>
              <p:nvPr/>
            </p:nvPicPr>
            <p:blipFill>
              <a:blip r:embed="rId9"/>
              <a:stretch/>
            </p:blipFill>
            <p:spPr>
              <a:xfrm>
                <a:off x="3784680" y="5135040"/>
                <a:ext cx="626400" cy="503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3" name="黄碗" descr=""/>
              <p:cNvPicPr/>
              <p:nvPr/>
            </p:nvPicPr>
            <p:blipFill>
              <a:blip r:embed="rId10"/>
              <a:stretch/>
            </p:blipFill>
            <p:spPr>
              <a:xfrm>
                <a:off x="4463280" y="5135040"/>
                <a:ext cx="626400" cy="503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4" name="蓝碗" descr=""/>
              <p:cNvPicPr/>
              <p:nvPr/>
            </p:nvPicPr>
            <p:blipFill>
              <a:blip r:embed="rId11"/>
              <a:stretch/>
            </p:blipFill>
            <p:spPr>
              <a:xfrm>
                <a:off x="6290640" y="4191120"/>
                <a:ext cx="626400" cy="503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5" name="蓝碗" descr=""/>
              <p:cNvPicPr/>
              <p:nvPr/>
            </p:nvPicPr>
            <p:blipFill>
              <a:blip r:embed="rId12"/>
              <a:stretch/>
            </p:blipFill>
            <p:spPr>
              <a:xfrm>
                <a:off x="5664240" y="4191120"/>
                <a:ext cx="626400" cy="503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6" name="蓝碗" descr=""/>
              <p:cNvPicPr/>
              <p:nvPr/>
            </p:nvPicPr>
            <p:blipFill>
              <a:blip r:embed="rId13"/>
              <a:stretch/>
            </p:blipFill>
            <p:spPr>
              <a:xfrm>
                <a:off x="6917040" y="4191120"/>
                <a:ext cx="626400" cy="5032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47" name=""/>
            <p:cNvSpPr/>
            <p:nvPr/>
          </p:nvSpPr>
          <p:spPr>
            <a:xfrm>
              <a:off x="5410080" y="3886200"/>
              <a:ext cx="0" cy="11430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tub" descr=""/>
          <p:cNvPicPr/>
          <p:nvPr/>
        </p:nvPicPr>
        <p:blipFill>
          <a:blip r:embed="rId1"/>
          <a:stretch/>
        </p:blipFill>
        <p:spPr>
          <a:xfrm>
            <a:off x="1371600" y="2971800"/>
            <a:ext cx="587520" cy="838080"/>
          </a:xfrm>
          <a:prstGeom prst="rect">
            <a:avLst/>
          </a:prstGeom>
          <a:ln w="0">
            <a:noFill/>
          </a:ln>
        </p:spPr>
      </p:pic>
      <p:pic>
        <p:nvPicPr>
          <p:cNvPr id="249" name="tuh" descr=""/>
          <p:cNvPicPr/>
          <p:nvPr/>
        </p:nvPicPr>
        <p:blipFill>
          <a:blip r:embed="rId2"/>
          <a:stretch/>
        </p:blipFill>
        <p:spPr>
          <a:xfrm>
            <a:off x="1295280" y="3962520"/>
            <a:ext cx="586080" cy="83808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/>
          <p:nvPr/>
        </p:nvSpPr>
        <p:spPr>
          <a:xfrm>
            <a:off x="2521440" y="380880"/>
            <a:ext cx="4793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学校里养了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只白兔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只黑兔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666440" y="1219320"/>
            <a:ext cx="3245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白兔比黑兔多几只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2" name="tub" descr=""/>
          <p:cNvPicPr/>
          <p:nvPr/>
        </p:nvPicPr>
        <p:blipFill>
          <a:blip r:embed="rId3"/>
          <a:stretch/>
        </p:blipFill>
        <p:spPr>
          <a:xfrm>
            <a:off x="1954080" y="2971800"/>
            <a:ext cx="587520" cy="838080"/>
          </a:xfrm>
          <a:prstGeom prst="rect">
            <a:avLst/>
          </a:prstGeom>
          <a:ln w="0">
            <a:noFill/>
          </a:ln>
        </p:spPr>
      </p:pic>
      <p:pic>
        <p:nvPicPr>
          <p:cNvPr id="253" name="tub" descr=""/>
          <p:cNvPicPr/>
          <p:nvPr/>
        </p:nvPicPr>
        <p:blipFill>
          <a:blip r:embed="rId4"/>
          <a:stretch/>
        </p:blipFill>
        <p:spPr>
          <a:xfrm>
            <a:off x="2536920" y="2971800"/>
            <a:ext cx="587160" cy="838080"/>
          </a:xfrm>
          <a:prstGeom prst="rect">
            <a:avLst/>
          </a:prstGeom>
          <a:ln w="0">
            <a:noFill/>
          </a:ln>
        </p:spPr>
      </p:pic>
      <p:pic>
        <p:nvPicPr>
          <p:cNvPr id="254" name="tub" descr=""/>
          <p:cNvPicPr/>
          <p:nvPr/>
        </p:nvPicPr>
        <p:blipFill>
          <a:blip r:embed="rId5"/>
          <a:stretch/>
        </p:blipFill>
        <p:spPr>
          <a:xfrm>
            <a:off x="3117960" y="2971800"/>
            <a:ext cx="587160" cy="838080"/>
          </a:xfrm>
          <a:prstGeom prst="rect">
            <a:avLst/>
          </a:prstGeom>
          <a:ln w="0">
            <a:noFill/>
          </a:ln>
        </p:spPr>
      </p:pic>
      <p:pic>
        <p:nvPicPr>
          <p:cNvPr id="255" name="tub" descr=""/>
          <p:cNvPicPr/>
          <p:nvPr/>
        </p:nvPicPr>
        <p:blipFill>
          <a:blip r:embed="rId6"/>
          <a:stretch/>
        </p:blipFill>
        <p:spPr>
          <a:xfrm>
            <a:off x="3700440" y="2971800"/>
            <a:ext cx="587520" cy="838080"/>
          </a:xfrm>
          <a:prstGeom prst="rect">
            <a:avLst/>
          </a:prstGeom>
          <a:ln w="0">
            <a:noFill/>
          </a:ln>
        </p:spPr>
      </p:pic>
      <p:pic>
        <p:nvPicPr>
          <p:cNvPr id="256" name="tub" descr=""/>
          <p:cNvPicPr/>
          <p:nvPr/>
        </p:nvPicPr>
        <p:blipFill>
          <a:blip r:embed="rId7"/>
          <a:stretch/>
        </p:blipFill>
        <p:spPr>
          <a:xfrm>
            <a:off x="4281480" y="2971800"/>
            <a:ext cx="587520" cy="838080"/>
          </a:xfrm>
          <a:prstGeom prst="rect">
            <a:avLst/>
          </a:prstGeom>
          <a:ln w="0">
            <a:noFill/>
          </a:ln>
        </p:spPr>
      </p:pic>
      <p:pic>
        <p:nvPicPr>
          <p:cNvPr id="257" name="tub" descr=""/>
          <p:cNvPicPr/>
          <p:nvPr/>
        </p:nvPicPr>
        <p:blipFill>
          <a:blip r:embed="rId8"/>
          <a:stretch/>
        </p:blipFill>
        <p:spPr>
          <a:xfrm>
            <a:off x="4863960" y="2971800"/>
            <a:ext cx="587520" cy="838080"/>
          </a:xfrm>
          <a:prstGeom prst="rect">
            <a:avLst/>
          </a:prstGeom>
          <a:ln w="0">
            <a:noFill/>
          </a:ln>
        </p:spPr>
      </p:pic>
      <p:pic>
        <p:nvPicPr>
          <p:cNvPr id="258" name="tub" descr=""/>
          <p:cNvPicPr/>
          <p:nvPr/>
        </p:nvPicPr>
        <p:blipFill>
          <a:blip r:embed="rId9"/>
          <a:stretch/>
        </p:blipFill>
        <p:spPr>
          <a:xfrm>
            <a:off x="5445000" y="2971800"/>
            <a:ext cx="587520" cy="838080"/>
          </a:xfrm>
          <a:prstGeom prst="rect">
            <a:avLst/>
          </a:prstGeom>
          <a:ln w="0">
            <a:noFill/>
          </a:ln>
        </p:spPr>
      </p:pic>
      <p:pic>
        <p:nvPicPr>
          <p:cNvPr id="259" name="tub" descr=""/>
          <p:cNvPicPr/>
          <p:nvPr/>
        </p:nvPicPr>
        <p:blipFill>
          <a:blip r:embed="rId10"/>
          <a:stretch/>
        </p:blipFill>
        <p:spPr>
          <a:xfrm>
            <a:off x="6027840" y="2971800"/>
            <a:ext cx="587160" cy="838080"/>
          </a:xfrm>
          <a:prstGeom prst="rect">
            <a:avLst/>
          </a:prstGeom>
          <a:ln w="0">
            <a:noFill/>
          </a:ln>
        </p:spPr>
      </p:pic>
      <p:pic>
        <p:nvPicPr>
          <p:cNvPr id="260" name="tub" descr=""/>
          <p:cNvPicPr/>
          <p:nvPr/>
        </p:nvPicPr>
        <p:blipFill>
          <a:blip r:embed="rId11"/>
          <a:stretch/>
        </p:blipFill>
        <p:spPr>
          <a:xfrm>
            <a:off x="6608880" y="2971800"/>
            <a:ext cx="587160" cy="838080"/>
          </a:xfrm>
          <a:prstGeom prst="rect">
            <a:avLst/>
          </a:prstGeom>
          <a:ln w="0">
            <a:noFill/>
          </a:ln>
        </p:spPr>
      </p:pic>
      <p:pic>
        <p:nvPicPr>
          <p:cNvPr id="261" name="tub" descr=""/>
          <p:cNvPicPr/>
          <p:nvPr/>
        </p:nvPicPr>
        <p:blipFill>
          <a:blip r:embed="rId12"/>
          <a:stretch/>
        </p:blipFill>
        <p:spPr>
          <a:xfrm>
            <a:off x="7191360" y="2971800"/>
            <a:ext cx="587520" cy="838080"/>
          </a:xfrm>
          <a:prstGeom prst="rect">
            <a:avLst/>
          </a:prstGeom>
          <a:ln w="0">
            <a:noFill/>
          </a:ln>
        </p:spPr>
      </p:pic>
      <p:pic>
        <p:nvPicPr>
          <p:cNvPr id="262" name="tub" descr=""/>
          <p:cNvPicPr/>
          <p:nvPr/>
        </p:nvPicPr>
        <p:blipFill>
          <a:blip r:embed="rId13"/>
          <a:stretch/>
        </p:blipFill>
        <p:spPr>
          <a:xfrm>
            <a:off x="7772400" y="2971800"/>
            <a:ext cx="587520" cy="838080"/>
          </a:xfrm>
          <a:prstGeom prst="rect">
            <a:avLst/>
          </a:prstGeom>
          <a:ln w="0">
            <a:noFill/>
          </a:ln>
        </p:spPr>
      </p:pic>
      <p:pic>
        <p:nvPicPr>
          <p:cNvPr id="263" name="tuh" descr=""/>
          <p:cNvPicPr/>
          <p:nvPr/>
        </p:nvPicPr>
        <p:blipFill>
          <a:blip r:embed="rId14"/>
          <a:stretch/>
        </p:blipFill>
        <p:spPr>
          <a:xfrm>
            <a:off x="1892160" y="3962520"/>
            <a:ext cx="586080" cy="838080"/>
          </a:xfrm>
          <a:prstGeom prst="rect">
            <a:avLst/>
          </a:prstGeom>
          <a:ln w="0">
            <a:noFill/>
          </a:ln>
        </p:spPr>
      </p:pic>
      <p:pic>
        <p:nvPicPr>
          <p:cNvPr id="264" name="tuh" descr=""/>
          <p:cNvPicPr/>
          <p:nvPr/>
        </p:nvPicPr>
        <p:blipFill>
          <a:blip r:embed="rId15"/>
          <a:stretch/>
        </p:blipFill>
        <p:spPr>
          <a:xfrm>
            <a:off x="2489040" y="3962520"/>
            <a:ext cx="586080" cy="838080"/>
          </a:xfrm>
          <a:prstGeom prst="rect">
            <a:avLst/>
          </a:prstGeom>
          <a:ln w="0">
            <a:noFill/>
          </a:ln>
        </p:spPr>
      </p:pic>
      <p:pic>
        <p:nvPicPr>
          <p:cNvPr id="265" name="tuh" descr=""/>
          <p:cNvPicPr/>
          <p:nvPr/>
        </p:nvPicPr>
        <p:blipFill>
          <a:blip r:embed="rId16"/>
          <a:stretch/>
        </p:blipFill>
        <p:spPr>
          <a:xfrm>
            <a:off x="3086280" y="3962520"/>
            <a:ext cx="585720" cy="838080"/>
          </a:xfrm>
          <a:prstGeom prst="rect">
            <a:avLst/>
          </a:prstGeom>
          <a:ln w="0">
            <a:noFill/>
          </a:ln>
        </p:spPr>
      </p:pic>
      <p:pic>
        <p:nvPicPr>
          <p:cNvPr id="266" name="tuh" descr=""/>
          <p:cNvPicPr/>
          <p:nvPr/>
        </p:nvPicPr>
        <p:blipFill>
          <a:blip r:embed="rId17"/>
          <a:stretch/>
        </p:blipFill>
        <p:spPr>
          <a:xfrm>
            <a:off x="3683160" y="3962520"/>
            <a:ext cx="585720" cy="838080"/>
          </a:xfrm>
          <a:prstGeom prst="rect">
            <a:avLst/>
          </a:prstGeom>
          <a:ln w="0">
            <a:noFill/>
          </a:ln>
        </p:spPr>
      </p:pic>
      <p:pic>
        <p:nvPicPr>
          <p:cNvPr id="267" name="tuh" descr=""/>
          <p:cNvPicPr/>
          <p:nvPr/>
        </p:nvPicPr>
        <p:blipFill>
          <a:blip r:embed="rId18"/>
          <a:stretch/>
        </p:blipFill>
        <p:spPr>
          <a:xfrm>
            <a:off x="4280040" y="3962520"/>
            <a:ext cx="585720" cy="838080"/>
          </a:xfrm>
          <a:prstGeom prst="rect">
            <a:avLst/>
          </a:prstGeom>
          <a:ln w="0">
            <a:noFill/>
          </a:ln>
        </p:spPr>
      </p:pic>
      <p:pic>
        <p:nvPicPr>
          <p:cNvPr id="268" name="tuh" descr=""/>
          <p:cNvPicPr/>
          <p:nvPr/>
        </p:nvPicPr>
        <p:blipFill>
          <a:blip r:embed="rId19"/>
          <a:stretch/>
        </p:blipFill>
        <p:spPr>
          <a:xfrm>
            <a:off x="4876920" y="3962520"/>
            <a:ext cx="585720" cy="83808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990720" y="1905120"/>
            <a:ext cx="43434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324480" y="1066680"/>
            <a:ext cx="2210040" cy="76320"/>
          </a:xfrm>
          <a:custGeom>
            <a:avLst/>
            <a:gdLst/>
            <a:ahLst/>
            <a:rect l="l" t="t" r="r" b="b"/>
            <a:pathLst>
              <a:path w="1608" h="132">
                <a:moveTo>
                  <a:pt x="0" y="0"/>
                </a:moveTo>
                <a:cubicBezTo>
                  <a:pt x="3" y="16"/>
                  <a:pt x="10" y="104"/>
                  <a:pt x="36" y="120"/>
                </a:cubicBezTo>
                <a:cubicBezTo>
                  <a:pt x="47" y="127"/>
                  <a:pt x="60" y="112"/>
                  <a:pt x="72" y="108"/>
                </a:cubicBezTo>
                <a:cubicBezTo>
                  <a:pt x="92" y="49"/>
                  <a:pt x="69" y="33"/>
                  <a:pt x="132" y="12"/>
                </a:cubicBezTo>
                <a:cubicBezTo>
                  <a:pt x="185" y="47"/>
                  <a:pt x="177" y="59"/>
                  <a:pt x="192" y="120"/>
                </a:cubicBezTo>
                <a:cubicBezTo>
                  <a:pt x="204" y="112"/>
                  <a:pt x="219" y="107"/>
                  <a:pt x="228" y="96"/>
                </a:cubicBezTo>
                <a:cubicBezTo>
                  <a:pt x="255" y="62"/>
                  <a:pt x="221" y="53"/>
                  <a:pt x="264" y="24"/>
                </a:cubicBezTo>
                <a:cubicBezTo>
                  <a:pt x="278" y="15"/>
                  <a:pt x="296" y="16"/>
                  <a:pt x="312" y="12"/>
                </a:cubicBezTo>
                <a:cubicBezTo>
                  <a:pt x="367" y="95"/>
                  <a:pt x="351" y="57"/>
                  <a:pt x="372" y="120"/>
                </a:cubicBezTo>
                <a:cubicBezTo>
                  <a:pt x="384" y="104"/>
                  <a:pt x="399" y="90"/>
                  <a:pt x="408" y="72"/>
                </a:cubicBezTo>
                <a:cubicBezTo>
                  <a:pt x="441" y="6"/>
                  <a:pt x="390" y="34"/>
                  <a:pt x="456" y="12"/>
                </a:cubicBezTo>
                <a:cubicBezTo>
                  <a:pt x="529" y="30"/>
                  <a:pt x="499" y="8"/>
                  <a:pt x="528" y="96"/>
                </a:cubicBezTo>
                <a:cubicBezTo>
                  <a:pt x="532" y="108"/>
                  <a:pt x="540" y="132"/>
                  <a:pt x="540" y="132"/>
                </a:cubicBezTo>
                <a:cubicBezTo>
                  <a:pt x="576" y="78"/>
                  <a:pt x="569" y="34"/>
                  <a:pt x="636" y="12"/>
                </a:cubicBezTo>
                <a:cubicBezTo>
                  <a:pt x="689" y="47"/>
                  <a:pt x="677" y="64"/>
                  <a:pt x="696" y="120"/>
                </a:cubicBezTo>
                <a:cubicBezTo>
                  <a:pt x="708" y="104"/>
                  <a:pt x="715" y="83"/>
                  <a:pt x="732" y="72"/>
                </a:cubicBezTo>
                <a:cubicBezTo>
                  <a:pt x="753" y="58"/>
                  <a:pt x="804" y="48"/>
                  <a:pt x="804" y="48"/>
                </a:cubicBezTo>
                <a:cubicBezTo>
                  <a:pt x="816" y="56"/>
                  <a:pt x="831" y="61"/>
                  <a:pt x="840" y="72"/>
                </a:cubicBezTo>
                <a:cubicBezTo>
                  <a:pt x="848" y="82"/>
                  <a:pt x="839" y="108"/>
                  <a:pt x="852" y="108"/>
                </a:cubicBezTo>
                <a:cubicBezTo>
                  <a:pt x="865" y="108"/>
                  <a:pt x="859" y="84"/>
                  <a:pt x="864" y="72"/>
                </a:cubicBezTo>
                <a:cubicBezTo>
                  <a:pt x="871" y="56"/>
                  <a:pt x="880" y="40"/>
                  <a:pt x="888" y="24"/>
                </a:cubicBezTo>
                <a:cubicBezTo>
                  <a:pt x="899" y="26"/>
                  <a:pt x="978" y="40"/>
                  <a:pt x="984" y="48"/>
                </a:cubicBezTo>
                <a:cubicBezTo>
                  <a:pt x="999" y="69"/>
                  <a:pt x="1008" y="120"/>
                  <a:pt x="1008" y="120"/>
                </a:cubicBezTo>
                <a:cubicBezTo>
                  <a:pt x="1020" y="104"/>
                  <a:pt x="1027" y="83"/>
                  <a:pt x="1044" y="72"/>
                </a:cubicBezTo>
                <a:cubicBezTo>
                  <a:pt x="1065" y="58"/>
                  <a:pt x="1116" y="48"/>
                  <a:pt x="1116" y="48"/>
                </a:cubicBezTo>
                <a:cubicBezTo>
                  <a:pt x="1136" y="52"/>
                  <a:pt x="1162" y="46"/>
                  <a:pt x="1176" y="60"/>
                </a:cubicBezTo>
                <a:cubicBezTo>
                  <a:pt x="1194" y="78"/>
                  <a:pt x="1200" y="132"/>
                  <a:pt x="1200" y="132"/>
                </a:cubicBezTo>
                <a:cubicBezTo>
                  <a:pt x="1212" y="120"/>
                  <a:pt x="1227" y="110"/>
                  <a:pt x="1236" y="96"/>
                </a:cubicBezTo>
                <a:cubicBezTo>
                  <a:pt x="1243" y="85"/>
                  <a:pt x="1239" y="69"/>
                  <a:pt x="1248" y="60"/>
                </a:cubicBezTo>
                <a:cubicBezTo>
                  <a:pt x="1257" y="51"/>
                  <a:pt x="1273" y="54"/>
                  <a:pt x="1284" y="48"/>
                </a:cubicBezTo>
                <a:cubicBezTo>
                  <a:pt x="1297" y="42"/>
                  <a:pt x="1308" y="32"/>
                  <a:pt x="1320" y="24"/>
                </a:cubicBezTo>
                <a:cubicBezTo>
                  <a:pt x="1332" y="28"/>
                  <a:pt x="1349" y="26"/>
                  <a:pt x="1356" y="36"/>
                </a:cubicBezTo>
                <a:cubicBezTo>
                  <a:pt x="1371" y="57"/>
                  <a:pt x="1380" y="108"/>
                  <a:pt x="1380" y="108"/>
                </a:cubicBezTo>
                <a:cubicBezTo>
                  <a:pt x="1396" y="104"/>
                  <a:pt x="1415" y="106"/>
                  <a:pt x="1428" y="96"/>
                </a:cubicBezTo>
                <a:cubicBezTo>
                  <a:pt x="1438" y="88"/>
                  <a:pt x="1431" y="69"/>
                  <a:pt x="1440" y="60"/>
                </a:cubicBezTo>
                <a:cubicBezTo>
                  <a:pt x="1449" y="51"/>
                  <a:pt x="1464" y="52"/>
                  <a:pt x="1476" y="48"/>
                </a:cubicBezTo>
                <a:cubicBezTo>
                  <a:pt x="1480" y="36"/>
                  <a:pt x="1475" y="14"/>
                  <a:pt x="1488" y="12"/>
                </a:cubicBezTo>
                <a:cubicBezTo>
                  <a:pt x="1513" y="8"/>
                  <a:pt x="1560" y="36"/>
                  <a:pt x="1560" y="36"/>
                </a:cubicBezTo>
                <a:cubicBezTo>
                  <a:pt x="1571" y="70"/>
                  <a:pt x="1582" y="106"/>
                  <a:pt x="1608" y="132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066680" y="1066680"/>
            <a:ext cx="2590920" cy="76320"/>
          </a:xfrm>
          <a:custGeom>
            <a:avLst/>
            <a:gdLst/>
            <a:ahLst/>
            <a:rect l="l" t="t" r="r" b="b"/>
            <a:pathLst>
              <a:path w="1608" h="132">
                <a:moveTo>
                  <a:pt x="0" y="0"/>
                </a:moveTo>
                <a:cubicBezTo>
                  <a:pt x="3" y="16"/>
                  <a:pt x="10" y="104"/>
                  <a:pt x="36" y="120"/>
                </a:cubicBezTo>
                <a:cubicBezTo>
                  <a:pt x="47" y="127"/>
                  <a:pt x="60" y="112"/>
                  <a:pt x="72" y="108"/>
                </a:cubicBezTo>
                <a:cubicBezTo>
                  <a:pt x="92" y="49"/>
                  <a:pt x="69" y="33"/>
                  <a:pt x="132" y="12"/>
                </a:cubicBezTo>
                <a:cubicBezTo>
                  <a:pt x="185" y="47"/>
                  <a:pt x="177" y="59"/>
                  <a:pt x="192" y="120"/>
                </a:cubicBezTo>
                <a:cubicBezTo>
                  <a:pt x="204" y="112"/>
                  <a:pt x="219" y="107"/>
                  <a:pt x="228" y="96"/>
                </a:cubicBezTo>
                <a:cubicBezTo>
                  <a:pt x="255" y="62"/>
                  <a:pt x="221" y="53"/>
                  <a:pt x="264" y="24"/>
                </a:cubicBezTo>
                <a:cubicBezTo>
                  <a:pt x="278" y="15"/>
                  <a:pt x="296" y="16"/>
                  <a:pt x="312" y="12"/>
                </a:cubicBezTo>
                <a:cubicBezTo>
                  <a:pt x="367" y="95"/>
                  <a:pt x="351" y="57"/>
                  <a:pt x="372" y="120"/>
                </a:cubicBezTo>
                <a:cubicBezTo>
                  <a:pt x="384" y="104"/>
                  <a:pt x="399" y="90"/>
                  <a:pt x="408" y="72"/>
                </a:cubicBezTo>
                <a:cubicBezTo>
                  <a:pt x="441" y="6"/>
                  <a:pt x="390" y="34"/>
                  <a:pt x="456" y="12"/>
                </a:cubicBezTo>
                <a:cubicBezTo>
                  <a:pt x="529" y="30"/>
                  <a:pt x="499" y="8"/>
                  <a:pt x="528" y="96"/>
                </a:cubicBezTo>
                <a:cubicBezTo>
                  <a:pt x="532" y="108"/>
                  <a:pt x="540" y="132"/>
                  <a:pt x="540" y="132"/>
                </a:cubicBezTo>
                <a:cubicBezTo>
                  <a:pt x="576" y="78"/>
                  <a:pt x="569" y="34"/>
                  <a:pt x="636" y="12"/>
                </a:cubicBezTo>
                <a:cubicBezTo>
                  <a:pt x="689" y="47"/>
                  <a:pt x="677" y="64"/>
                  <a:pt x="696" y="120"/>
                </a:cubicBezTo>
                <a:cubicBezTo>
                  <a:pt x="708" y="104"/>
                  <a:pt x="715" y="83"/>
                  <a:pt x="732" y="72"/>
                </a:cubicBezTo>
                <a:cubicBezTo>
                  <a:pt x="753" y="58"/>
                  <a:pt x="804" y="48"/>
                  <a:pt x="804" y="48"/>
                </a:cubicBezTo>
                <a:cubicBezTo>
                  <a:pt x="816" y="56"/>
                  <a:pt x="831" y="61"/>
                  <a:pt x="840" y="72"/>
                </a:cubicBezTo>
                <a:cubicBezTo>
                  <a:pt x="848" y="82"/>
                  <a:pt x="839" y="108"/>
                  <a:pt x="852" y="108"/>
                </a:cubicBezTo>
                <a:cubicBezTo>
                  <a:pt x="865" y="108"/>
                  <a:pt x="859" y="84"/>
                  <a:pt x="864" y="72"/>
                </a:cubicBezTo>
                <a:cubicBezTo>
                  <a:pt x="871" y="56"/>
                  <a:pt x="880" y="40"/>
                  <a:pt x="888" y="24"/>
                </a:cubicBezTo>
                <a:cubicBezTo>
                  <a:pt x="899" y="26"/>
                  <a:pt x="978" y="40"/>
                  <a:pt x="984" y="48"/>
                </a:cubicBezTo>
                <a:cubicBezTo>
                  <a:pt x="999" y="69"/>
                  <a:pt x="1008" y="120"/>
                  <a:pt x="1008" y="120"/>
                </a:cubicBezTo>
                <a:cubicBezTo>
                  <a:pt x="1020" y="104"/>
                  <a:pt x="1027" y="83"/>
                  <a:pt x="1044" y="72"/>
                </a:cubicBezTo>
                <a:cubicBezTo>
                  <a:pt x="1065" y="58"/>
                  <a:pt x="1116" y="48"/>
                  <a:pt x="1116" y="48"/>
                </a:cubicBezTo>
                <a:cubicBezTo>
                  <a:pt x="1136" y="52"/>
                  <a:pt x="1162" y="46"/>
                  <a:pt x="1176" y="60"/>
                </a:cubicBezTo>
                <a:cubicBezTo>
                  <a:pt x="1194" y="78"/>
                  <a:pt x="1200" y="132"/>
                  <a:pt x="1200" y="132"/>
                </a:cubicBezTo>
                <a:cubicBezTo>
                  <a:pt x="1212" y="120"/>
                  <a:pt x="1227" y="110"/>
                  <a:pt x="1236" y="96"/>
                </a:cubicBezTo>
                <a:cubicBezTo>
                  <a:pt x="1243" y="85"/>
                  <a:pt x="1239" y="69"/>
                  <a:pt x="1248" y="60"/>
                </a:cubicBezTo>
                <a:cubicBezTo>
                  <a:pt x="1257" y="51"/>
                  <a:pt x="1273" y="54"/>
                  <a:pt x="1284" y="48"/>
                </a:cubicBezTo>
                <a:cubicBezTo>
                  <a:pt x="1297" y="42"/>
                  <a:pt x="1308" y="32"/>
                  <a:pt x="1320" y="24"/>
                </a:cubicBezTo>
                <a:cubicBezTo>
                  <a:pt x="1332" y="28"/>
                  <a:pt x="1349" y="26"/>
                  <a:pt x="1356" y="36"/>
                </a:cubicBezTo>
                <a:cubicBezTo>
                  <a:pt x="1371" y="57"/>
                  <a:pt x="1380" y="108"/>
                  <a:pt x="1380" y="108"/>
                </a:cubicBezTo>
                <a:cubicBezTo>
                  <a:pt x="1396" y="104"/>
                  <a:pt x="1415" y="106"/>
                  <a:pt x="1428" y="96"/>
                </a:cubicBezTo>
                <a:cubicBezTo>
                  <a:pt x="1438" y="88"/>
                  <a:pt x="1431" y="69"/>
                  <a:pt x="1440" y="60"/>
                </a:cubicBezTo>
                <a:cubicBezTo>
                  <a:pt x="1449" y="51"/>
                  <a:pt x="1464" y="52"/>
                  <a:pt x="1476" y="48"/>
                </a:cubicBezTo>
                <a:cubicBezTo>
                  <a:pt x="1480" y="36"/>
                  <a:pt x="1475" y="14"/>
                  <a:pt x="1488" y="12"/>
                </a:cubicBezTo>
                <a:cubicBezTo>
                  <a:pt x="1513" y="8"/>
                  <a:pt x="1560" y="36"/>
                  <a:pt x="1560" y="36"/>
                </a:cubicBezTo>
                <a:cubicBezTo>
                  <a:pt x="1571" y="70"/>
                  <a:pt x="1582" y="106"/>
                  <a:pt x="1608" y="132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657600" y="1066680"/>
            <a:ext cx="2209680" cy="76320"/>
          </a:xfrm>
          <a:custGeom>
            <a:avLst/>
            <a:gdLst/>
            <a:ahLst/>
            <a:rect l="l" t="t" r="r" b="b"/>
            <a:pathLst>
              <a:path w="1608" h="132">
                <a:moveTo>
                  <a:pt x="0" y="0"/>
                </a:moveTo>
                <a:cubicBezTo>
                  <a:pt x="3" y="16"/>
                  <a:pt x="10" y="104"/>
                  <a:pt x="36" y="120"/>
                </a:cubicBezTo>
                <a:cubicBezTo>
                  <a:pt x="47" y="127"/>
                  <a:pt x="60" y="112"/>
                  <a:pt x="72" y="108"/>
                </a:cubicBezTo>
                <a:cubicBezTo>
                  <a:pt x="92" y="49"/>
                  <a:pt x="69" y="33"/>
                  <a:pt x="132" y="12"/>
                </a:cubicBezTo>
                <a:cubicBezTo>
                  <a:pt x="185" y="47"/>
                  <a:pt x="177" y="59"/>
                  <a:pt x="192" y="120"/>
                </a:cubicBezTo>
                <a:cubicBezTo>
                  <a:pt x="204" y="112"/>
                  <a:pt x="219" y="107"/>
                  <a:pt x="228" y="96"/>
                </a:cubicBezTo>
                <a:cubicBezTo>
                  <a:pt x="255" y="62"/>
                  <a:pt x="221" y="53"/>
                  <a:pt x="264" y="24"/>
                </a:cubicBezTo>
                <a:cubicBezTo>
                  <a:pt x="278" y="15"/>
                  <a:pt x="296" y="16"/>
                  <a:pt x="312" y="12"/>
                </a:cubicBezTo>
                <a:cubicBezTo>
                  <a:pt x="367" y="95"/>
                  <a:pt x="351" y="57"/>
                  <a:pt x="372" y="120"/>
                </a:cubicBezTo>
                <a:cubicBezTo>
                  <a:pt x="384" y="104"/>
                  <a:pt x="399" y="90"/>
                  <a:pt x="408" y="72"/>
                </a:cubicBezTo>
                <a:cubicBezTo>
                  <a:pt x="441" y="6"/>
                  <a:pt x="390" y="34"/>
                  <a:pt x="456" y="12"/>
                </a:cubicBezTo>
                <a:cubicBezTo>
                  <a:pt x="529" y="30"/>
                  <a:pt x="499" y="8"/>
                  <a:pt x="528" y="96"/>
                </a:cubicBezTo>
                <a:cubicBezTo>
                  <a:pt x="532" y="108"/>
                  <a:pt x="540" y="132"/>
                  <a:pt x="540" y="132"/>
                </a:cubicBezTo>
                <a:cubicBezTo>
                  <a:pt x="576" y="78"/>
                  <a:pt x="569" y="34"/>
                  <a:pt x="636" y="12"/>
                </a:cubicBezTo>
                <a:cubicBezTo>
                  <a:pt x="689" y="47"/>
                  <a:pt x="677" y="64"/>
                  <a:pt x="696" y="120"/>
                </a:cubicBezTo>
                <a:cubicBezTo>
                  <a:pt x="708" y="104"/>
                  <a:pt x="715" y="83"/>
                  <a:pt x="732" y="72"/>
                </a:cubicBezTo>
                <a:cubicBezTo>
                  <a:pt x="753" y="58"/>
                  <a:pt x="804" y="48"/>
                  <a:pt x="804" y="48"/>
                </a:cubicBezTo>
                <a:cubicBezTo>
                  <a:pt x="816" y="56"/>
                  <a:pt x="831" y="61"/>
                  <a:pt x="840" y="72"/>
                </a:cubicBezTo>
                <a:cubicBezTo>
                  <a:pt x="848" y="82"/>
                  <a:pt x="839" y="108"/>
                  <a:pt x="852" y="108"/>
                </a:cubicBezTo>
                <a:cubicBezTo>
                  <a:pt x="865" y="108"/>
                  <a:pt x="859" y="84"/>
                  <a:pt x="864" y="72"/>
                </a:cubicBezTo>
                <a:cubicBezTo>
                  <a:pt x="871" y="56"/>
                  <a:pt x="880" y="40"/>
                  <a:pt x="888" y="24"/>
                </a:cubicBezTo>
                <a:cubicBezTo>
                  <a:pt x="899" y="26"/>
                  <a:pt x="978" y="40"/>
                  <a:pt x="984" y="48"/>
                </a:cubicBezTo>
                <a:cubicBezTo>
                  <a:pt x="999" y="69"/>
                  <a:pt x="1008" y="120"/>
                  <a:pt x="1008" y="120"/>
                </a:cubicBezTo>
                <a:cubicBezTo>
                  <a:pt x="1020" y="104"/>
                  <a:pt x="1027" y="83"/>
                  <a:pt x="1044" y="72"/>
                </a:cubicBezTo>
                <a:cubicBezTo>
                  <a:pt x="1065" y="58"/>
                  <a:pt x="1116" y="48"/>
                  <a:pt x="1116" y="48"/>
                </a:cubicBezTo>
                <a:cubicBezTo>
                  <a:pt x="1136" y="52"/>
                  <a:pt x="1162" y="46"/>
                  <a:pt x="1176" y="60"/>
                </a:cubicBezTo>
                <a:cubicBezTo>
                  <a:pt x="1194" y="78"/>
                  <a:pt x="1200" y="132"/>
                  <a:pt x="1200" y="132"/>
                </a:cubicBezTo>
                <a:cubicBezTo>
                  <a:pt x="1212" y="120"/>
                  <a:pt x="1227" y="110"/>
                  <a:pt x="1236" y="96"/>
                </a:cubicBezTo>
                <a:cubicBezTo>
                  <a:pt x="1243" y="85"/>
                  <a:pt x="1239" y="69"/>
                  <a:pt x="1248" y="60"/>
                </a:cubicBezTo>
                <a:cubicBezTo>
                  <a:pt x="1257" y="51"/>
                  <a:pt x="1273" y="54"/>
                  <a:pt x="1284" y="48"/>
                </a:cubicBezTo>
                <a:cubicBezTo>
                  <a:pt x="1297" y="42"/>
                  <a:pt x="1308" y="32"/>
                  <a:pt x="1320" y="24"/>
                </a:cubicBezTo>
                <a:cubicBezTo>
                  <a:pt x="1332" y="28"/>
                  <a:pt x="1349" y="26"/>
                  <a:pt x="1356" y="36"/>
                </a:cubicBezTo>
                <a:cubicBezTo>
                  <a:pt x="1371" y="57"/>
                  <a:pt x="1380" y="108"/>
                  <a:pt x="1380" y="108"/>
                </a:cubicBezTo>
                <a:cubicBezTo>
                  <a:pt x="1396" y="104"/>
                  <a:pt x="1415" y="106"/>
                  <a:pt x="1428" y="96"/>
                </a:cubicBezTo>
                <a:cubicBezTo>
                  <a:pt x="1438" y="88"/>
                  <a:pt x="1431" y="69"/>
                  <a:pt x="1440" y="60"/>
                </a:cubicBezTo>
                <a:cubicBezTo>
                  <a:pt x="1449" y="51"/>
                  <a:pt x="1464" y="52"/>
                  <a:pt x="1476" y="48"/>
                </a:cubicBezTo>
                <a:cubicBezTo>
                  <a:pt x="1480" y="36"/>
                  <a:pt x="1475" y="14"/>
                  <a:pt x="1488" y="12"/>
                </a:cubicBezTo>
                <a:cubicBezTo>
                  <a:pt x="1513" y="8"/>
                  <a:pt x="1560" y="36"/>
                  <a:pt x="1560" y="36"/>
                </a:cubicBezTo>
                <a:cubicBezTo>
                  <a:pt x="1571" y="70"/>
                  <a:pt x="1582" y="106"/>
                  <a:pt x="1608" y="132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84320" y="3200400"/>
            <a:ext cx="7293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白兔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83600" y="4114800"/>
            <a:ext cx="7293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黑兔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rot="5400000">
            <a:off x="4610160" y="-723960"/>
            <a:ext cx="457200" cy="6934320"/>
          </a:xfrm>
          <a:custGeom>
            <a:avLst/>
            <a:gdLst>
              <a:gd name="textAreaLeft" fmla="*/ 292320 w 457200"/>
              <a:gd name="textAreaRight" fmla="*/ 457560 w 457200"/>
              <a:gd name="textAreaTop" fmla="*/ 180720 h 6934320"/>
              <a:gd name="textAreaBottom" fmla="*/ 6753600 h 6934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826"/>
                </a:lnTo>
                <a:cubicBezTo>
                  <a:pt x="10800" y="9726"/>
                  <a:pt x="5400" y="10626"/>
                  <a:pt x="0" y="10626"/>
                </a:cubicBezTo>
                <a:cubicBezTo>
                  <a:pt x="5400" y="10626"/>
                  <a:pt x="10800" y="11526"/>
                  <a:pt x="10800" y="12426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 rot="16189200">
            <a:off x="3085560" y="3008880"/>
            <a:ext cx="457200" cy="4038840"/>
          </a:xfrm>
          <a:custGeom>
            <a:avLst/>
            <a:gdLst>
              <a:gd name="textAreaLeft" fmla="*/ 292320 w 457200"/>
              <a:gd name="textAreaRight" fmla="*/ 457560 w 457200"/>
              <a:gd name="textAreaTop" fmla="*/ 105120 h 4038840"/>
              <a:gd name="textAreaBottom" fmla="*/ 3933720 h 4038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216"/>
                </a:lnTo>
                <a:cubicBezTo>
                  <a:pt x="10800" y="10116"/>
                  <a:pt x="5400" y="11016"/>
                  <a:pt x="0" y="11016"/>
                </a:cubicBezTo>
                <a:cubicBezTo>
                  <a:pt x="5400" y="11016"/>
                  <a:pt x="10800" y="11916"/>
                  <a:pt x="10800" y="12816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452840" y="2133720"/>
            <a:ext cx="93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12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只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929320" y="5181480"/>
            <a:ext cx="72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7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只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 flipV="1" rot="16189200">
            <a:off x="6705360" y="2590920"/>
            <a:ext cx="304920" cy="2895840"/>
          </a:xfrm>
          <a:custGeom>
            <a:avLst/>
            <a:gdLst>
              <a:gd name="textAreaLeft" fmla="*/ 194760 w 304920"/>
              <a:gd name="textAreaRight" fmla="*/ 305280 w 304920"/>
              <a:gd name="textAreaTop" fmla="*/ 75240 h 2895840"/>
              <a:gd name="textAreaBottom" fmla="*/ 2820600 h 2895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216"/>
                </a:lnTo>
                <a:cubicBezTo>
                  <a:pt x="10800" y="10116"/>
                  <a:pt x="5400" y="11016"/>
                  <a:pt x="0" y="11016"/>
                </a:cubicBezTo>
                <a:cubicBezTo>
                  <a:pt x="5400" y="11016"/>
                  <a:pt x="10800" y="11916"/>
                  <a:pt x="10800" y="12816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315480" y="4191120"/>
            <a:ext cx="10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多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?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只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447920" y="2895480"/>
            <a:ext cx="396216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跟黑兔同样多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410080" y="2895480"/>
            <a:ext cx="289584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970080" y="5257800"/>
            <a:ext cx="3047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12 - 7= 5 (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只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477320" y="6156360"/>
            <a:ext cx="4055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口答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白兔比黑兔多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只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0" y="0"/>
            <a:ext cx="1695600" cy="1347840"/>
            <a:chOff x="0" y="0"/>
            <a:chExt cx="1695600" cy="1347840"/>
          </a:xfrm>
        </p:grpSpPr>
        <p:pic>
          <p:nvPicPr>
            <p:cNvPr id="286" name="" descr=""/>
            <p:cNvPicPr/>
            <p:nvPr/>
          </p:nvPicPr>
          <p:blipFill>
            <a:blip r:embed="rId20"/>
            <a:stretch/>
          </p:blipFill>
          <p:spPr>
            <a:xfrm>
              <a:off x="0" y="0"/>
              <a:ext cx="1695600" cy="134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"/>
            <p:cNvSpPr/>
            <p:nvPr/>
          </p:nvSpPr>
          <p:spPr>
            <a:xfrm>
              <a:off x="381240" y="304560"/>
              <a:ext cx="6094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8" name=""/>
          <p:cNvGrpSpPr/>
          <p:nvPr/>
        </p:nvGrpSpPr>
        <p:grpSpPr>
          <a:xfrm>
            <a:off x="1371600" y="2971800"/>
            <a:ext cx="4079880" cy="838080"/>
            <a:chOff x="1371600" y="2971800"/>
            <a:chExt cx="4079880" cy="838080"/>
          </a:xfrm>
        </p:grpSpPr>
        <p:pic>
          <p:nvPicPr>
            <p:cNvPr id="289" name="tub" descr=""/>
            <p:cNvPicPr/>
            <p:nvPr/>
          </p:nvPicPr>
          <p:blipFill>
            <a:blip r:embed="rId21"/>
            <a:stretch/>
          </p:blipFill>
          <p:spPr>
            <a:xfrm>
              <a:off x="1371600" y="2971800"/>
              <a:ext cx="587160" cy="83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0" name="tub" descr=""/>
            <p:cNvPicPr/>
            <p:nvPr/>
          </p:nvPicPr>
          <p:blipFill>
            <a:blip r:embed="rId22"/>
            <a:stretch/>
          </p:blipFill>
          <p:spPr>
            <a:xfrm>
              <a:off x="1954080" y="2971800"/>
              <a:ext cx="587520" cy="83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1" name="tub" descr=""/>
            <p:cNvPicPr/>
            <p:nvPr/>
          </p:nvPicPr>
          <p:blipFill>
            <a:blip r:embed="rId23"/>
            <a:stretch/>
          </p:blipFill>
          <p:spPr>
            <a:xfrm>
              <a:off x="2536560" y="2971800"/>
              <a:ext cx="587520" cy="83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2" name="tub" descr=""/>
            <p:cNvPicPr/>
            <p:nvPr/>
          </p:nvPicPr>
          <p:blipFill>
            <a:blip r:embed="rId24"/>
            <a:stretch/>
          </p:blipFill>
          <p:spPr>
            <a:xfrm>
              <a:off x="3117600" y="2971800"/>
              <a:ext cx="587520" cy="83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3" name="tub" descr=""/>
            <p:cNvPicPr/>
            <p:nvPr/>
          </p:nvPicPr>
          <p:blipFill>
            <a:blip r:embed="rId25"/>
            <a:stretch/>
          </p:blipFill>
          <p:spPr>
            <a:xfrm>
              <a:off x="3700440" y="2971800"/>
              <a:ext cx="587160" cy="83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4" name="tub" descr=""/>
            <p:cNvPicPr/>
            <p:nvPr/>
          </p:nvPicPr>
          <p:blipFill>
            <a:blip r:embed="rId26"/>
            <a:stretch/>
          </p:blipFill>
          <p:spPr>
            <a:xfrm>
              <a:off x="4281480" y="2971800"/>
              <a:ext cx="587160" cy="83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5" name="tub" descr=""/>
            <p:cNvPicPr/>
            <p:nvPr/>
          </p:nvPicPr>
          <p:blipFill>
            <a:blip r:embed="rId27"/>
            <a:stretch/>
          </p:blipFill>
          <p:spPr>
            <a:xfrm>
              <a:off x="4863960" y="2971800"/>
              <a:ext cx="587520" cy="838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6" name=""/>
          <p:cNvSpPr/>
          <p:nvPr/>
        </p:nvSpPr>
        <p:spPr>
          <a:xfrm>
            <a:off x="0" y="5943600"/>
            <a:ext cx="60948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7" name=""/>
          <p:cNvGrpSpPr/>
          <p:nvPr/>
        </p:nvGrpSpPr>
        <p:grpSpPr>
          <a:xfrm>
            <a:off x="5410080" y="2971800"/>
            <a:ext cx="2914920" cy="838080"/>
            <a:chOff x="5410080" y="2971800"/>
            <a:chExt cx="2914920" cy="838080"/>
          </a:xfrm>
        </p:grpSpPr>
        <p:pic>
          <p:nvPicPr>
            <p:cNvPr id="298" name="tub" descr=""/>
            <p:cNvPicPr/>
            <p:nvPr/>
          </p:nvPicPr>
          <p:blipFill>
            <a:blip r:embed="rId28"/>
            <a:stretch/>
          </p:blipFill>
          <p:spPr>
            <a:xfrm>
              <a:off x="5410080" y="2971800"/>
              <a:ext cx="587520" cy="83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9" name="tub" descr=""/>
            <p:cNvPicPr/>
            <p:nvPr/>
          </p:nvPicPr>
          <p:blipFill>
            <a:blip r:embed="rId29"/>
            <a:stretch/>
          </p:blipFill>
          <p:spPr>
            <a:xfrm>
              <a:off x="5992920" y="2971800"/>
              <a:ext cx="587160" cy="83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0" name="tub" descr=""/>
            <p:cNvPicPr/>
            <p:nvPr/>
          </p:nvPicPr>
          <p:blipFill>
            <a:blip r:embed="rId30"/>
            <a:stretch/>
          </p:blipFill>
          <p:spPr>
            <a:xfrm>
              <a:off x="6573960" y="2971800"/>
              <a:ext cx="587160" cy="83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1" name="tub" descr=""/>
            <p:cNvPicPr/>
            <p:nvPr/>
          </p:nvPicPr>
          <p:blipFill>
            <a:blip r:embed="rId31"/>
            <a:stretch/>
          </p:blipFill>
          <p:spPr>
            <a:xfrm>
              <a:off x="7156440" y="2971800"/>
              <a:ext cx="587520" cy="83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2" name="tub" descr=""/>
            <p:cNvPicPr/>
            <p:nvPr/>
          </p:nvPicPr>
          <p:blipFill>
            <a:blip r:embed="rId32"/>
            <a:stretch/>
          </p:blipFill>
          <p:spPr>
            <a:xfrm>
              <a:off x="7737480" y="2971800"/>
              <a:ext cx="587520" cy="838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3" name=""/>
          <p:cNvSpPr/>
          <p:nvPr/>
        </p:nvSpPr>
        <p:spPr>
          <a:xfrm>
            <a:off x="1447920" y="2895480"/>
            <a:ext cx="3962160" cy="9907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447920" y="2895480"/>
            <a:ext cx="3962160" cy="990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486400" y="5181480"/>
            <a:ext cx="914400" cy="76212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33"/>
          <a:stretch/>
        </p:blipFill>
        <p:spPr>
          <a:xfrm>
            <a:off x="5715000" y="15238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307" name=""/>
          <p:cNvSpPr/>
          <p:nvPr/>
        </p:nvSpPr>
        <p:spPr>
          <a:xfrm>
            <a:off x="5410080" y="2895480"/>
            <a:ext cx="2895840" cy="990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410080" y="2895480"/>
            <a:ext cx="2895840" cy="9907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809880" y="5181480"/>
            <a:ext cx="914400" cy="76212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572000" y="5181480"/>
            <a:ext cx="914400" cy="76212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dbc" descr=""/>
          <p:cNvPicPr/>
          <p:nvPr/>
        </p:nvPicPr>
        <p:blipFill>
          <a:blip r:embed="rId1"/>
          <a:stretch/>
        </p:blipFill>
        <p:spPr>
          <a:xfrm>
            <a:off x="4952880" y="380880"/>
            <a:ext cx="542880" cy="831960"/>
          </a:xfrm>
          <a:prstGeom prst="rect">
            <a:avLst/>
          </a:prstGeom>
          <a:ln w="0">
            <a:noFill/>
          </a:ln>
        </p:spPr>
      </p:pic>
      <p:pic>
        <p:nvPicPr>
          <p:cNvPr id="312" name="ybc" descr=""/>
          <p:cNvPicPr/>
          <p:nvPr/>
        </p:nvPicPr>
        <p:blipFill>
          <a:blip r:embed="rId2"/>
          <a:stretch/>
        </p:blipFill>
        <p:spPr>
          <a:xfrm>
            <a:off x="7391520" y="609480"/>
            <a:ext cx="615960" cy="53352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/>
          <p:nvPr/>
        </p:nvSpPr>
        <p:spPr>
          <a:xfrm>
            <a:off x="1247400" y="533520"/>
            <a:ext cx="8560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方民家收了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棵        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13 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棵        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051920" y="1676520"/>
            <a:ext cx="3915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圆白菜比大白菜多几棵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58440" y="5029200"/>
            <a:ext cx="423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13 - 8 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 5 (</a:t>
            </a: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棵</a:t>
            </a: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739960" y="5943600"/>
            <a:ext cx="5524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口答</a:t>
            </a: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圆白菜比大白菜多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棵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7" name="" descr=""/>
          <p:cNvPicPr/>
          <p:nvPr/>
        </p:nvPicPr>
        <p:blipFill>
          <a:blip r:embed="rId3"/>
          <a:stretch/>
        </p:blipFill>
        <p:spPr>
          <a:xfrm>
            <a:off x="8305920" y="571500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318" name=""/>
          <p:cNvSpPr/>
          <p:nvPr/>
        </p:nvSpPr>
        <p:spPr>
          <a:xfrm>
            <a:off x="5943600" y="1219320"/>
            <a:ext cx="2209680" cy="75960"/>
          </a:xfrm>
          <a:custGeom>
            <a:avLst/>
            <a:gdLst/>
            <a:ahLst/>
            <a:rect l="l" t="t" r="r" b="b"/>
            <a:pathLst>
              <a:path w="1608" h="132">
                <a:moveTo>
                  <a:pt x="0" y="0"/>
                </a:moveTo>
                <a:cubicBezTo>
                  <a:pt x="3" y="16"/>
                  <a:pt x="10" y="104"/>
                  <a:pt x="36" y="120"/>
                </a:cubicBezTo>
                <a:cubicBezTo>
                  <a:pt x="47" y="127"/>
                  <a:pt x="60" y="112"/>
                  <a:pt x="72" y="108"/>
                </a:cubicBezTo>
                <a:cubicBezTo>
                  <a:pt x="92" y="49"/>
                  <a:pt x="69" y="33"/>
                  <a:pt x="132" y="12"/>
                </a:cubicBezTo>
                <a:cubicBezTo>
                  <a:pt x="185" y="47"/>
                  <a:pt x="177" y="59"/>
                  <a:pt x="192" y="120"/>
                </a:cubicBezTo>
                <a:cubicBezTo>
                  <a:pt x="204" y="112"/>
                  <a:pt x="219" y="107"/>
                  <a:pt x="228" y="96"/>
                </a:cubicBezTo>
                <a:cubicBezTo>
                  <a:pt x="255" y="62"/>
                  <a:pt x="221" y="53"/>
                  <a:pt x="264" y="24"/>
                </a:cubicBezTo>
                <a:cubicBezTo>
                  <a:pt x="278" y="15"/>
                  <a:pt x="296" y="16"/>
                  <a:pt x="312" y="12"/>
                </a:cubicBezTo>
                <a:cubicBezTo>
                  <a:pt x="367" y="95"/>
                  <a:pt x="351" y="57"/>
                  <a:pt x="372" y="120"/>
                </a:cubicBezTo>
                <a:cubicBezTo>
                  <a:pt x="384" y="104"/>
                  <a:pt x="399" y="90"/>
                  <a:pt x="408" y="72"/>
                </a:cubicBezTo>
                <a:cubicBezTo>
                  <a:pt x="441" y="6"/>
                  <a:pt x="390" y="34"/>
                  <a:pt x="456" y="12"/>
                </a:cubicBezTo>
                <a:cubicBezTo>
                  <a:pt x="529" y="30"/>
                  <a:pt x="499" y="8"/>
                  <a:pt x="528" y="96"/>
                </a:cubicBezTo>
                <a:cubicBezTo>
                  <a:pt x="532" y="108"/>
                  <a:pt x="540" y="132"/>
                  <a:pt x="540" y="132"/>
                </a:cubicBezTo>
                <a:cubicBezTo>
                  <a:pt x="576" y="78"/>
                  <a:pt x="569" y="34"/>
                  <a:pt x="636" y="12"/>
                </a:cubicBezTo>
                <a:cubicBezTo>
                  <a:pt x="689" y="47"/>
                  <a:pt x="677" y="64"/>
                  <a:pt x="696" y="120"/>
                </a:cubicBezTo>
                <a:cubicBezTo>
                  <a:pt x="708" y="104"/>
                  <a:pt x="715" y="83"/>
                  <a:pt x="732" y="72"/>
                </a:cubicBezTo>
                <a:cubicBezTo>
                  <a:pt x="753" y="58"/>
                  <a:pt x="804" y="48"/>
                  <a:pt x="804" y="48"/>
                </a:cubicBezTo>
                <a:cubicBezTo>
                  <a:pt x="816" y="56"/>
                  <a:pt x="831" y="61"/>
                  <a:pt x="840" y="72"/>
                </a:cubicBezTo>
                <a:cubicBezTo>
                  <a:pt x="848" y="82"/>
                  <a:pt x="839" y="108"/>
                  <a:pt x="852" y="108"/>
                </a:cubicBezTo>
                <a:cubicBezTo>
                  <a:pt x="865" y="108"/>
                  <a:pt x="859" y="84"/>
                  <a:pt x="864" y="72"/>
                </a:cubicBezTo>
                <a:cubicBezTo>
                  <a:pt x="871" y="56"/>
                  <a:pt x="880" y="40"/>
                  <a:pt x="888" y="24"/>
                </a:cubicBezTo>
                <a:cubicBezTo>
                  <a:pt x="899" y="26"/>
                  <a:pt x="978" y="40"/>
                  <a:pt x="984" y="48"/>
                </a:cubicBezTo>
                <a:cubicBezTo>
                  <a:pt x="999" y="69"/>
                  <a:pt x="1008" y="120"/>
                  <a:pt x="1008" y="120"/>
                </a:cubicBezTo>
                <a:cubicBezTo>
                  <a:pt x="1020" y="104"/>
                  <a:pt x="1027" y="83"/>
                  <a:pt x="1044" y="72"/>
                </a:cubicBezTo>
                <a:cubicBezTo>
                  <a:pt x="1065" y="58"/>
                  <a:pt x="1116" y="48"/>
                  <a:pt x="1116" y="48"/>
                </a:cubicBezTo>
                <a:cubicBezTo>
                  <a:pt x="1136" y="52"/>
                  <a:pt x="1162" y="46"/>
                  <a:pt x="1176" y="60"/>
                </a:cubicBezTo>
                <a:cubicBezTo>
                  <a:pt x="1194" y="78"/>
                  <a:pt x="1200" y="132"/>
                  <a:pt x="1200" y="132"/>
                </a:cubicBezTo>
                <a:cubicBezTo>
                  <a:pt x="1212" y="120"/>
                  <a:pt x="1227" y="110"/>
                  <a:pt x="1236" y="96"/>
                </a:cubicBezTo>
                <a:cubicBezTo>
                  <a:pt x="1243" y="85"/>
                  <a:pt x="1239" y="69"/>
                  <a:pt x="1248" y="60"/>
                </a:cubicBezTo>
                <a:cubicBezTo>
                  <a:pt x="1257" y="51"/>
                  <a:pt x="1273" y="54"/>
                  <a:pt x="1284" y="48"/>
                </a:cubicBezTo>
                <a:cubicBezTo>
                  <a:pt x="1297" y="42"/>
                  <a:pt x="1308" y="32"/>
                  <a:pt x="1320" y="24"/>
                </a:cubicBezTo>
                <a:cubicBezTo>
                  <a:pt x="1332" y="28"/>
                  <a:pt x="1349" y="26"/>
                  <a:pt x="1356" y="36"/>
                </a:cubicBezTo>
                <a:cubicBezTo>
                  <a:pt x="1371" y="57"/>
                  <a:pt x="1380" y="108"/>
                  <a:pt x="1380" y="108"/>
                </a:cubicBezTo>
                <a:cubicBezTo>
                  <a:pt x="1396" y="104"/>
                  <a:pt x="1415" y="106"/>
                  <a:pt x="1428" y="96"/>
                </a:cubicBezTo>
                <a:cubicBezTo>
                  <a:pt x="1438" y="88"/>
                  <a:pt x="1431" y="69"/>
                  <a:pt x="1440" y="60"/>
                </a:cubicBezTo>
                <a:cubicBezTo>
                  <a:pt x="1449" y="51"/>
                  <a:pt x="1464" y="52"/>
                  <a:pt x="1476" y="48"/>
                </a:cubicBezTo>
                <a:cubicBezTo>
                  <a:pt x="1480" y="36"/>
                  <a:pt x="1475" y="14"/>
                  <a:pt x="1488" y="12"/>
                </a:cubicBezTo>
                <a:cubicBezTo>
                  <a:pt x="1513" y="8"/>
                  <a:pt x="1560" y="36"/>
                  <a:pt x="1560" y="36"/>
                </a:cubicBezTo>
                <a:cubicBezTo>
                  <a:pt x="1571" y="70"/>
                  <a:pt x="1582" y="106"/>
                  <a:pt x="1608" y="132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990720" y="1219320"/>
            <a:ext cx="2590560" cy="75960"/>
          </a:xfrm>
          <a:custGeom>
            <a:avLst/>
            <a:gdLst/>
            <a:ahLst/>
            <a:rect l="l" t="t" r="r" b="b"/>
            <a:pathLst>
              <a:path w="1608" h="132">
                <a:moveTo>
                  <a:pt x="0" y="0"/>
                </a:moveTo>
                <a:cubicBezTo>
                  <a:pt x="3" y="16"/>
                  <a:pt x="10" y="104"/>
                  <a:pt x="36" y="120"/>
                </a:cubicBezTo>
                <a:cubicBezTo>
                  <a:pt x="47" y="127"/>
                  <a:pt x="60" y="112"/>
                  <a:pt x="72" y="108"/>
                </a:cubicBezTo>
                <a:cubicBezTo>
                  <a:pt x="92" y="49"/>
                  <a:pt x="69" y="33"/>
                  <a:pt x="132" y="12"/>
                </a:cubicBezTo>
                <a:cubicBezTo>
                  <a:pt x="185" y="47"/>
                  <a:pt x="177" y="59"/>
                  <a:pt x="192" y="120"/>
                </a:cubicBezTo>
                <a:cubicBezTo>
                  <a:pt x="204" y="112"/>
                  <a:pt x="219" y="107"/>
                  <a:pt x="228" y="96"/>
                </a:cubicBezTo>
                <a:cubicBezTo>
                  <a:pt x="255" y="62"/>
                  <a:pt x="221" y="53"/>
                  <a:pt x="264" y="24"/>
                </a:cubicBezTo>
                <a:cubicBezTo>
                  <a:pt x="278" y="15"/>
                  <a:pt x="296" y="16"/>
                  <a:pt x="312" y="12"/>
                </a:cubicBezTo>
                <a:cubicBezTo>
                  <a:pt x="367" y="95"/>
                  <a:pt x="351" y="57"/>
                  <a:pt x="372" y="120"/>
                </a:cubicBezTo>
                <a:cubicBezTo>
                  <a:pt x="384" y="104"/>
                  <a:pt x="399" y="90"/>
                  <a:pt x="408" y="72"/>
                </a:cubicBezTo>
                <a:cubicBezTo>
                  <a:pt x="441" y="6"/>
                  <a:pt x="390" y="34"/>
                  <a:pt x="456" y="12"/>
                </a:cubicBezTo>
                <a:cubicBezTo>
                  <a:pt x="529" y="30"/>
                  <a:pt x="499" y="8"/>
                  <a:pt x="528" y="96"/>
                </a:cubicBezTo>
                <a:cubicBezTo>
                  <a:pt x="532" y="108"/>
                  <a:pt x="540" y="132"/>
                  <a:pt x="540" y="132"/>
                </a:cubicBezTo>
                <a:cubicBezTo>
                  <a:pt x="576" y="78"/>
                  <a:pt x="569" y="34"/>
                  <a:pt x="636" y="12"/>
                </a:cubicBezTo>
                <a:cubicBezTo>
                  <a:pt x="689" y="47"/>
                  <a:pt x="677" y="64"/>
                  <a:pt x="696" y="120"/>
                </a:cubicBezTo>
                <a:cubicBezTo>
                  <a:pt x="708" y="104"/>
                  <a:pt x="715" y="83"/>
                  <a:pt x="732" y="72"/>
                </a:cubicBezTo>
                <a:cubicBezTo>
                  <a:pt x="753" y="58"/>
                  <a:pt x="804" y="48"/>
                  <a:pt x="804" y="48"/>
                </a:cubicBezTo>
                <a:cubicBezTo>
                  <a:pt x="816" y="56"/>
                  <a:pt x="831" y="61"/>
                  <a:pt x="840" y="72"/>
                </a:cubicBezTo>
                <a:cubicBezTo>
                  <a:pt x="848" y="82"/>
                  <a:pt x="839" y="108"/>
                  <a:pt x="852" y="108"/>
                </a:cubicBezTo>
                <a:cubicBezTo>
                  <a:pt x="865" y="108"/>
                  <a:pt x="859" y="84"/>
                  <a:pt x="864" y="72"/>
                </a:cubicBezTo>
                <a:cubicBezTo>
                  <a:pt x="871" y="56"/>
                  <a:pt x="880" y="40"/>
                  <a:pt x="888" y="24"/>
                </a:cubicBezTo>
                <a:cubicBezTo>
                  <a:pt x="899" y="26"/>
                  <a:pt x="978" y="40"/>
                  <a:pt x="984" y="48"/>
                </a:cubicBezTo>
                <a:cubicBezTo>
                  <a:pt x="999" y="69"/>
                  <a:pt x="1008" y="120"/>
                  <a:pt x="1008" y="120"/>
                </a:cubicBezTo>
                <a:cubicBezTo>
                  <a:pt x="1020" y="104"/>
                  <a:pt x="1027" y="83"/>
                  <a:pt x="1044" y="72"/>
                </a:cubicBezTo>
                <a:cubicBezTo>
                  <a:pt x="1065" y="58"/>
                  <a:pt x="1116" y="48"/>
                  <a:pt x="1116" y="48"/>
                </a:cubicBezTo>
                <a:cubicBezTo>
                  <a:pt x="1136" y="52"/>
                  <a:pt x="1162" y="46"/>
                  <a:pt x="1176" y="60"/>
                </a:cubicBezTo>
                <a:cubicBezTo>
                  <a:pt x="1194" y="78"/>
                  <a:pt x="1200" y="132"/>
                  <a:pt x="1200" y="132"/>
                </a:cubicBezTo>
                <a:cubicBezTo>
                  <a:pt x="1212" y="120"/>
                  <a:pt x="1227" y="110"/>
                  <a:pt x="1236" y="96"/>
                </a:cubicBezTo>
                <a:cubicBezTo>
                  <a:pt x="1243" y="85"/>
                  <a:pt x="1239" y="69"/>
                  <a:pt x="1248" y="60"/>
                </a:cubicBezTo>
                <a:cubicBezTo>
                  <a:pt x="1257" y="51"/>
                  <a:pt x="1273" y="54"/>
                  <a:pt x="1284" y="48"/>
                </a:cubicBezTo>
                <a:cubicBezTo>
                  <a:pt x="1297" y="42"/>
                  <a:pt x="1308" y="32"/>
                  <a:pt x="1320" y="24"/>
                </a:cubicBezTo>
                <a:cubicBezTo>
                  <a:pt x="1332" y="28"/>
                  <a:pt x="1349" y="26"/>
                  <a:pt x="1356" y="36"/>
                </a:cubicBezTo>
                <a:cubicBezTo>
                  <a:pt x="1371" y="57"/>
                  <a:pt x="1380" y="108"/>
                  <a:pt x="1380" y="108"/>
                </a:cubicBezTo>
                <a:cubicBezTo>
                  <a:pt x="1396" y="104"/>
                  <a:pt x="1415" y="106"/>
                  <a:pt x="1428" y="96"/>
                </a:cubicBezTo>
                <a:cubicBezTo>
                  <a:pt x="1438" y="88"/>
                  <a:pt x="1431" y="69"/>
                  <a:pt x="1440" y="60"/>
                </a:cubicBezTo>
                <a:cubicBezTo>
                  <a:pt x="1449" y="51"/>
                  <a:pt x="1464" y="52"/>
                  <a:pt x="1476" y="48"/>
                </a:cubicBezTo>
                <a:cubicBezTo>
                  <a:pt x="1480" y="36"/>
                  <a:pt x="1475" y="14"/>
                  <a:pt x="1488" y="12"/>
                </a:cubicBezTo>
                <a:cubicBezTo>
                  <a:pt x="1513" y="8"/>
                  <a:pt x="1560" y="36"/>
                  <a:pt x="1560" y="36"/>
                </a:cubicBezTo>
                <a:cubicBezTo>
                  <a:pt x="1571" y="70"/>
                  <a:pt x="1582" y="106"/>
                  <a:pt x="1608" y="132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505320" y="1219320"/>
            <a:ext cx="2209680" cy="75960"/>
          </a:xfrm>
          <a:custGeom>
            <a:avLst/>
            <a:gdLst/>
            <a:ahLst/>
            <a:rect l="l" t="t" r="r" b="b"/>
            <a:pathLst>
              <a:path w="1608" h="132">
                <a:moveTo>
                  <a:pt x="0" y="0"/>
                </a:moveTo>
                <a:cubicBezTo>
                  <a:pt x="3" y="16"/>
                  <a:pt x="10" y="104"/>
                  <a:pt x="36" y="120"/>
                </a:cubicBezTo>
                <a:cubicBezTo>
                  <a:pt x="47" y="127"/>
                  <a:pt x="60" y="112"/>
                  <a:pt x="72" y="108"/>
                </a:cubicBezTo>
                <a:cubicBezTo>
                  <a:pt x="92" y="49"/>
                  <a:pt x="69" y="33"/>
                  <a:pt x="132" y="12"/>
                </a:cubicBezTo>
                <a:cubicBezTo>
                  <a:pt x="185" y="47"/>
                  <a:pt x="177" y="59"/>
                  <a:pt x="192" y="120"/>
                </a:cubicBezTo>
                <a:cubicBezTo>
                  <a:pt x="204" y="112"/>
                  <a:pt x="219" y="107"/>
                  <a:pt x="228" y="96"/>
                </a:cubicBezTo>
                <a:cubicBezTo>
                  <a:pt x="255" y="62"/>
                  <a:pt x="221" y="53"/>
                  <a:pt x="264" y="24"/>
                </a:cubicBezTo>
                <a:cubicBezTo>
                  <a:pt x="278" y="15"/>
                  <a:pt x="296" y="16"/>
                  <a:pt x="312" y="12"/>
                </a:cubicBezTo>
                <a:cubicBezTo>
                  <a:pt x="367" y="95"/>
                  <a:pt x="351" y="57"/>
                  <a:pt x="372" y="120"/>
                </a:cubicBezTo>
                <a:cubicBezTo>
                  <a:pt x="384" y="104"/>
                  <a:pt x="399" y="90"/>
                  <a:pt x="408" y="72"/>
                </a:cubicBezTo>
                <a:cubicBezTo>
                  <a:pt x="441" y="6"/>
                  <a:pt x="390" y="34"/>
                  <a:pt x="456" y="12"/>
                </a:cubicBezTo>
                <a:cubicBezTo>
                  <a:pt x="529" y="30"/>
                  <a:pt x="499" y="8"/>
                  <a:pt x="528" y="96"/>
                </a:cubicBezTo>
                <a:cubicBezTo>
                  <a:pt x="532" y="108"/>
                  <a:pt x="540" y="132"/>
                  <a:pt x="540" y="132"/>
                </a:cubicBezTo>
                <a:cubicBezTo>
                  <a:pt x="576" y="78"/>
                  <a:pt x="569" y="34"/>
                  <a:pt x="636" y="12"/>
                </a:cubicBezTo>
                <a:cubicBezTo>
                  <a:pt x="689" y="47"/>
                  <a:pt x="677" y="64"/>
                  <a:pt x="696" y="120"/>
                </a:cubicBezTo>
                <a:cubicBezTo>
                  <a:pt x="708" y="104"/>
                  <a:pt x="715" y="83"/>
                  <a:pt x="732" y="72"/>
                </a:cubicBezTo>
                <a:cubicBezTo>
                  <a:pt x="753" y="58"/>
                  <a:pt x="804" y="48"/>
                  <a:pt x="804" y="48"/>
                </a:cubicBezTo>
                <a:cubicBezTo>
                  <a:pt x="816" y="56"/>
                  <a:pt x="831" y="61"/>
                  <a:pt x="840" y="72"/>
                </a:cubicBezTo>
                <a:cubicBezTo>
                  <a:pt x="848" y="82"/>
                  <a:pt x="839" y="108"/>
                  <a:pt x="852" y="108"/>
                </a:cubicBezTo>
                <a:cubicBezTo>
                  <a:pt x="865" y="108"/>
                  <a:pt x="859" y="84"/>
                  <a:pt x="864" y="72"/>
                </a:cubicBezTo>
                <a:cubicBezTo>
                  <a:pt x="871" y="56"/>
                  <a:pt x="880" y="40"/>
                  <a:pt x="888" y="24"/>
                </a:cubicBezTo>
                <a:cubicBezTo>
                  <a:pt x="899" y="26"/>
                  <a:pt x="978" y="40"/>
                  <a:pt x="984" y="48"/>
                </a:cubicBezTo>
                <a:cubicBezTo>
                  <a:pt x="999" y="69"/>
                  <a:pt x="1008" y="120"/>
                  <a:pt x="1008" y="120"/>
                </a:cubicBezTo>
                <a:cubicBezTo>
                  <a:pt x="1020" y="104"/>
                  <a:pt x="1027" y="83"/>
                  <a:pt x="1044" y="72"/>
                </a:cubicBezTo>
                <a:cubicBezTo>
                  <a:pt x="1065" y="58"/>
                  <a:pt x="1116" y="48"/>
                  <a:pt x="1116" y="48"/>
                </a:cubicBezTo>
                <a:cubicBezTo>
                  <a:pt x="1136" y="52"/>
                  <a:pt x="1162" y="46"/>
                  <a:pt x="1176" y="60"/>
                </a:cubicBezTo>
                <a:cubicBezTo>
                  <a:pt x="1194" y="78"/>
                  <a:pt x="1200" y="132"/>
                  <a:pt x="1200" y="132"/>
                </a:cubicBezTo>
                <a:cubicBezTo>
                  <a:pt x="1212" y="120"/>
                  <a:pt x="1227" y="110"/>
                  <a:pt x="1236" y="96"/>
                </a:cubicBezTo>
                <a:cubicBezTo>
                  <a:pt x="1243" y="85"/>
                  <a:pt x="1239" y="69"/>
                  <a:pt x="1248" y="60"/>
                </a:cubicBezTo>
                <a:cubicBezTo>
                  <a:pt x="1257" y="51"/>
                  <a:pt x="1273" y="54"/>
                  <a:pt x="1284" y="48"/>
                </a:cubicBezTo>
                <a:cubicBezTo>
                  <a:pt x="1297" y="42"/>
                  <a:pt x="1308" y="32"/>
                  <a:pt x="1320" y="24"/>
                </a:cubicBezTo>
                <a:cubicBezTo>
                  <a:pt x="1332" y="28"/>
                  <a:pt x="1349" y="26"/>
                  <a:pt x="1356" y="36"/>
                </a:cubicBezTo>
                <a:cubicBezTo>
                  <a:pt x="1371" y="57"/>
                  <a:pt x="1380" y="108"/>
                  <a:pt x="1380" y="108"/>
                </a:cubicBezTo>
                <a:cubicBezTo>
                  <a:pt x="1396" y="104"/>
                  <a:pt x="1415" y="106"/>
                  <a:pt x="1428" y="96"/>
                </a:cubicBezTo>
                <a:cubicBezTo>
                  <a:pt x="1438" y="88"/>
                  <a:pt x="1431" y="69"/>
                  <a:pt x="1440" y="60"/>
                </a:cubicBezTo>
                <a:cubicBezTo>
                  <a:pt x="1449" y="51"/>
                  <a:pt x="1464" y="52"/>
                  <a:pt x="1476" y="48"/>
                </a:cubicBezTo>
                <a:cubicBezTo>
                  <a:pt x="1480" y="36"/>
                  <a:pt x="1475" y="14"/>
                  <a:pt x="1488" y="12"/>
                </a:cubicBezTo>
                <a:cubicBezTo>
                  <a:pt x="1513" y="8"/>
                  <a:pt x="1560" y="36"/>
                  <a:pt x="1560" y="36"/>
                </a:cubicBezTo>
                <a:cubicBezTo>
                  <a:pt x="1571" y="70"/>
                  <a:pt x="1582" y="106"/>
                  <a:pt x="1608" y="132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28600" y="2438280"/>
            <a:ext cx="541008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2" name=""/>
          <p:cNvGrpSpPr/>
          <p:nvPr/>
        </p:nvGrpSpPr>
        <p:grpSpPr>
          <a:xfrm>
            <a:off x="110160" y="2666880"/>
            <a:ext cx="7281360" cy="2485800"/>
            <a:chOff x="110160" y="2666880"/>
            <a:chExt cx="7281360" cy="2485800"/>
          </a:xfrm>
        </p:grpSpPr>
        <p:pic>
          <p:nvPicPr>
            <p:cNvPr id="323" name="dbc" descr=""/>
            <p:cNvPicPr/>
            <p:nvPr/>
          </p:nvPicPr>
          <p:blipFill>
            <a:blip r:embed="rId4"/>
            <a:stretch/>
          </p:blipFill>
          <p:spPr>
            <a:xfrm>
              <a:off x="3124080" y="2666880"/>
              <a:ext cx="44784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4" name="dbc" descr=""/>
            <p:cNvPicPr/>
            <p:nvPr/>
          </p:nvPicPr>
          <p:blipFill>
            <a:blip r:embed="rId5"/>
            <a:stretch/>
          </p:blipFill>
          <p:spPr>
            <a:xfrm>
              <a:off x="3657600" y="2666880"/>
              <a:ext cx="44784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5" name="dbc" descr=""/>
            <p:cNvPicPr/>
            <p:nvPr/>
          </p:nvPicPr>
          <p:blipFill>
            <a:blip r:embed="rId6"/>
            <a:stretch/>
          </p:blipFill>
          <p:spPr>
            <a:xfrm>
              <a:off x="4114800" y="2666880"/>
              <a:ext cx="44784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6" name="dbc" descr=""/>
            <p:cNvPicPr/>
            <p:nvPr/>
          </p:nvPicPr>
          <p:blipFill>
            <a:blip r:embed="rId7"/>
            <a:stretch/>
          </p:blipFill>
          <p:spPr>
            <a:xfrm>
              <a:off x="4648320" y="2666880"/>
              <a:ext cx="44748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7" name="dbc" descr=""/>
            <p:cNvPicPr/>
            <p:nvPr/>
          </p:nvPicPr>
          <p:blipFill>
            <a:blip r:embed="rId8"/>
            <a:stretch/>
          </p:blipFill>
          <p:spPr>
            <a:xfrm>
              <a:off x="5105520" y="2666880"/>
              <a:ext cx="44748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8" name="dbc" descr=""/>
            <p:cNvPicPr/>
            <p:nvPr/>
          </p:nvPicPr>
          <p:blipFill>
            <a:blip r:embed="rId9"/>
            <a:stretch/>
          </p:blipFill>
          <p:spPr>
            <a:xfrm>
              <a:off x="2666880" y="2666880"/>
              <a:ext cx="44784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9" name="dbc" descr=""/>
            <p:cNvPicPr/>
            <p:nvPr/>
          </p:nvPicPr>
          <p:blipFill>
            <a:blip r:embed="rId10"/>
            <a:stretch/>
          </p:blipFill>
          <p:spPr>
            <a:xfrm>
              <a:off x="2209680" y="2666880"/>
              <a:ext cx="44784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0" name="dbc" descr=""/>
            <p:cNvPicPr/>
            <p:nvPr/>
          </p:nvPicPr>
          <p:blipFill>
            <a:blip r:embed="rId11"/>
            <a:stretch/>
          </p:blipFill>
          <p:spPr>
            <a:xfrm>
              <a:off x="1676520" y="2666880"/>
              <a:ext cx="447480" cy="68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1" name=""/>
            <p:cNvSpPr/>
            <p:nvPr/>
          </p:nvSpPr>
          <p:spPr>
            <a:xfrm>
              <a:off x="1752480" y="3505320"/>
              <a:ext cx="5639040" cy="6858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486400" y="3581280"/>
              <a:ext cx="0" cy="609840"/>
            </a:xfrm>
            <a:prstGeom prst="line">
              <a:avLst/>
            </a:prstGeom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110160" y="2742840"/>
              <a:ext cx="1259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zh-CN" sz="3200" spc="-1" strike="noStrike">
                  <a:solidFill>
                    <a:srgbClr val="000000"/>
                  </a:solidFill>
                  <a:latin typeface="Times New Roman"/>
                </a:rPr>
                <a:t>大白菜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10160" y="3580920"/>
              <a:ext cx="1259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zh-CN" sz="3200" spc="-1" strike="noStrike">
                  <a:solidFill>
                    <a:srgbClr val="000000"/>
                  </a:solidFill>
                  <a:latin typeface="Times New Roman"/>
                </a:rPr>
                <a:t>圆白菜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 rot="16189200">
              <a:off x="4381560" y="1712880"/>
              <a:ext cx="379440" cy="5484960"/>
            </a:xfrm>
            <a:custGeom>
              <a:avLst/>
              <a:gdLst>
                <a:gd name="textAreaLeft" fmla="*/ 242640 w 379440"/>
                <a:gd name="textAreaRight" fmla="*/ 379800 w 379440"/>
                <a:gd name="textAreaTop" fmla="*/ 142920 h 5484960"/>
                <a:gd name="textAreaBottom" fmla="*/ 5342040 h 5484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216"/>
                  </a:lnTo>
                  <a:cubicBezTo>
                    <a:pt x="10800" y="10116"/>
                    <a:pt x="5400" y="11016"/>
                    <a:pt x="0" y="11016"/>
                  </a:cubicBezTo>
                  <a:cubicBezTo>
                    <a:pt x="5400" y="11016"/>
                    <a:pt x="10800" y="11916"/>
                    <a:pt x="10800" y="12816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191480" y="4571280"/>
              <a:ext cx="589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3300"/>
                  </a:solidFill>
                  <a:latin typeface="Times New Roman"/>
                </a:rPr>
                <a:t>13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 rot="5389200">
              <a:off x="6247080" y="2360880"/>
              <a:ext cx="379440" cy="1904760"/>
            </a:xfrm>
            <a:custGeom>
              <a:avLst/>
              <a:gdLst>
                <a:gd name="textAreaLeft" fmla="*/ 242640 w 379440"/>
                <a:gd name="textAreaRight" fmla="*/ 379800 w 379440"/>
                <a:gd name="textAreaTop" fmla="*/ 49680 h 1904760"/>
                <a:gd name="textAreaBottom" fmla="*/ 1855080 h 1904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216"/>
                  </a:lnTo>
                  <a:cubicBezTo>
                    <a:pt x="10800" y="10116"/>
                    <a:pt x="5400" y="11016"/>
                    <a:pt x="0" y="11016"/>
                  </a:cubicBezTo>
                  <a:cubicBezTo>
                    <a:pt x="5400" y="11016"/>
                    <a:pt x="10800" y="11916"/>
                    <a:pt x="10800" y="12816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5975640" y="2696400"/>
              <a:ext cx="104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3300"/>
                  </a:solidFill>
                  <a:latin typeface="Times New Roman"/>
                </a:rPr>
                <a:t>多</a:t>
              </a:r>
              <a:r>
                <a:rPr b="0" lang="zh-CN" sz="3200" spc="-1" strike="noStrike">
                  <a:solidFill>
                    <a:srgbClr val="ff3300"/>
                  </a:solidFill>
                  <a:latin typeface="Times New Roman"/>
                </a:rPr>
                <a:t>?</a:t>
              </a:r>
              <a:r>
                <a:rPr b="0" lang="zh-CN" sz="3200" spc="-1" strike="noStrike">
                  <a:solidFill>
                    <a:srgbClr val="ff3300"/>
                  </a:solidFill>
                  <a:latin typeface="Times New Roman"/>
                </a:rPr>
                <a:t>棵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9" name=""/>
          <p:cNvSpPr/>
          <p:nvPr/>
        </p:nvSpPr>
        <p:spPr>
          <a:xfrm>
            <a:off x="5486400" y="3505320"/>
            <a:ext cx="1905120" cy="6858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3505320"/>
            <a:ext cx="1905120" cy="685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skt" descr="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228600" y="762120"/>
            <a:ext cx="4191120" cy="4162320"/>
          </a:xfrm>
          <a:prstGeom prst="rect">
            <a:avLst/>
          </a:prstGeom>
          <a:ln w="0">
            <a:noFill/>
          </a:ln>
        </p:spPr>
      </p:pic>
      <p:sp>
        <p:nvSpPr>
          <p:cNvPr id="342" name=""/>
          <p:cNvSpPr/>
          <p:nvPr/>
        </p:nvSpPr>
        <p:spPr>
          <a:xfrm>
            <a:off x="4923360" y="708120"/>
            <a:ext cx="3040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鸡比鸭多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(    )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只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96360" y="2259000"/>
            <a:ext cx="3040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鸡比鹅多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(    )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只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896360" y="3782880"/>
            <a:ext cx="3040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鸭比鹅多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(    )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只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860720" y="1496880"/>
            <a:ext cx="276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45-30=15(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只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860720" y="2944800"/>
            <a:ext cx="276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45-20=25(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只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784400" y="4468680"/>
            <a:ext cx="276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30-20=10(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只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758280" y="6858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00"/>
                </a:solidFill>
                <a:latin typeface="Times New Roman"/>
              </a:rPr>
              <a:t>1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758280" y="220968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00"/>
                </a:solidFill>
                <a:latin typeface="Times New Roman"/>
              </a:rPr>
              <a:t>2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681960" y="37339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00"/>
                </a:solidFill>
                <a:latin typeface="Times New Roman"/>
              </a:rPr>
              <a:t>1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343680" y="5105520"/>
            <a:ext cx="413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鸡、鸭、鹅一共（     ）只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904200" y="5762520"/>
            <a:ext cx="358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45+30+20=95(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只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523200" y="50436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00"/>
                </a:solidFill>
                <a:latin typeface="Times New Roman"/>
              </a:rPr>
              <a:t>9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02T12:27:05Z</dcterms:created>
  <dc:creator>hdk</dc:creator>
  <dc:description/>
  <dc:language>en-US</dc:language>
  <cp:lastModifiedBy>电教室</cp:lastModifiedBy>
  <dcterms:modified xsi:type="dcterms:W3CDTF">1996-04-12T09:50:00Z</dcterms:modified>
  <cp:revision>42</cp:revision>
  <dc:subject/>
  <dc:title>没有幻灯片标题</dc:title>
</cp:coreProperties>
</file>