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004-4DE9-45A6-9EE7-6E3674D4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33C-9145-4AC1-B528-87D43B41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E8F-4DFE-444A-BC11-F24810FE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A0C-C360-41C3-96A7-30CB8E74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618-8BD7-4294-960C-F70CDF38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4DA-4ECE-4FEA-A724-26B3980A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9D8-A6CA-4668-811A-4EEAF533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E86-9B62-4EE2-A96D-8B0400B6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EC0-ACAF-4F02-979C-BDA88533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005-1A15-4E86-B300-6DB758E2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C4C-3AEF-479A-B64E-6EF350A4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668-6A40-4E02-914F-10F5F261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194E-A125-4568-8268-72D62090B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0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2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16440" y="5335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求一个数比另一个数多几的应用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5760" y="6278400"/>
            <a:ext cx="49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九 年 义 务 教 育 小 学 六 年 制 第 二 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54320" y="533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56120" y="1646280"/>
            <a:ext cx="58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红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明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03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9680" y="380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口算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4600" y="19018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5240" y="281952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2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62160" y="380988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71280" y="19051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 9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67880" y="2819520"/>
            <a:ext cx="17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5240" y="3733920"/>
            <a:ext cx="15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93200" y="19810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3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7280" y="28195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 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960" y="373392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0 +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88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880" y="2819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88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92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9960" y="2819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92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190512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2819520"/>
            <a:ext cx="78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8400" y="365760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89080" y="1828800"/>
            <a:ext cx="2868480" cy="457200"/>
            <a:chOff x="289080" y="1828800"/>
            <a:chExt cx="2868480" cy="457200"/>
          </a:xfrm>
        </p:grpSpPr>
        <p:sp>
          <p:nvSpPr>
            <p:cNvPr id="65" name=""/>
            <p:cNvSpPr/>
            <p:nvPr/>
          </p:nvSpPr>
          <p:spPr>
            <a:xfrm>
              <a:off x="2890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666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03880" y="1828800"/>
            <a:ext cx="4392360" cy="457200"/>
            <a:chOff x="4403880" y="1828800"/>
            <a:chExt cx="4392360" cy="457200"/>
          </a:xfrm>
        </p:grpSpPr>
        <p:sp>
          <p:nvSpPr>
            <p:cNvPr id="70" name=""/>
            <p:cNvSpPr/>
            <p:nvPr/>
          </p:nvSpPr>
          <p:spPr>
            <a:xfrm>
              <a:off x="44038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1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057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29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0" y="0"/>
            <a:ext cx="1905120" cy="6858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比一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286000"/>
            <a:ext cx="457200" cy="1295280"/>
            <a:chOff x="304920" y="2286000"/>
            <a:chExt cx="457200" cy="1295280"/>
          </a:xfrm>
        </p:grpSpPr>
        <p:sp>
          <p:nvSpPr>
            <p:cNvPr id="79" name=""/>
            <p:cNvSpPr/>
            <p:nvPr/>
          </p:nvSpPr>
          <p:spPr>
            <a:xfrm>
              <a:off x="304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352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066680" y="2362320"/>
            <a:ext cx="457200" cy="1218960"/>
            <a:chOff x="1066680" y="2362320"/>
            <a:chExt cx="457200" cy="1218960"/>
          </a:xfrm>
        </p:grpSpPr>
        <p:sp>
          <p:nvSpPr>
            <p:cNvPr id="82" name=""/>
            <p:cNvSpPr/>
            <p:nvPr/>
          </p:nvSpPr>
          <p:spPr>
            <a:xfrm>
              <a:off x="1066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905120" y="2362320"/>
            <a:ext cx="457200" cy="1218960"/>
            <a:chOff x="1905120" y="2362320"/>
            <a:chExt cx="457200" cy="1218960"/>
          </a:xfrm>
        </p:grpSpPr>
        <p:sp>
          <p:nvSpPr>
            <p:cNvPr id="85" name=""/>
            <p:cNvSpPr/>
            <p:nvPr/>
          </p:nvSpPr>
          <p:spPr>
            <a:xfrm>
              <a:off x="19051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666880" y="2362320"/>
            <a:ext cx="457200" cy="1218960"/>
            <a:chOff x="2666880" y="2362320"/>
            <a:chExt cx="457200" cy="1218960"/>
          </a:xfrm>
        </p:grpSpPr>
        <p:sp>
          <p:nvSpPr>
            <p:cNvPr id="88" name=""/>
            <p:cNvSpPr/>
            <p:nvPr/>
          </p:nvSpPr>
          <p:spPr>
            <a:xfrm>
              <a:off x="26668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54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19720" y="2362320"/>
            <a:ext cx="457200" cy="1218960"/>
            <a:chOff x="4419720" y="2362320"/>
            <a:chExt cx="457200" cy="1218960"/>
          </a:xfrm>
        </p:grpSpPr>
        <p:sp>
          <p:nvSpPr>
            <p:cNvPr id="91" name=""/>
            <p:cNvSpPr/>
            <p:nvPr/>
          </p:nvSpPr>
          <p:spPr>
            <a:xfrm>
              <a:off x="44197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181480" y="2362320"/>
            <a:ext cx="457200" cy="1218960"/>
            <a:chOff x="5181480" y="2362320"/>
            <a:chExt cx="457200" cy="1218960"/>
          </a:xfrm>
        </p:grpSpPr>
        <p:sp>
          <p:nvSpPr>
            <p:cNvPr id="94" name=""/>
            <p:cNvSpPr/>
            <p:nvPr/>
          </p:nvSpPr>
          <p:spPr>
            <a:xfrm>
              <a:off x="51814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19920" y="2362320"/>
            <a:ext cx="457200" cy="1218960"/>
            <a:chOff x="6019920" y="2362320"/>
            <a:chExt cx="457200" cy="1218960"/>
          </a:xfrm>
        </p:grpSpPr>
        <p:sp>
          <p:nvSpPr>
            <p:cNvPr id="97" name=""/>
            <p:cNvSpPr/>
            <p:nvPr/>
          </p:nvSpPr>
          <p:spPr>
            <a:xfrm>
              <a:off x="6019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781680" y="2286000"/>
            <a:ext cx="457200" cy="1295280"/>
            <a:chOff x="6781680" y="2286000"/>
            <a:chExt cx="457200" cy="1295280"/>
          </a:xfrm>
        </p:grpSpPr>
        <p:sp>
          <p:nvSpPr>
            <p:cNvPr id="100" name=""/>
            <p:cNvSpPr/>
            <p:nvPr/>
          </p:nvSpPr>
          <p:spPr>
            <a:xfrm>
              <a:off x="6781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1028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09480" y="4952880"/>
            <a:ext cx="3276720" cy="703440"/>
            <a:chOff x="609480" y="4952880"/>
            <a:chExt cx="3276720" cy="703440"/>
          </a:xfrm>
        </p:grpSpPr>
        <p:sp>
          <p:nvSpPr>
            <p:cNvPr id="103" name=""/>
            <p:cNvSpPr/>
            <p:nvPr/>
          </p:nvSpPr>
          <p:spPr>
            <a:xfrm>
              <a:off x="609480" y="510552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5105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4952880"/>
              <a:ext cx="69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62320" y="55627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46360" y="4937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同样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48320" y="4876920"/>
            <a:ext cx="4495680" cy="703440"/>
            <a:chOff x="4648320" y="4876920"/>
            <a:chExt cx="4495680" cy="703440"/>
          </a:xfrm>
        </p:grpSpPr>
        <p:sp>
          <p:nvSpPr>
            <p:cNvPr id="109" name=""/>
            <p:cNvSpPr/>
            <p:nvPr/>
          </p:nvSpPr>
          <p:spPr>
            <a:xfrm>
              <a:off x="4648320" y="50292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5029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4876920"/>
              <a:ext cx="69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487692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多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(      )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个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959880" y="4800600"/>
            <a:ext cx="104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4648320"/>
            <a:ext cx="1043280" cy="105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62920" y="4572000"/>
            <a:ext cx="1042920" cy="1058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066680" cy="762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" y="2590920"/>
            <a:ext cx="685800" cy="1447560"/>
            <a:chOff x="228600" y="2590920"/>
            <a:chExt cx="685800" cy="1447560"/>
          </a:xfrm>
        </p:grpSpPr>
        <p:sp>
          <p:nvSpPr>
            <p:cNvPr id="123" name=""/>
            <p:cNvSpPr/>
            <p:nvPr/>
          </p:nvSpPr>
          <p:spPr>
            <a:xfrm>
              <a:off x="2286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096920" y="2590920"/>
            <a:ext cx="685800" cy="1447560"/>
            <a:chOff x="1096920" y="2590920"/>
            <a:chExt cx="685800" cy="1447560"/>
          </a:xfrm>
        </p:grpSpPr>
        <p:sp>
          <p:nvSpPr>
            <p:cNvPr id="126" name=""/>
            <p:cNvSpPr/>
            <p:nvPr/>
          </p:nvSpPr>
          <p:spPr>
            <a:xfrm>
              <a:off x="109692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780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965240" y="2590920"/>
            <a:ext cx="685800" cy="1447560"/>
            <a:chOff x="1965240" y="2590920"/>
            <a:chExt cx="685800" cy="1447560"/>
          </a:xfrm>
        </p:grpSpPr>
        <p:sp>
          <p:nvSpPr>
            <p:cNvPr id="129" name=""/>
            <p:cNvSpPr/>
            <p:nvPr/>
          </p:nvSpPr>
          <p:spPr>
            <a:xfrm>
              <a:off x="196524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612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33560" y="2590920"/>
            <a:ext cx="685800" cy="1447560"/>
            <a:chOff x="2833560" y="2590920"/>
            <a:chExt cx="685800" cy="1447560"/>
          </a:xfrm>
        </p:grpSpPr>
        <p:sp>
          <p:nvSpPr>
            <p:cNvPr id="132" name=""/>
            <p:cNvSpPr/>
            <p:nvPr/>
          </p:nvSpPr>
          <p:spPr>
            <a:xfrm>
              <a:off x="283356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1444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701880" y="2590920"/>
            <a:ext cx="685800" cy="1447560"/>
            <a:chOff x="3701880" y="2590920"/>
            <a:chExt cx="685800" cy="1447560"/>
          </a:xfrm>
        </p:grpSpPr>
        <p:sp>
          <p:nvSpPr>
            <p:cNvPr id="135" name=""/>
            <p:cNvSpPr/>
            <p:nvPr/>
          </p:nvSpPr>
          <p:spPr>
            <a:xfrm>
              <a:off x="370188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276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0" y="2590920"/>
            <a:ext cx="685800" cy="1447560"/>
            <a:chOff x="4572000" y="2590920"/>
            <a:chExt cx="685800" cy="1447560"/>
          </a:xfrm>
        </p:grpSpPr>
        <p:sp>
          <p:nvSpPr>
            <p:cNvPr id="138" name=""/>
            <p:cNvSpPr/>
            <p:nvPr/>
          </p:nvSpPr>
          <p:spPr>
            <a:xfrm>
              <a:off x="45720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14600" y="4876920"/>
            <a:ext cx="4991400" cy="685800"/>
            <a:chOff x="2514600" y="4876920"/>
            <a:chExt cx="4991400" cy="685800"/>
          </a:xfrm>
        </p:grpSpPr>
        <p:sp>
          <p:nvSpPr>
            <p:cNvPr id="141" name=""/>
            <p:cNvSpPr/>
            <p:nvPr/>
          </p:nvSpPr>
          <p:spPr>
            <a:xfrm>
              <a:off x="2514600" y="487692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480" y="487692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6120" y="4952880"/>
              <a:ext cx="416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684760" y="4815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9080" y="1828800"/>
            <a:ext cx="8534160" cy="609480"/>
            <a:chOff x="289080" y="1828800"/>
            <a:chExt cx="8534160" cy="609480"/>
          </a:xfrm>
        </p:grpSpPr>
        <p:sp>
          <p:nvSpPr>
            <p:cNvPr id="149" name=""/>
            <p:cNvSpPr/>
            <p:nvPr/>
          </p:nvSpPr>
          <p:spPr>
            <a:xfrm>
              <a:off x="2890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06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318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0520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7676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1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28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64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7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rot="5400000">
            <a:off x="2590560" y="-1219320"/>
            <a:ext cx="533160" cy="4953240"/>
          </a:xfrm>
          <a:custGeom>
            <a:avLst/>
            <a:gdLst>
              <a:gd name="textAreaLeft" fmla="*/ 340560 w 533160"/>
              <a:gd name="textAreaRight" fmla="*/ 533520 w 53316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858000" y="1218600"/>
            <a:ext cx="533160" cy="3276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63360 h 3276720"/>
              <a:gd name="textAreaBottom" fmla="*/ 321336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0"/>
                  <a:pt x="10800" y="1339"/>
                </a:cubicBezTo>
                <a:lnTo>
                  <a:pt x="10800" y="9136"/>
                </a:lnTo>
                <a:cubicBezTo>
                  <a:pt x="10800" y="9806"/>
                  <a:pt x="5400" y="10475"/>
                  <a:pt x="0" y="10475"/>
                </a:cubicBezTo>
                <a:cubicBezTo>
                  <a:pt x="5400" y="10475"/>
                  <a:pt x="10800" y="11145"/>
                  <a:pt x="10800" y="11814"/>
                </a:cubicBezTo>
                <a:lnTo>
                  <a:pt x="10800" y="20261"/>
                </a:lnTo>
                <a:cubicBezTo>
                  <a:pt x="10800" y="209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10720" y="380880"/>
            <a:ext cx="1820520" cy="581400"/>
            <a:chOff x="2610720" y="380880"/>
            <a:chExt cx="1820520" cy="581400"/>
          </a:xfrm>
        </p:grpSpPr>
        <p:sp>
          <p:nvSpPr>
            <p:cNvPr id="162" name=""/>
            <p:cNvSpPr/>
            <p:nvPr/>
          </p:nvSpPr>
          <p:spPr>
            <a:xfrm>
              <a:off x="2610720" y="380880"/>
              <a:ext cx="182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跟    同样多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66880" y="457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305760" y="3124080"/>
            <a:ext cx="1479240" cy="642600"/>
            <a:chOff x="6305760" y="3124080"/>
            <a:chExt cx="1479240" cy="642600"/>
          </a:xfrm>
        </p:grpSpPr>
        <p:sp>
          <p:nvSpPr>
            <p:cNvPr id="165" name=""/>
            <p:cNvSpPr/>
            <p:nvPr/>
          </p:nvSpPr>
          <p:spPr>
            <a:xfrm>
              <a:off x="6305760" y="3124080"/>
              <a:ext cx="147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比    多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3200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10080" y="914400"/>
            <a:ext cx="0" cy="2514600"/>
          </a:xfrm>
          <a:prstGeom prst="line">
            <a:avLst/>
          </a:prstGeom>
          <a:ln w="982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蓝碗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蓝碗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蓝碗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5" name="蓝碗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6" name="蓝碗" descr=""/>
          <p:cNvPicPr/>
          <p:nvPr/>
        </p:nvPicPr>
        <p:blipFill>
          <a:blip r:embed="rId5"/>
          <a:stretch/>
        </p:blipFill>
        <p:spPr>
          <a:xfrm>
            <a:off x="43434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蓝碗" descr=""/>
          <p:cNvPicPr/>
          <p:nvPr/>
        </p:nvPicPr>
        <p:blipFill>
          <a:blip r:embed="rId6"/>
          <a:stretch/>
        </p:blipFill>
        <p:spPr>
          <a:xfrm>
            <a:off x="5257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蓝碗" descr=""/>
          <p:cNvPicPr/>
          <p:nvPr/>
        </p:nvPicPr>
        <p:blipFill>
          <a:blip r:embed="rId7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黄碗" descr=""/>
          <p:cNvPicPr/>
          <p:nvPr/>
        </p:nvPicPr>
        <p:blipFill>
          <a:blip r:embed="rId8"/>
          <a:stretch/>
        </p:blipFill>
        <p:spPr>
          <a:xfrm>
            <a:off x="6858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黄碗" descr=""/>
          <p:cNvPicPr/>
          <p:nvPr/>
        </p:nvPicPr>
        <p:blipFill>
          <a:blip r:embed="rId9"/>
          <a:stretch/>
        </p:blipFill>
        <p:spPr>
          <a:xfrm>
            <a:off x="16002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1" name="黄碗" descr=""/>
          <p:cNvPicPr/>
          <p:nvPr/>
        </p:nvPicPr>
        <p:blipFill>
          <a:blip r:embed="rId10"/>
          <a:stretch/>
        </p:blipFill>
        <p:spPr>
          <a:xfrm>
            <a:off x="25146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2" name="黄碗" descr=""/>
          <p:cNvPicPr/>
          <p:nvPr/>
        </p:nvPicPr>
        <p:blipFill>
          <a:blip r:embed="rId11"/>
          <a:stretch/>
        </p:blipFill>
        <p:spPr>
          <a:xfrm>
            <a:off x="34290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3" name="黄碗" descr=""/>
          <p:cNvPicPr/>
          <p:nvPr/>
        </p:nvPicPr>
        <p:blipFill>
          <a:blip r:embed="rId12"/>
          <a:stretch/>
        </p:blipFill>
        <p:spPr>
          <a:xfrm>
            <a:off x="4419720" y="297180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257800" y="1676520"/>
            <a:ext cx="1828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蓝碗" descr=""/>
          <p:cNvPicPr/>
          <p:nvPr/>
        </p:nvPicPr>
        <p:blipFill>
          <a:blip r:embed="rId14"/>
          <a:stretch/>
        </p:blipFill>
        <p:spPr>
          <a:xfrm>
            <a:off x="7086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0" name="蓝碗" descr=""/>
          <p:cNvPicPr/>
          <p:nvPr/>
        </p:nvPicPr>
        <p:blipFill>
          <a:blip r:embed="rId15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蓝碗" descr=""/>
          <p:cNvPicPr/>
          <p:nvPr/>
        </p:nvPicPr>
        <p:blipFill>
          <a:blip r:embed="rId16"/>
          <a:stretch/>
        </p:blipFill>
        <p:spPr>
          <a:xfrm>
            <a:off x="8001000" y="182880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676520" y="4572000"/>
            <a:ext cx="5069160" cy="609480"/>
            <a:chOff x="1676520" y="4572000"/>
            <a:chExt cx="5069160" cy="609480"/>
          </a:xfrm>
        </p:grpSpPr>
        <p:sp>
          <p:nvSpPr>
            <p:cNvPr id="193" name=""/>
            <p:cNvSpPr/>
            <p:nvPr/>
          </p:nvSpPr>
          <p:spPr>
            <a:xfrm>
              <a:off x="2680920" y="4572000"/>
              <a:ext cx="40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蓝碗" descr=""/>
            <p:cNvPicPr/>
            <p:nvPr/>
          </p:nvPicPr>
          <p:blipFill>
            <a:blip r:embed="rId17"/>
            <a:stretch/>
          </p:blipFill>
          <p:spPr>
            <a:xfrm>
              <a:off x="167652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黄碗" descr=""/>
            <p:cNvPicPr/>
            <p:nvPr/>
          </p:nvPicPr>
          <p:blipFill>
            <a:blip r:embed="rId18"/>
            <a:stretch/>
          </p:blipFill>
          <p:spPr>
            <a:xfrm>
              <a:off x="320040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4922640" y="4433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0"/>
            <a:ext cx="2133720" cy="685800"/>
            <a:chOff x="0" y="0"/>
            <a:chExt cx="2133720" cy="685800"/>
          </a:xfrm>
        </p:grpSpPr>
        <p:sp>
          <p:nvSpPr>
            <p:cNvPr id="198" name=""/>
            <p:cNvSpPr/>
            <p:nvPr/>
          </p:nvSpPr>
          <p:spPr>
            <a:xfrm>
              <a:off x="0" y="0"/>
              <a:ext cx="2133720" cy="68580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320" y="0"/>
                  </a:lnTo>
                  <a:lnTo>
                    <a:pt x="21600" y="10800"/>
                  </a:lnTo>
                  <a:lnTo>
                    <a:pt x="1432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20" y="50760"/>
              <a:ext cx="1285560" cy="58140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做 一 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057400" y="838080"/>
            <a:ext cx="5257800" cy="1828440"/>
            <a:chOff x="2057400" y="838080"/>
            <a:chExt cx="5257800" cy="1828440"/>
          </a:xfrm>
        </p:grpSpPr>
        <p:grpSp>
          <p:nvGrpSpPr>
            <p:cNvPr id="203" name=""/>
            <p:cNvGrpSpPr/>
            <p:nvPr/>
          </p:nvGrpSpPr>
          <p:grpSpPr>
            <a:xfrm>
              <a:off x="2057400" y="1828440"/>
              <a:ext cx="380880" cy="838080"/>
              <a:chOff x="2057400" y="1828440"/>
              <a:chExt cx="380880" cy="838080"/>
            </a:xfrm>
          </p:grpSpPr>
          <p:sp>
            <p:nvSpPr>
              <p:cNvPr id="204" name=""/>
              <p:cNvSpPr/>
              <p:nvPr/>
            </p:nvSpPr>
            <p:spPr>
              <a:xfrm>
                <a:off x="20574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687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514600" y="1828440"/>
              <a:ext cx="380880" cy="838080"/>
              <a:chOff x="2514600" y="1828440"/>
              <a:chExt cx="380880" cy="838080"/>
            </a:xfrm>
          </p:grpSpPr>
          <p:sp>
            <p:nvSpPr>
              <p:cNvPr id="207" name=""/>
              <p:cNvSpPr/>
              <p:nvPr/>
            </p:nvSpPr>
            <p:spPr>
              <a:xfrm>
                <a:off x="25146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259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048120" y="1828440"/>
              <a:ext cx="380880" cy="838080"/>
              <a:chOff x="3048120" y="1828440"/>
              <a:chExt cx="380880" cy="8380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4812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5944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581280" y="1828440"/>
              <a:ext cx="381240" cy="838080"/>
              <a:chOff x="3581280" y="1828440"/>
              <a:chExt cx="38124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3581280" y="2269440"/>
                <a:ext cx="38124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9296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114800" y="1828440"/>
              <a:ext cx="380880" cy="838080"/>
              <a:chOff x="4114800" y="1828440"/>
              <a:chExt cx="380880" cy="838080"/>
            </a:xfrm>
          </p:grpSpPr>
          <p:sp>
            <p:nvSpPr>
              <p:cNvPr id="216" name=""/>
              <p:cNvSpPr/>
              <p:nvPr/>
            </p:nvSpPr>
            <p:spPr>
              <a:xfrm>
                <a:off x="41148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261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572000" y="1828440"/>
              <a:ext cx="380880" cy="838080"/>
              <a:chOff x="4572000" y="1828440"/>
              <a:chExt cx="380880" cy="838080"/>
            </a:xfrm>
          </p:grpSpPr>
          <p:sp>
            <p:nvSpPr>
              <p:cNvPr id="219" name=""/>
              <p:cNvSpPr/>
              <p:nvPr/>
            </p:nvSpPr>
            <p:spPr>
              <a:xfrm>
                <a:off x="45720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833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1178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020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62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719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561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0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99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641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83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838080"/>
              <a:ext cx="0" cy="121896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905120" y="3886200"/>
            <a:ext cx="5638320" cy="1752120"/>
            <a:chOff x="1905120" y="3886200"/>
            <a:chExt cx="5638320" cy="1752120"/>
          </a:xfrm>
        </p:grpSpPr>
        <p:grpSp>
          <p:nvGrpSpPr>
            <p:cNvPr id="233" name=""/>
            <p:cNvGrpSpPr/>
            <p:nvPr/>
          </p:nvGrpSpPr>
          <p:grpSpPr>
            <a:xfrm>
              <a:off x="1905120" y="4191120"/>
              <a:ext cx="5638320" cy="1447200"/>
              <a:chOff x="1905120" y="4191120"/>
              <a:chExt cx="5638320" cy="1447200"/>
            </a:xfrm>
          </p:grpSpPr>
          <p:pic>
            <p:nvPicPr>
              <p:cNvPr id="234" name="蓝碗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51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蓝碗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15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蓝碗" descr=""/>
              <p:cNvPicPr/>
              <p:nvPr/>
            </p:nvPicPr>
            <p:blipFill>
              <a:blip r:embed="rId3"/>
              <a:stretch/>
            </p:blipFill>
            <p:spPr>
              <a:xfrm>
                <a:off x="31579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蓝碗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46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蓝碗" descr=""/>
              <p:cNvPicPr/>
              <p:nvPr/>
            </p:nvPicPr>
            <p:blipFill>
              <a:blip r:embed="rId5"/>
              <a:stretch/>
            </p:blipFill>
            <p:spPr>
              <a:xfrm>
                <a:off x="44110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黄碗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黄碗" descr=""/>
              <p:cNvPicPr/>
              <p:nvPr/>
            </p:nvPicPr>
            <p:blipFill>
              <a:blip r:embed="rId7"/>
              <a:stretch/>
            </p:blipFill>
            <p:spPr>
              <a:xfrm>
                <a:off x="25315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黄碗" descr=""/>
              <p:cNvPicPr/>
              <p:nvPr/>
            </p:nvPicPr>
            <p:blipFill>
              <a:blip r:embed="rId8"/>
              <a:stretch/>
            </p:blipFill>
            <p:spPr>
              <a:xfrm>
                <a:off x="31579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黄碗" descr=""/>
              <p:cNvPicPr/>
              <p:nvPr/>
            </p:nvPicPr>
            <p:blipFill>
              <a:blip r:embed="rId9"/>
              <a:stretch/>
            </p:blipFill>
            <p:spPr>
              <a:xfrm>
                <a:off x="37846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黄碗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632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蓝碗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906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蓝碗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642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蓝碗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170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7" name=""/>
            <p:cNvSpPr/>
            <p:nvPr/>
          </p:nvSpPr>
          <p:spPr>
            <a:xfrm>
              <a:off x="5410080" y="3886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ub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49" name="tuh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586080" cy="838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521440" y="380880"/>
            <a:ext cx="479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校里养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白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黑兔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6440" y="12193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白兔比黑兔多几只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tub" descr=""/>
          <p:cNvPicPr/>
          <p:nvPr/>
        </p:nvPicPr>
        <p:blipFill>
          <a:blip r:embed="rId3"/>
          <a:stretch/>
        </p:blipFill>
        <p:spPr>
          <a:xfrm>
            <a:off x="19540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tub" descr=""/>
          <p:cNvPicPr/>
          <p:nvPr/>
        </p:nvPicPr>
        <p:blipFill>
          <a:blip r:embed="rId4"/>
          <a:stretch/>
        </p:blipFill>
        <p:spPr>
          <a:xfrm>
            <a:off x="253692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tub" descr=""/>
          <p:cNvPicPr/>
          <p:nvPr/>
        </p:nvPicPr>
        <p:blipFill>
          <a:blip r:embed="rId5"/>
          <a:stretch/>
        </p:blipFill>
        <p:spPr>
          <a:xfrm>
            <a:off x="311796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tub" descr=""/>
          <p:cNvPicPr/>
          <p:nvPr/>
        </p:nvPicPr>
        <p:blipFill>
          <a:blip r:embed="rId6"/>
          <a:stretch/>
        </p:blipFill>
        <p:spPr>
          <a:xfrm>
            <a:off x="370044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6" name="tub" descr=""/>
          <p:cNvPicPr/>
          <p:nvPr/>
        </p:nvPicPr>
        <p:blipFill>
          <a:blip r:embed="rId7"/>
          <a:stretch/>
        </p:blipFill>
        <p:spPr>
          <a:xfrm>
            <a:off x="42814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tub" descr=""/>
          <p:cNvPicPr/>
          <p:nvPr/>
        </p:nvPicPr>
        <p:blipFill>
          <a:blip r:embed="rId8"/>
          <a:stretch/>
        </p:blipFill>
        <p:spPr>
          <a:xfrm>
            <a:off x="48639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tub" descr=""/>
          <p:cNvPicPr/>
          <p:nvPr/>
        </p:nvPicPr>
        <p:blipFill>
          <a:blip r:embed="rId9"/>
          <a:stretch/>
        </p:blipFill>
        <p:spPr>
          <a:xfrm>
            <a:off x="54450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tub" descr=""/>
          <p:cNvPicPr/>
          <p:nvPr/>
        </p:nvPicPr>
        <p:blipFill>
          <a:blip r:embed="rId10"/>
          <a:stretch/>
        </p:blipFill>
        <p:spPr>
          <a:xfrm>
            <a:off x="602784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tub" descr=""/>
          <p:cNvPicPr/>
          <p:nvPr/>
        </p:nvPicPr>
        <p:blipFill>
          <a:blip r:embed="rId11"/>
          <a:stretch/>
        </p:blipFill>
        <p:spPr>
          <a:xfrm>
            <a:off x="660888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1" name="tub" descr=""/>
          <p:cNvPicPr/>
          <p:nvPr/>
        </p:nvPicPr>
        <p:blipFill>
          <a:blip r:embed="rId12"/>
          <a:stretch/>
        </p:blipFill>
        <p:spPr>
          <a:xfrm>
            <a:off x="71913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2" name="tub" descr=""/>
          <p:cNvPicPr/>
          <p:nvPr/>
        </p:nvPicPr>
        <p:blipFill>
          <a:blip r:embed="rId13"/>
          <a:stretch/>
        </p:blipFill>
        <p:spPr>
          <a:xfrm>
            <a:off x="77724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tuh" descr=""/>
          <p:cNvPicPr/>
          <p:nvPr/>
        </p:nvPicPr>
        <p:blipFill>
          <a:blip r:embed="rId14"/>
          <a:stretch/>
        </p:blipFill>
        <p:spPr>
          <a:xfrm>
            <a:off x="189216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4" name="tuh" descr=""/>
          <p:cNvPicPr/>
          <p:nvPr/>
        </p:nvPicPr>
        <p:blipFill>
          <a:blip r:embed="rId15"/>
          <a:stretch/>
        </p:blipFill>
        <p:spPr>
          <a:xfrm>
            <a:off x="248904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tuh" descr=""/>
          <p:cNvPicPr/>
          <p:nvPr/>
        </p:nvPicPr>
        <p:blipFill>
          <a:blip r:embed="rId16"/>
          <a:stretch/>
        </p:blipFill>
        <p:spPr>
          <a:xfrm>
            <a:off x="308628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6" name="tuh" descr=""/>
          <p:cNvPicPr/>
          <p:nvPr/>
        </p:nvPicPr>
        <p:blipFill>
          <a:blip r:embed="rId17"/>
          <a:stretch/>
        </p:blipFill>
        <p:spPr>
          <a:xfrm>
            <a:off x="368316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7" name="tuh" descr=""/>
          <p:cNvPicPr/>
          <p:nvPr/>
        </p:nvPicPr>
        <p:blipFill>
          <a:blip r:embed="rId18"/>
          <a:stretch/>
        </p:blipFill>
        <p:spPr>
          <a:xfrm>
            <a:off x="428004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8" name="tuh" descr=""/>
          <p:cNvPicPr/>
          <p:nvPr/>
        </p:nvPicPr>
        <p:blipFill>
          <a:blip r:embed="rId19"/>
          <a:stretch/>
        </p:blipFill>
        <p:spPr>
          <a:xfrm>
            <a:off x="4876920" y="3962520"/>
            <a:ext cx="585720" cy="838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90720" y="1905120"/>
            <a:ext cx="4343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1066680"/>
            <a:ext cx="221004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259092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1066680"/>
            <a:ext cx="220968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4320" y="3200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白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3600" y="41148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黑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4610160" y="-723960"/>
            <a:ext cx="457200" cy="6934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80720 h 6934320"/>
              <a:gd name="textAreaBottom" fmla="*/ 6753600 h 693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 rot="16189200">
            <a:off x="3085560" y="3008880"/>
            <a:ext cx="457200" cy="4038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2840" y="21337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29320" y="51814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 rot="16189200">
            <a:off x="6705360" y="2590920"/>
            <a:ext cx="304920" cy="2895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15480" y="4191120"/>
            <a:ext cx="10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多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跟黑兔同样多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0080" y="5257800"/>
            <a:ext cx="30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 - 7= 5 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77320" y="6156360"/>
            <a:ext cx="40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白兔比黑兔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1695600" cy="1347840"/>
            <a:chOff x="0" y="0"/>
            <a:chExt cx="1695600" cy="1347840"/>
          </a:xfrm>
        </p:grpSpPr>
        <p:pic>
          <p:nvPicPr>
            <p:cNvPr id="286" name="" descr=""/>
            <p:cNvPicPr/>
            <p:nvPr/>
          </p:nvPicPr>
          <p:blipFill>
            <a:blip r:embed="rId20"/>
            <a:stretch/>
          </p:blipFill>
          <p:spPr>
            <a:xfrm>
              <a:off x="0" y="0"/>
              <a:ext cx="16956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81240" y="304560"/>
              <a:ext cx="6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371600" y="2971800"/>
            <a:ext cx="4079880" cy="838080"/>
            <a:chOff x="1371600" y="2971800"/>
            <a:chExt cx="4079880" cy="838080"/>
          </a:xfrm>
        </p:grpSpPr>
        <p:pic>
          <p:nvPicPr>
            <p:cNvPr id="289" name="tub" descr=""/>
            <p:cNvPicPr/>
            <p:nvPr/>
          </p:nvPicPr>
          <p:blipFill>
            <a:blip r:embed="rId21"/>
            <a:stretch/>
          </p:blipFill>
          <p:spPr>
            <a:xfrm>
              <a:off x="137160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tub" descr=""/>
            <p:cNvPicPr/>
            <p:nvPr/>
          </p:nvPicPr>
          <p:blipFill>
            <a:blip r:embed="rId22"/>
            <a:stretch/>
          </p:blipFill>
          <p:spPr>
            <a:xfrm>
              <a:off x="1954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tub" descr=""/>
            <p:cNvPicPr/>
            <p:nvPr/>
          </p:nvPicPr>
          <p:blipFill>
            <a:blip r:embed="rId23"/>
            <a:stretch/>
          </p:blipFill>
          <p:spPr>
            <a:xfrm>
              <a:off x="25365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tub" descr=""/>
            <p:cNvPicPr/>
            <p:nvPr/>
          </p:nvPicPr>
          <p:blipFill>
            <a:blip r:embed="rId24"/>
            <a:stretch/>
          </p:blipFill>
          <p:spPr>
            <a:xfrm>
              <a:off x="311760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tub" descr=""/>
            <p:cNvPicPr/>
            <p:nvPr/>
          </p:nvPicPr>
          <p:blipFill>
            <a:blip r:embed="rId25"/>
            <a:stretch/>
          </p:blipFill>
          <p:spPr>
            <a:xfrm>
              <a:off x="370044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tub" descr=""/>
            <p:cNvPicPr/>
            <p:nvPr/>
          </p:nvPicPr>
          <p:blipFill>
            <a:blip r:embed="rId26"/>
            <a:stretch/>
          </p:blipFill>
          <p:spPr>
            <a:xfrm>
              <a:off x="428148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tub" descr=""/>
            <p:cNvPicPr/>
            <p:nvPr/>
          </p:nvPicPr>
          <p:blipFill>
            <a:blip r:embed="rId27"/>
            <a:stretch/>
          </p:blipFill>
          <p:spPr>
            <a:xfrm>
              <a:off x="48639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0" y="59436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10080" y="2971800"/>
            <a:ext cx="2914920" cy="838080"/>
            <a:chOff x="5410080" y="2971800"/>
            <a:chExt cx="2914920" cy="838080"/>
          </a:xfrm>
        </p:grpSpPr>
        <p:pic>
          <p:nvPicPr>
            <p:cNvPr id="298" name="tub" descr=""/>
            <p:cNvPicPr/>
            <p:nvPr/>
          </p:nvPicPr>
          <p:blipFill>
            <a:blip r:embed="rId28"/>
            <a:stretch/>
          </p:blipFill>
          <p:spPr>
            <a:xfrm>
              <a:off x="5410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tub" descr=""/>
            <p:cNvPicPr/>
            <p:nvPr/>
          </p:nvPicPr>
          <p:blipFill>
            <a:blip r:embed="rId29"/>
            <a:stretch/>
          </p:blipFill>
          <p:spPr>
            <a:xfrm>
              <a:off x="599292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tub" descr=""/>
            <p:cNvPicPr/>
            <p:nvPr/>
          </p:nvPicPr>
          <p:blipFill>
            <a:blip r:embed="rId30"/>
            <a:stretch/>
          </p:blipFill>
          <p:spPr>
            <a:xfrm>
              <a:off x="657396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tub" descr=""/>
            <p:cNvPicPr/>
            <p:nvPr/>
          </p:nvPicPr>
          <p:blipFill>
            <a:blip r:embed="rId31"/>
            <a:stretch/>
          </p:blipFill>
          <p:spPr>
            <a:xfrm>
              <a:off x="715644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tub" descr=""/>
            <p:cNvPicPr/>
            <p:nvPr/>
          </p:nvPicPr>
          <p:blipFill>
            <a:blip r:embed="rId32"/>
            <a:stretch/>
          </p:blipFill>
          <p:spPr>
            <a:xfrm>
              <a:off x="77374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3"/>
          <a:stretch/>
        </p:blipFill>
        <p:spPr>
          <a:xfrm>
            <a:off x="5715000" y="1523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dbc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542880" cy="831960"/>
          </a:xfrm>
          <a:prstGeom prst="rect">
            <a:avLst/>
          </a:prstGeom>
          <a:ln w="0">
            <a:noFill/>
          </a:ln>
        </p:spPr>
      </p:pic>
      <p:pic>
        <p:nvPicPr>
          <p:cNvPr id="312" name="ybc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615960" cy="533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247400" y="533520"/>
            <a:ext cx="856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方民家收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51920" y="167652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几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8440" y="5029200"/>
            <a:ext cx="423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13 - 8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5 (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39960" y="5943600"/>
            <a:ext cx="552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305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94360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1219320"/>
            <a:ext cx="259056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438280"/>
            <a:ext cx="5410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10160" y="2666880"/>
            <a:ext cx="7281360" cy="2485800"/>
            <a:chOff x="110160" y="2666880"/>
            <a:chExt cx="7281360" cy="2485800"/>
          </a:xfrm>
        </p:grpSpPr>
        <p:pic>
          <p:nvPicPr>
            <p:cNvPr id="323" name="dbc" descr=""/>
            <p:cNvPicPr/>
            <p:nvPr/>
          </p:nvPicPr>
          <p:blipFill>
            <a:blip r:embed="rId4"/>
            <a:stretch/>
          </p:blipFill>
          <p:spPr>
            <a:xfrm>
              <a:off x="31240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dbc" descr=""/>
            <p:cNvPicPr/>
            <p:nvPr/>
          </p:nvPicPr>
          <p:blipFill>
            <a:blip r:embed="rId5"/>
            <a:stretch/>
          </p:blipFill>
          <p:spPr>
            <a:xfrm>
              <a:off x="36576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dbc" descr=""/>
            <p:cNvPicPr/>
            <p:nvPr/>
          </p:nvPicPr>
          <p:blipFill>
            <a:blip r:embed="rId6"/>
            <a:stretch/>
          </p:blipFill>
          <p:spPr>
            <a:xfrm>
              <a:off x="41148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dbc" descr=""/>
            <p:cNvPicPr/>
            <p:nvPr/>
          </p:nvPicPr>
          <p:blipFill>
            <a:blip r:embed="rId7"/>
            <a:stretch/>
          </p:blipFill>
          <p:spPr>
            <a:xfrm>
              <a:off x="46483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dbc" descr=""/>
            <p:cNvPicPr/>
            <p:nvPr/>
          </p:nvPicPr>
          <p:blipFill>
            <a:blip r:embed="rId8"/>
            <a:stretch/>
          </p:blipFill>
          <p:spPr>
            <a:xfrm>
              <a:off x="5105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dbc" descr=""/>
            <p:cNvPicPr/>
            <p:nvPr/>
          </p:nvPicPr>
          <p:blipFill>
            <a:blip r:embed="rId9"/>
            <a:stretch/>
          </p:blipFill>
          <p:spPr>
            <a:xfrm>
              <a:off x="26668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dbc" descr=""/>
            <p:cNvPicPr/>
            <p:nvPr/>
          </p:nvPicPr>
          <p:blipFill>
            <a:blip r:embed="rId10"/>
            <a:stretch/>
          </p:blipFill>
          <p:spPr>
            <a:xfrm>
              <a:off x="22096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dbc" descr=""/>
            <p:cNvPicPr/>
            <p:nvPr/>
          </p:nvPicPr>
          <p:blipFill>
            <a:blip r:embed="rId11"/>
            <a:stretch/>
          </p:blipFill>
          <p:spPr>
            <a:xfrm>
              <a:off x="1676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52480" y="3505320"/>
              <a:ext cx="563904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86400" y="35812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160" y="274284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大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0160" y="358092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圆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 rot="16189200">
              <a:off x="4381560" y="1712880"/>
              <a:ext cx="379440" cy="54849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142920 h 5484960"/>
                <a:gd name="textAreaBottom" fmla="*/ 5342040 h 548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91480" y="45712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 rot="5389200">
              <a:off x="6247080" y="2360880"/>
              <a:ext cx="379440" cy="19047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75640" y="2696400"/>
              <a:ext cx="10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多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skt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8600" y="762120"/>
            <a:ext cx="4191120" cy="41623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923360" y="70812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鸭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96360" y="225900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96360" y="378288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鸭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60720" y="14968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30=1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60720" y="294480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20=2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84400" y="44686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0-20=10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58280" y="6858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58280" y="2209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1960" y="3733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43680" y="5105520"/>
            <a:ext cx="41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、鸭、鹅一共（     ）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04200" y="5762520"/>
            <a:ext cx="35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+30+20=9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23200" y="5043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2:27:05Z</dcterms:created>
  <dc:creator>hdk</dc:creator>
  <dc:description/>
  <dc:language>en-US</dc:language>
  <cp:lastModifiedBy>电教室</cp:lastModifiedBy>
  <dcterms:modified xsi:type="dcterms:W3CDTF">1996-04-12T09:50:00Z</dcterms:modified>
  <cp:revision>42</cp:revision>
  <dc:subject/>
  <dc:title>没有幻灯片标题</dc:title>
</cp:coreProperties>
</file>