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74F4-910D-4BA5-9385-3A7E17E96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FDDA-AC7E-49CD-833B-6B415F93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3D30-61CD-466D-98D4-98ECE17D7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C407-19F2-4CB4-AA76-BDFB5970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EC52-49BB-4A78-A6A3-C38616E0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FC2C-4E49-4FF9-AE50-1797EE57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3541-61AC-4C06-A3F9-7BB89ECF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0021-278B-4E1B-B22D-7E85F290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FE05-E006-4AA1-A0B4-A8AFC9CB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B596-3C95-4898-BA86-02A713B8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096D-FA29-42F3-BF45-2FB1FAA5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0C98-2EEF-4896-947C-367F3032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D541-3170-4015-974A-BC0BDF7536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3300"/>
                </a:solidFill>
                <a:latin typeface="Times New Roman"/>
              </a:rPr>
              <a:t>Unit 18 Office equip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6280" y="1143000"/>
            <a:ext cx="5214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Teleph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Compu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Prin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mes New Roman"/>
              </a:rPr>
              <a:t>Scann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Fax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Photocopi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Answering machin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6600"/>
                </a:solidFill>
                <a:latin typeface="Times New Roman"/>
              </a:rPr>
              <a:t>Word process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761760" y="838080"/>
            <a:ext cx="7848360" cy="47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00"/>
                </a:solidFill>
                <a:latin typeface="Times New Roman"/>
              </a:rPr>
              <a:t>            </a:t>
            </a:r>
            <a:r>
              <a:rPr b="1" i="1" lang="en-US" sz="6600" spc="-1" strike="noStrike">
                <a:solidFill>
                  <a:srgbClr val="ff3300"/>
                </a:solidFill>
                <a:latin typeface="Times New Roman"/>
              </a:rPr>
              <a:t>Oral competition</a:t>
            </a:r>
            <a:br>
              <a:rPr sz="6600"/>
            </a:br>
            <a:r>
              <a:rPr b="1" i="1" lang="en-US" sz="3600" spc="-1" strike="noStrike">
                <a:solidFill>
                  <a:srgbClr val="ffff00"/>
                </a:solidFill>
                <a:latin typeface="Times New Roman"/>
              </a:rPr>
              <a:t>Suppose you are a secretary in an office. Would you please introduce the modern equipments to the visitor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3300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. Read the text aloud after cla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. Make sentences with the key phras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. Write a short passage about how to sell one of the four modern equipments as  a bagm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3300"/>
                </a:solidFill>
                <a:latin typeface="Times New Roman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un1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772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380880"/>
          <a:ext cx="8610480" cy="5736960"/>
        </p:xfrm>
        <a:graphic>
          <a:graphicData uri="http://schemas.openxmlformats.org/drawingml/2006/table">
            <a:tbl>
              <a:tblPr/>
              <a:tblGrid>
                <a:gridCol w="3276720"/>
                <a:gridCol w="5333760"/>
              </a:tblGrid>
              <a:tr h="9972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fax machine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9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"/>
          <p:cNvSpPr/>
          <p:nvPr/>
        </p:nvSpPr>
        <p:spPr>
          <a:xfrm>
            <a:off x="3886200" y="16002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machine “read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05320" y="20574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changes … into electronic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89120" y="2657520"/>
            <a:ext cx="540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sends signals down a telephone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9400" y="3301920"/>
            <a:ext cx="278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much quick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641760" y="4038480"/>
            <a:ext cx="496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more expensive than pos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81280" y="484488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fax can be read by any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457200"/>
          <a:ext cx="8534520" cy="6132600"/>
        </p:xfrm>
        <a:graphic>
          <a:graphicData uri="http://schemas.openxmlformats.org/drawingml/2006/table">
            <a:tbl>
              <a:tblPr/>
              <a:tblGrid>
                <a:gridCol w="2362320"/>
                <a:gridCol w="6172200"/>
              </a:tblGrid>
              <a:tr h="764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photocopie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4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"/>
          <p:cNvSpPr/>
          <p:nvPr/>
        </p:nvSpPr>
        <p:spPr>
          <a:xfrm>
            <a:off x="2666880" y="1523880"/>
            <a:ext cx="6019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cc3300"/>
                </a:solidFill>
                <a:latin typeface="Times New Roman"/>
              </a:rPr>
              <a:t>using a mirror, a roller &amp; special black pow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3267000"/>
            <a:ext cx="655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Make bigger or smaller, lighter or dark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copy onto both sides of the pap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44200" y="4210200"/>
            <a:ext cx="608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copy a long report and sort and p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copies togeth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4040" y="540720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can produce color cop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52280" y="304920"/>
          <a:ext cx="8686800" cy="6896160"/>
        </p:xfrm>
        <a:graphic>
          <a:graphicData uri="http://schemas.openxmlformats.org/drawingml/2006/table">
            <a:tbl>
              <a:tblPr/>
              <a:tblGrid>
                <a:gridCol w="2286000"/>
                <a:gridCol w="6400800"/>
              </a:tblGrid>
              <a:tr h="784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word processor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438280" y="10447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ombines a typewriter keyboard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printer and a compu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24240" y="2254320"/>
            <a:ext cx="655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the writing appears on a screen &amp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is recorded onto a computer di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76520" y="3549600"/>
            <a:ext cx="63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you make any changes you wish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check it and print 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03440" y="4952880"/>
            <a:ext cx="6640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instead of spending five hours typ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Times New Roman"/>
              </a:rPr>
              <a:t>the report again, print it in one min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52280" y="304920"/>
          <a:ext cx="8686800" cy="6354720"/>
        </p:xfrm>
        <a:graphic>
          <a:graphicData uri="http://schemas.openxmlformats.org/drawingml/2006/table">
            <a:tbl>
              <a:tblPr/>
              <a:tblGrid>
                <a:gridCol w="2362320"/>
                <a:gridCol w="6324480"/>
              </a:tblGrid>
              <a:tr h="100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8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The answering machine</a:t>
                      </a:r>
                      <a:r>
                        <a:rPr b="1" i="1" lang="en-US" sz="44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r>
                        <a:rPr b="1" i="1" lang="en-US" sz="3200" spc="-1" strike="noStrike">
                          <a:solidFill>
                            <a:srgbClr val="006600"/>
                          </a:solidFill>
                          <a:latin typeface="Times New Roman"/>
                        </a:rPr>
                        <a:t>	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4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How to wor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Advantages &amp; disadvantag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2577600" y="1949400"/>
            <a:ext cx="62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leave the answering machine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02360" y="2482920"/>
            <a:ext cx="63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people who call you up can lea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messag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27360" y="3952800"/>
            <a:ext cx="583884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the following morning or after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holiday, you can listen to the mess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Times New Roman"/>
              </a:rPr>
              <a:t>and take any necessary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04760" y="5559480"/>
            <a:ext cx="412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“</a:t>
            </a:r>
            <a:r>
              <a:rPr b="1" i="1" lang="en-US" sz="4000" spc="-1" strike="noStrike">
                <a:solidFill>
                  <a:srgbClr val="cc3300"/>
                </a:solidFill>
                <a:latin typeface="Times New Roman"/>
              </a:rPr>
              <a:t>information line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98760" y="137160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Times New Roman"/>
              </a:rPr>
              <a:t>a telephone with a tape rec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00"/>
                </a:solidFill>
                <a:latin typeface="Times New Roman"/>
              </a:rPr>
              <a:t>Discus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1. When should you find out how to work the office equip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2. What does “be rushed off one’s feet” mea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3. Why is it not surprising that Japan has more fax machines than any other country in the worl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9900"/>
                </a:solidFill>
                <a:latin typeface="Times New Roman"/>
              </a:rPr>
              <a:t>4. If you were the Head Teacher of a school, which of the machines would be useful to have? In what ways could they be us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Times New Roman"/>
              </a:rPr>
              <a:t>Fill in the blanks with the proper word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1. The __________is a type of machine which is use to make copies from newspapers, books or repor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2. The fax machine is used to ________ including words, pictures, designs and ma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3. The word processor is a kind of machine which is used to __________ , save them for future use and make changes if necessa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Times New Roman"/>
              </a:rPr>
              <a:t>4. The answering machine is used to __________ messages when the receiver is abs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06960" y="1009800"/>
            <a:ext cx="21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photocop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69480" y="253368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send mass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3000" y="4114800"/>
            <a:ext cx="236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yp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37960" y="5172120"/>
            <a:ext cx="26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record teleph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0" y="0"/>
            <a:ext cx="87631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. O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你一旦显出害怕的样子，狗就会来咬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每周回家一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他父亲曾在一家汽车厂工作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. rather … th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些鞋子穿起来很舒服，但并不漂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喜欢游泳，而不喜欢溜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决定写信而不打电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3. Rush somebody off his f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今天我们办公室里真忙，我是忙得不可开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4. Make a 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我们对旅行计划作了一些修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5. Take a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在那种情况下，你应该立即采取行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7631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Once you show any fear, the dog will attack yo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go home once a wee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His father once worked in a car fact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hese shoes are comfortable rather than pret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love swimming rather than ska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 decide to write rather than (to) teleph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were so busy in the office today. I was rushed off my f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We have made some changes in our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 plan for trav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</a:rPr>
              <a:t>In that situation, you should take immediate ac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6T12:08:51Z</dcterms:created>
  <dc:creator>xu</dc:creator>
  <dc:description/>
  <dc:language>en-US</dc:language>
  <cp:lastModifiedBy>xu</cp:lastModifiedBy>
  <dcterms:modified xsi:type="dcterms:W3CDTF">2001-11-06T15:29:04Z</dcterms:modified>
  <cp:revision>6</cp:revision>
  <dc:subject/>
  <dc:title>Office equipment</dc:title>
</cp:coreProperties>
</file>