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8E3E-DB24-470C-AFE4-8334D34A9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6E09-E945-4630-B104-CDA1E7FF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5FD3-EB3D-4569-B901-1CB07C72B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3392-AFFD-440F-803E-91E3627FC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6236-D340-4FBB-A66D-F87798A6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DF15-066E-4EEA-87EE-246BA3BC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8D79-81F7-4A13-8289-C66F95F7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844C-C082-4D6D-A0DC-220E063B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643E-C212-4D0B-91AE-00478A1E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5C4A-D2AA-464E-A4EC-46A66D8F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BEF9-2864-42C3-921C-950BD757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B796-8255-4BF0-AB77-1E342C9C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3B10-A95C-4187-9E92-A9DDF06696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3300"/>
                </a:solidFill>
                <a:latin typeface="Times New Roman"/>
              </a:rPr>
              <a:t>Unit 18 Office equip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46280" y="1143000"/>
            <a:ext cx="5214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Teleph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Compu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Prin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Scann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00"/>
                </a:solidFill>
                <a:latin typeface="Times New Roman"/>
              </a:rPr>
              <a:t>Fax mach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00"/>
                </a:solidFill>
                <a:latin typeface="Times New Roman"/>
              </a:rPr>
              <a:t>Photocopi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00"/>
                </a:solidFill>
                <a:latin typeface="Times New Roman"/>
              </a:rPr>
              <a:t>Answering mach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00"/>
                </a:solidFill>
                <a:latin typeface="Times New Roman"/>
              </a:rPr>
              <a:t>Word process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761760" y="838080"/>
            <a:ext cx="784836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00"/>
                </a:solidFill>
                <a:latin typeface="Times New Roman"/>
              </a:rPr>
              <a:t>            </a:t>
            </a:r>
            <a:r>
              <a:rPr b="1" i="1" lang="en-US" sz="6600" spc="-1" strike="noStrike">
                <a:solidFill>
                  <a:srgbClr val="ff3300"/>
                </a:solidFill>
                <a:latin typeface="Times New Roman"/>
              </a:rPr>
              <a:t>Oral competition</a:t>
            </a:r>
            <a:br>
              <a:rPr sz="6600"/>
            </a:b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uppose you are a secretary in an office. Would you please introduce the modern equipments to the visitor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00"/>
                </a:solidFill>
                <a:latin typeface="Times New Roman"/>
              </a:rPr>
              <a:t>Homewor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. Read the text aloud after clas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. Make sentences with the key phras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3. Write a short passage about how to sell one of the four modern equipments as  a bagm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3300"/>
                </a:solidFill>
                <a:latin typeface="Times New Roman"/>
              </a:rPr>
              <a:t>Thank you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sun1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380880"/>
          <a:ext cx="8610480" cy="5736960"/>
        </p:xfrm>
        <a:graphic>
          <a:graphicData uri="http://schemas.openxmlformats.org/drawingml/2006/table">
            <a:tbl>
              <a:tblPr/>
              <a:tblGrid>
                <a:gridCol w="3276720"/>
                <a:gridCol w="5333760"/>
              </a:tblGrid>
              <a:tr h="997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he fax machin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9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How to wor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Advantages &amp; disadvantag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3886200" y="16002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the machine “read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05320" y="20574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changes … into electronic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89120" y="2657520"/>
            <a:ext cx="540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sends signals down a telephone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9400" y="3301920"/>
            <a:ext cx="278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much quick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41760" y="4038480"/>
            <a:ext cx="496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more expensive than po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48448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a fax can be read by any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28600" y="457200"/>
          <a:ext cx="8534520" cy="6132600"/>
        </p:xfrm>
        <a:graphic>
          <a:graphicData uri="http://schemas.openxmlformats.org/drawingml/2006/table">
            <a:tbl>
              <a:tblPr/>
              <a:tblGrid>
                <a:gridCol w="2362320"/>
                <a:gridCol w="6172200"/>
              </a:tblGrid>
              <a:tr h="764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he photocopier</a:t>
                      </a:r>
                      <a:r>
                        <a:rPr b="1" i="1" lang="en-US" sz="3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	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4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How to wor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Advantages &amp; dis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2666880" y="152388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using a mirror, a roller &amp; special black pow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32670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Make bigger or smaller, lighter or dark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and copy onto both sides of the 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44200" y="4210200"/>
            <a:ext cx="608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copy a long report and sort and p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the copies togeth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04040" y="5407200"/>
            <a:ext cx="539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can produce color cop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52280" y="304920"/>
          <a:ext cx="8686800" cy="6896160"/>
        </p:xfrm>
        <a:graphic>
          <a:graphicData uri="http://schemas.openxmlformats.org/drawingml/2006/table">
            <a:tbl>
              <a:tblPr/>
              <a:tblGrid>
                <a:gridCol w="2286000"/>
                <a:gridCol w="6400800"/>
              </a:tblGrid>
              <a:tr h="784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he word processor</a:t>
                      </a:r>
                      <a:r>
                        <a:rPr b="1" i="1" lang="en-US" sz="3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3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	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How to wor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Advantages &amp; dis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438280" y="10447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combines a typewriter keyboard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a printer and a compu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24240" y="2254320"/>
            <a:ext cx="655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the writing appears on a screen &amp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is recorded onto a computer dis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76520" y="3549600"/>
            <a:ext cx="635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you make any changes you wish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check it and print 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3440" y="4952880"/>
            <a:ext cx="664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instead of spending five hours typ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the report again, print it in one min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52280" y="304920"/>
          <a:ext cx="8686800" cy="6354720"/>
        </p:xfrm>
        <a:graphic>
          <a:graphicData uri="http://schemas.openxmlformats.org/drawingml/2006/table">
            <a:tbl>
              <a:tblPr/>
              <a:tblGrid>
                <a:gridCol w="2362320"/>
                <a:gridCol w="6324480"/>
              </a:tblGrid>
              <a:tr h="1000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he answering machine</a:t>
                      </a:r>
                      <a:r>
                        <a:rPr b="1" i="1" lang="en-US" sz="4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3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	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2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How to wor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Advantages &amp; dis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2577600" y="1949400"/>
            <a:ext cx="62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leave the answering machine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02360" y="2482920"/>
            <a:ext cx="63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people who call you up can le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a mess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27360" y="3952800"/>
            <a:ext cx="583884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the following morning or after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holiday, you can listen to the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and take any necessary 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04760" y="5559480"/>
            <a:ext cx="412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“</a:t>
            </a: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information lin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98760" y="1371600"/>
            <a:ext cx="62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a telephone with a tape rec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Times New Roman"/>
              </a:rPr>
              <a:t>Discus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9900"/>
                </a:solidFill>
                <a:latin typeface="Times New Roman"/>
              </a:rPr>
              <a:t>1. When should you find out how to work the office equip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9900"/>
                </a:solidFill>
                <a:latin typeface="Times New Roman"/>
              </a:rPr>
              <a:t>2. What does “be rushed off one’s feet” me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9900"/>
                </a:solidFill>
                <a:latin typeface="Times New Roman"/>
              </a:rPr>
              <a:t>3. Why is it not surprising that Japan has more fax machines than any other country in the wor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9900"/>
                </a:solidFill>
                <a:latin typeface="Times New Roman"/>
              </a:rPr>
              <a:t>4. If you were the Head Teacher of a school, which of the machines would be useful to have? In what ways could they be us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Fill in the blanks with the proper word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1. The __________is a type of machine which is use to make copies from newspapers, books or repo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2. The fax machine is used to ________ including words, pictures, designs and ma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3. The word processor is a kind of machine which is used to __________ , save them for future use and make changes if necess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4. The answering machine is used to __________ messages when the receiver is abs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06960" y="1009800"/>
            <a:ext cx="21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photocop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69480" y="2533680"/>
            <a:ext cx="263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send mass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3000" y="4114800"/>
            <a:ext cx="236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ype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37960" y="5172120"/>
            <a:ext cx="26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record tele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0"/>
            <a:ext cx="87631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. O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你一旦显出害怕的样子，狗就会来咬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们每周回家一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他父亲曾在一家汽车厂工作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. rather … th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这些鞋子穿起来很舒服，但并不漂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喜欢游泳，而不喜欢溜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决定写信而不打电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3. Rush somebody off his f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今天我们办公室里真忙，我是忙得不可开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4. Make a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们对旅行计划作了一些修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5. Take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在那种情况下，你应该立即采取行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Once you show any fear, the dog will attack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e go home once a we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His father once worked in a car fac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hese shoes are comfortable rather than pret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 love swimming rather than ska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 decide to write rather than (to) teleph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e were so busy in the office today. I was rushed off my f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e have made some changes in our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plan for tra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n that situation, you should take immediate 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6T12:08:51Z</dcterms:created>
  <dc:creator>xu</dc:creator>
  <dc:description/>
  <dc:language>en-US</dc:language>
  <cp:lastModifiedBy>xu</cp:lastModifiedBy>
  <dcterms:modified xsi:type="dcterms:W3CDTF">2001-11-06T15:29:04Z</dcterms:modified>
  <cp:revision>6</cp:revision>
  <dc:subject/>
  <dc:title>Office equipment</dc:title>
</cp:coreProperties>
</file>