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13.wmf" ContentType="image/x-wmf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8795-CEE0-4665-9635-1A5DAEA1E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64D5-86F0-4066-AB03-5253C2AF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776F-00B3-403F-9687-58164712E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CF36-04BA-42BB-A6C7-64811B039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6BCF-FBA5-44F8-81C4-0AB311DEF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D7B9-AAE3-4F74-A3FE-74C7D02F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C935-7A19-44C2-988B-A9DE3EA3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E97E-2615-424F-8700-015075E0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CB71-F8D0-4D26-995E-4A94EDCC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AE66-1237-4080-A3FD-1865678B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0BDD-6277-489E-AEB6-32C3F793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824F-2E71-47E1-8B1B-1DADA305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9D05-FE6A-4624-969B-05925626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AEE9-F4A4-49AA-A5FB-54A856FA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EA46-32E9-4DD6-8C25-CA2D6A74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F85C-732D-4A13-94C4-D4B631936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EAE0-8B45-4C63-978D-4FDBC9253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3A24-E018-4B52-9FD8-3811CC5B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0630-D02F-41B2-8D01-A7EF922D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036F-0413-4409-93EE-97217283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D825-69AA-4076-8E34-F3A819F0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15DE-6F88-422B-B28C-398670AC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9E91-D182-4402-B456-BD1A99F5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AE28-231C-4028-BA6C-177CF71A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1FF9-7A86-4A2A-B127-2701867C1115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4E9B-A8B0-4DE9-87E9-C4C96C40853D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slide" Target="slide9.xml"/><Relationship Id="rId5" Type="http://schemas.openxmlformats.org/officeDocument/2006/relationships/slide" Target="slide23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BJ_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E03166_" descr=""/>
          <p:cNvPicPr/>
          <p:nvPr/>
        </p:nvPicPr>
        <p:blipFill>
          <a:blip r:embed="rId3"/>
          <a:stretch/>
        </p:blipFill>
        <p:spPr>
          <a:xfrm>
            <a:off x="533520" y="2590920"/>
            <a:ext cx="2939760" cy="38383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066680" y="990720"/>
            <a:ext cx="3657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Good friends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6095880" y="304920"/>
            <a:ext cx="2819520" cy="685800"/>
          </a:xfrm>
          <a:custGeom>
            <a:avLst/>
            <a:gdLst>
              <a:gd name="textAreaLeft" fmla="*/ 44280 w 2819520"/>
              <a:gd name="textAreaRight" fmla="*/ 2775240 w 2819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88769" h="21600">
                <a:moveTo>
                  <a:pt x="0" y="0"/>
                </a:moveTo>
                <a:lnTo>
                  <a:pt x="88769" y="0"/>
                </a:lnTo>
                <a:lnTo>
                  <a:pt x="88769" y="21600"/>
                </a:lnTo>
                <a:lnTo>
                  <a:pt x="0" y="21600"/>
                </a:lnTo>
                <a:close/>
              </a:path>
              <a:path fill="lightenLess" w="88769" h="21600">
                <a:moveTo>
                  <a:pt x="0" y="0"/>
                </a:moveTo>
                <a:lnTo>
                  <a:pt x="88769" y="0"/>
                </a:lnTo>
                <a:lnTo>
                  <a:pt x="87369" y="1400"/>
                </a:lnTo>
                <a:lnTo>
                  <a:pt x="1400" y="1400"/>
                </a:lnTo>
                <a:close/>
              </a:path>
              <a:path fill="darken" w="88769" h="21600">
                <a:moveTo>
                  <a:pt x="88769" y="0"/>
                </a:moveTo>
                <a:lnTo>
                  <a:pt x="88769" y="21600"/>
                </a:lnTo>
                <a:lnTo>
                  <a:pt x="87369" y="20200"/>
                </a:lnTo>
                <a:lnTo>
                  <a:pt x="87369" y="1400"/>
                </a:lnTo>
                <a:close/>
              </a:path>
              <a:path fill="darkenLess" w="88769" h="21600">
                <a:moveTo>
                  <a:pt x="88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369" y="20200"/>
                </a:lnTo>
                <a:close/>
              </a:path>
              <a:path fill="lighten" w="88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Self introduction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">
            <a:hlinkClick r:id="rId4" action="ppaction://hlinksldjump"/>
          </p:cNvPr>
          <p:cNvSpPr/>
          <p:nvPr/>
        </p:nvSpPr>
        <p:spPr>
          <a:xfrm>
            <a:off x="5943600" y="1981080"/>
            <a:ext cx="2819520" cy="685800"/>
          </a:xfrm>
          <a:custGeom>
            <a:avLst/>
            <a:gdLst>
              <a:gd name="textAreaLeft" fmla="*/ 44280 w 2819520"/>
              <a:gd name="textAreaRight" fmla="*/ 2775240 w 2819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88769" h="21600">
                <a:moveTo>
                  <a:pt x="0" y="0"/>
                </a:moveTo>
                <a:lnTo>
                  <a:pt x="88769" y="0"/>
                </a:lnTo>
                <a:lnTo>
                  <a:pt x="88769" y="21600"/>
                </a:lnTo>
                <a:lnTo>
                  <a:pt x="0" y="21600"/>
                </a:lnTo>
                <a:close/>
              </a:path>
              <a:path fill="lightenLess" w="88769" h="21600">
                <a:moveTo>
                  <a:pt x="0" y="0"/>
                </a:moveTo>
                <a:lnTo>
                  <a:pt x="88769" y="0"/>
                </a:lnTo>
                <a:lnTo>
                  <a:pt x="87369" y="1400"/>
                </a:lnTo>
                <a:lnTo>
                  <a:pt x="1400" y="1400"/>
                </a:lnTo>
                <a:close/>
              </a:path>
              <a:path fill="darken" w="88769" h="21600">
                <a:moveTo>
                  <a:pt x="88769" y="0"/>
                </a:moveTo>
                <a:lnTo>
                  <a:pt x="88769" y="21600"/>
                </a:lnTo>
                <a:lnTo>
                  <a:pt x="87369" y="20200"/>
                </a:lnTo>
                <a:lnTo>
                  <a:pt x="87369" y="1400"/>
                </a:lnTo>
                <a:close/>
              </a:path>
              <a:path fill="darkenLess" w="88769" h="21600">
                <a:moveTo>
                  <a:pt x="88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369" y="20200"/>
                </a:lnTo>
                <a:close/>
              </a:path>
              <a:path fill="lighten" w="88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New    word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>
            <a:hlinkClick r:id="rId5" action="ppaction://hlinksldjump"/>
          </p:cNvPr>
          <p:cNvSpPr/>
          <p:nvPr/>
        </p:nvSpPr>
        <p:spPr>
          <a:xfrm>
            <a:off x="5715000" y="5791320"/>
            <a:ext cx="2286000" cy="533160"/>
          </a:xfrm>
          <a:custGeom>
            <a:avLst/>
            <a:gdLst>
              <a:gd name="textAreaLeft" fmla="*/ 34560 w 2286000"/>
              <a:gd name="textAreaRight" fmla="*/ 2251440 w 2286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92565" h="21600">
                <a:moveTo>
                  <a:pt x="0" y="0"/>
                </a:moveTo>
                <a:lnTo>
                  <a:pt x="92565" y="0"/>
                </a:lnTo>
                <a:lnTo>
                  <a:pt x="92565" y="21600"/>
                </a:lnTo>
                <a:lnTo>
                  <a:pt x="0" y="21600"/>
                </a:lnTo>
                <a:close/>
              </a:path>
              <a:path fill="lightenLess" w="92565" h="21600">
                <a:moveTo>
                  <a:pt x="0" y="0"/>
                </a:moveTo>
                <a:lnTo>
                  <a:pt x="92565" y="0"/>
                </a:lnTo>
                <a:lnTo>
                  <a:pt x="91165" y="1400"/>
                </a:lnTo>
                <a:lnTo>
                  <a:pt x="1400" y="1400"/>
                </a:lnTo>
                <a:close/>
              </a:path>
              <a:path fill="darken" w="92565" h="21600">
                <a:moveTo>
                  <a:pt x="92565" y="0"/>
                </a:moveTo>
                <a:lnTo>
                  <a:pt x="92565" y="21600"/>
                </a:lnTo>
                <a:lnTo>
                  <a:pt x="91165" y="20200"/>
                </a:lnTo>
                <a:lnTo>
                  <a:pt x="91165" y="1400"/>
                </a:lnTo>
                <a:close/>
              </a:path>
              <a:path fill="darkenLess" w="92565" h="21600">
                <a:moveTo>
                  <a:pt x="92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165" y="20200"/>
                </a:lnTo>
                <a:close/>
              </a:path>
              <a:path fill="lighten" w="92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1" name="">
            <a:hlinkClick r:id="rId6" action="ppaction://hlinksldjump"/>
          </p:cNvPr>
          <p:cNvSpPr/>
          <p:nvPr/>
        </p:nvSpPr>
        <p:spPr>
          <a:xfrm>
            <a:off x="5943600" y="3581280"/>
            <a:ext cx="2666880" cy="1067040"/>
          </a:xfrm>
          <a:custGeom>
            <a:avLst/>
            <a:gdLst>
              <a:gd name="textAreaLeft" fmla="*/ 69120 w 2666880"/>
              <a:gd name="textAreaRight" fmla="*/ 2597760 w 266688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huck’s frien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5560" y="609480"/>
            <a:ext cx="835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8. Opposite of modern is c_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. If you like doing something, you are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____ of doing it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0.Now we usually make fire with a lighter ,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ut in the past  people make fire with a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_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1.A friend is a m______, because he or sh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an let us know about ourselves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2.A film is a m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3.Throw a stone means c_____ a stone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2080" y="609480"/>
            <a:ext cx="17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lassical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9880" y="172080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fond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86760" y="335268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match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54840" y="3886200"/>
            <a:ext cx="134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mirror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50280" y="499752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movi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5040" y="556272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ast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firstslide"/>
          </p:cNvPr>
          <p:cNvSpPr/>
          <p:nvPr/>
        </p:nvSpPr>
        <p:spPr>
          <a:xfrm>
            <a:off x="6858000" y="2286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52280" y="685800"/>
            <a:ext cx="8763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4.go on living, escape being killed means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5.A place where there are no people is a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________ place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6.They are look for an e-pal, that is to say,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y’re h_______ for a friend on the line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7. The noun form of sorry is s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8. “To have the same interest or feeling as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omeone else”means to s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9.for example like---s ___ a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1280" y="121932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urviv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2000" y="233028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deserted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5880" y="3429000"/>
            <a:ext cx="15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hunting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09600" y="3962520"/>
            <a:ext cx="14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orrow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48560" y="507348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har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9040" y="563868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uch  as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firstslide"/>
          </p:cNvPr>
          <p:cNvSpPr/>
          <p:nvPr/>
        </p:nvSpPr>
        <p:spPr>
          <a:xfrm>
            <a:off x="6553080" y="56386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08520" y="609480"/>
            <a:ext cx="8202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. An exciting or dangerous journey  is an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__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2. Write someone a short letter means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_____ someone a l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3. A  friend on the internet is an e-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4. They are afraid of something , “afraid ”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ans s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0440" y="114300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adventur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13840" y="2787480"/>
            <a:ext cx="44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Times New Roman"/>
              </a:rPr>
              <a:t>drop                        lin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79280" y="33526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e-pal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35880" y="4464000"/>
            <a:ext cx="134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cared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firstslide"/>
          </p:cNvPr>
          <p:cNvSpPr/>
          <p:nvPr/>
        </p:nvSpPr>
        <p:spPr>
          <a:xfrm>
            <a:off x="5943600" y="52578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cast%20away1" descr=""/>
          <p:cNvPicPr/>
          <p:nvPr/>
        </p:nvPicPr>
        <p:blipFill>
          <a:blip r:embed="rId2"/>
          <a:stretch/>
        </p:blipFill>
        <p:spPr>
          <a:xfrm>
            <a:off x="2362320" y="914400"/>
            <a:ext cx="4451400" cy="510552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6553080" y="54864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90920" y="1096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m Hank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70120" y="464832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ST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55920" y="487692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WAY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castaway1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8572680" cy="5715000"/>
          </a:xfrm>
          <a:prstGeom prst="rect">
            <a:avLst/>
          </a:prstGeom>
          <a:ln w="0">
            <a:noFill/>
          </a:ln>
        </p:spPr>
      </p:pic>
      <p:sp>
        <p:nvSpPr>
          <p:cNvPr id="214" name="">
            <a:hlinkClick r:id="" action="ppaction://hlinkshowjump?jump=firstslide"/>
          </p:cNvPr>
          <p:cNvSpPr/>
          <p:nvPr/>
        </p:nvSpPr>
        <p:spPr>
          <a:xfrm>
            <a:off x="6858000" y="56386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astaway2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7715520" cy="5143680"/>
          </a:xfrm>
          <a:prstGeom prst="rect">
            <a:avLst/>
          </a:prstGeom>
          <a:ln w="0">
            <a:noFill/>
          </a:ln>
        </p:spPr>
      </p:pic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6172200" y="44956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08280" y="5791320"/>
            <a:ext cx="72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ve the problem of lonelines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castaway6" descr=""/>
          <p:cNvPicPr/>
          <p:nvPr/>
        </p:nvPicPr>
        <p:blipFill>
          <a:blip r:embed="rId2"/>
          <a:stretch/>
        </p:blipFill>
        <p:spPr>
          <a:xfrm>
            <a:off x="838080" y="914400"/>
            <a:ext cx="7772400" cy="5181480"/>
          </a:xfrm>
          <a:prstGeom prst="rect">
            <a:avLst/>
          </a:prstGeom>
          <a:ln w="0">
            <a:noFill/>
          </a:ln>
        </p:spPr>
      </p:pic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655308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castaway7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7696080" cy="5130720"/>
          </a:xfrm>
          <a:prstGeom prst="rect">
            <a:avLst/>
          </a:prstGeom>
          <a:ln w="0">
            <a:noFill/>
          </a:ln>
        </p:spPr>
      </p:pic>
      <p:sp>
        <p:nvSpPr>
          <p:cNvPr id="221" name="">
            <a:hlinkClick r:id="" action="ppaction://hlinkshowjump?jump=firstslide"/>
          </p:cNvPr>
          <p:cNvSpPr/>
          <p:nvPr/>
        </p:nvSpPr>
        <p:spPr>
          <a:xfrm>
            <a:off x="7696080" y="0"/>
            <a:ext cx="1447920" cy="99072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1564" h="21600">
                <a:moveTo>
                  <a:pt x="0" y="0"/>
                </a:moveTo>
                <a:lnTo>
                  <a:pt x="31564" y="0"/>
                </a:lnTo>
                <a:lnTo>
                  <a:pt x="31564" y="21600"/>
                </a:lnTo>
                <a:lnTo>
                  <a:pt x="0" y="21600"/>
                </a:lnTo>
                <a:close/>
              </a:path>
              <a:path fill="lightenLess" w="31564" h="21600">
                <a:moveTo>
                  <a:pt x="0" y="0"/>
                </a:moveTo>
                <a:lnTo>
                  <a:pt x="31564" y="0"/>
                </a:lnTo>
                <a:lnTo>
                  <a:pt x="30164" y="1400"/>
                </a:lnTo>
                <a:lnTo>
                  <a:pt x="1400" y="1400"/>
                </a:lnTo>
                <a:close/>
              </a:path>
              <a:path fill="darken" w="31564" h="21600">
                <a:moveTo>
                  <a:pt x="31564" y="0"/>
                </a:moveTo>
                <a:lnTo>
                  <a:pt x="31564" y="21600"/>
                </a:lnTo>
                <a:lnTo>
                  <a:pt x="30164" y="20200"/>
                </a:lnTo>
                <a:lnTo>
                  <a:pt x="30164" y="1400"/>
                </a:lnTo>
                <a:close/>
              </a:path>
              <a:path fill="darkenLess" w="31564" h="21600">
                <a:moveTo>
                  <a:pt x="31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64" y="20200"/>
                </a:lnTo>
                <a:close/>
              </a:path>
              <a:path fill="lighten" w="31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71840" y="6019920"/>
            <a:ext cx="593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Hunt for something to eat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4680" y="838080"/>
            <a:ext cx="369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he best design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96000" y="1600200"/>
            <a:ext cx="97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1.C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6000" y="2514600"/>
            <a:ext cx="10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2.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6000" y="3352680"/>
            <a:ext cx="10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3.A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96000" y="4038480"/>
            <a:ext cx="97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4.C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20040" y="4724280"/>
            <a:ext cx="97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5.B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20080" y="1676520"/>
            <a:ext cx="10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6.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44120" y="2362320"/>
            <a:ext cx="97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7.B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20440" y="3200400"/>
            <a:ext cx="97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8.C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20080" y="4038480"/>
            <a:ext cx="10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9.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67080" y="4876920"/>
            <a:ext cx="128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10.A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4" name="">
            <a:hlinkClick r:id="" action="ppaction://hlinkshowjump?jump=firstslide"/>
          </p:cNvPr>
          <p:cNvSpPr/>
          <p:nvPr/>
        </p:nvSpPr>
        <p:spPr>
          <a:xfrm>
            <a:off x="6629400" y="53341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065600" y="838080"/>
            <a:ext cx="296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ost reading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9240" y="1676520"/>
            <a:ext cx="867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1. how to collect water, hunt for food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d make fire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1760" y="3429000"/>
            <a:ext cx="8343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2.He realizes friendship is important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He realizes that he hasn’t been a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good friend……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firstslide"/>
          </p:cNvPr>
          <p:cNvSpPr/>
          <p:nvPr/>
        </p:nvSpPr>
        <p:spPr>
          <a:xfrm>
            <a:off x="6553080" y="53341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xjmap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686800" cy="647388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6629400" y="54864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94320" y="1166760"/>
            <a:ext cx="9268200" cy="545652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huck Noland, a successful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usinessman,lands on a_______ island.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fter a plane _____.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huck has to learn basic survival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kills on the island. __ ____ __ do with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oneliness, he _______ a friendship with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 volleyball _____ Wilson and _____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it as a real frien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22320" y="1905120"/>
            <a:ext cx="204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erte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971800" y="2590920"/>
            <a:ext cx="136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ash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0560" y="3809880"/>
            <a:ext cx="254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order to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99320" y="4495680"/>
            <a:ext cx="217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velop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95480" y="5181480"/>
            <a:ext cx="151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le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39600" y="5105520"/>
            <a:ext cx="139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-11520" y="609480"/>
            <a:ext cx="94039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ve years’ life on the island teaches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uck the importance of having friend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being a good friend. He knows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iends should ______ happiness an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_______.Friends should _____ an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much as they _____from each other.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also learned that he _____have cared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____ his friends.So in some ways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iends are _______.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2666880"/>
            <a:ext cx="136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hare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3352680"/>
            <a:ext cx="173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rrow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15360" y="327672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give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10240" y="3962520"/>
            <a:ext cx="111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ake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1120" y="4648320"/>
            <a:ext cx="167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houl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5257800"/>
            <a:ext cx="142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bout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90200" y="6019920"/>
            <a:ext cx="201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eacher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-18000" y="1523880"/>
            <a:ext cx="9172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uman friends and unusual friends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important in our life.Friend and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iendship help us understand ___ we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and how we should _____.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629760" y="289548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who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68160" y="3581280"/>
            <a:ext cx="17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ehave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firstslide"/>
          </p:cNvPr>
          <p:cNvSpPr/>
          <p:nvPr/>
        </p:nvSpPr>
        <p:spPr>
          <a:xfrm>
            <a:off x="6477120" y="53341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-11520" y="0"/>
            <a:ext cx="83815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Language points in Unit 1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qualit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goodness, wort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is a man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of fine qualit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is material is poor quality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hones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-not telling lie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onest e-pa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loyal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true and faithfu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 loyal t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sb./sth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loyal supporter of the Part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argu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—quarrel   argument(n.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rgue about/over sth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rgue with s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 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 argued with the waiter about the price of th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eal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firstslide"/>
          </p:cNvPr>
          <p:cNvSpPr/>
          <p:nvPr/>
        </p:nvSpPr>
        <p:spPr>
          <a:xfrm>
            <a:off x="6629400" y="42670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99440" y="781200"/>
            <a:ext cx="8758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5.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olve the problem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 work out the problem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lution t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the way of solving the problem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Neither side can find any solution to an argument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6.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so… that.../ such …tha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 + adj. /adv.  so good/smart/loyal.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such +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名词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   such boys/material/e-pals/such a bo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uch a adj.+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单数可数名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 busy a manage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so adj. a +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单数可数名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uch a busy manage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o many/much/little/few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such adj.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名词复数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不可数名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uch funny stories   such good weathe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firstslide"/>
          </p:cNvPr>
          <p:cNvSpPr/>
          <p:nvPr/>
        </p:nvSpPr>
        <p:spPr>
          <a:xfrm>
            <a:off x="6553080" y="49528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38240" y="663480"/>
            <a:ext cx="9201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The box is ___ heavy that nobody can lift it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_____heavy is the box that nobody can lift it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These are ____ small shoes that I can’t put them on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It is ____ fine weather that we will go swimming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It was ___ a lovely day that we decided to go hiking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.The Smiths have ______ many children that they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their own basketball team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363760" y="654120"/>
            <a:ext cx="7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so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7240" y="1066680"/>
            <a:ext cx="77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So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560" y="2620800"/>
            <a:ext cx="9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uc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640" y="2133720"/>
            <a:ext cx="9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uc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10040" y="1600200"/>
            <a:ext cx="9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uc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57960" y="3124080"/>
            <a:ext cx="9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uc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>
            <a:hlinkClick r:id="" action="ppaction://hlinkshowjump?jump=firstslide"/>
          </p:cNvPr>
          <p:cNvSpPr/>
          <p:nvPr/>
        </p:nvSpPr>
        <p:spPr>
          <a:xfrm>
            <a:off x="5943600" y="52578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-12960" y="892080"/>
            <a:ext cx="88142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so…that…/so tha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…that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此…以致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 that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因此，所以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为了，以便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n order that, in order to d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 hard-working a boy is he that he always gets hig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arks in all subjects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is ___ hard-working that he always gets high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arks in all subjects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 left early so that we could catch the first bus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 left early ___ ____ ____we could catch the firs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us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92160" y="38098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so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8880" y="5226120"/>
            <a:ext cx="24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in order that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3" name="">
            <a:hlinkClick r:id="" action="ppaction://hlinkshowjump?jump=firstslide"/>
          </p:cNvPr>
          <p:cNvSpPr/>
          <p:nvPr/>
        </p:nvSpPr>
        <p:spPr>
          <a:xfrm>
            <a:off x="647712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36440" y="816120"/>
            <a:ext cx="88952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o /neither/nor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开头的倒装结构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 /neither +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连系动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情态动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助动词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主语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也一样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也不一样”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was at center school last year, and so was my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riend Bob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study hard, and so ____ my brother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f you can finish it in time,so___ we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f you go to the cinema tonight, so ____ I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f you don’t go to the cinema tonight, neither ____ I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You didn’t see him, neither ____ I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07120" y="320040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does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5040" y="3701880"/>
            <a:ext cx="8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can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22080" y="419112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will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2280" y="4692600"/>
            <a:ext cx="10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shall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55040" y="514980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did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firstslide"/>
          </p:cNvPr>
          <p:cNvSpPr/>
          <p:nvPr/>
        </p:nvSpPr>
        <p:spPr>
          <a:xfrm>
            <a:off x="6324480" y="55627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-15840" y="739800"/>
            <a:ext cx="9472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o it is /was with 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语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John has gone, and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 it is with Mary.(=so has Mary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ike didn’t attend the meeting, and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 it was with I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(=neither did I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om’s father was a good worker, and worked very hard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 it was with Jack’s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o 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语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连系动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情态动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助动词  “的确如此”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Tomorrow will be Monday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So it will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， 是星期一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>
            <a:hlinkClick r:id="" action="ppaction://hlinkshowjump?jump=firstslide"/>
          </p:cNvPr>
          <p:cNvSpPr/>
          <p:nvPr/>
        </p:nvSpPr>
        <p:spPr>
          <a:xfrm>
            <a:off x="5943600" y="52578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1960" y="5486400"/>
            <a:ext cx="160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1-5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DDBB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71880" y="5486400"/>
            <a:ext cx="155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6-10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BBBB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054320" y="5410080"/>
            <a:ext cx="158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1-15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CBDAB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-12600" y="762120"/>
            <a:ext cx="9136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7.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like/love/enjo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e fond of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e int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be interested in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(doing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something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think …is ok/interesting/boring/terribl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ecome fond of him---be beginning to like him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8.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urvive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escape being killed, go on living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urvival(n.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last surviving member of the famil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0000"/>
                </a:solidFill>
                <a:uFillTx/>
                <a:latin typeface="Times New Roman"/>
              </a:rPr>
              <a:t>   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Times New Roman"/>
              </a:rPr>
              <a:t>survive o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feed on/ live on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9.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Cast Awa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be left away on an island after your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hip has sunk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ast—throw    cast a ne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>
            <a:hlinkClick r:id="" action="ppaction://hlinkshowjump?jump=firstslide"/>
          </p:cNvPr>
          <p:cNvSpPr/>
          <p:nvPr/>
        </p:nvSpPr>
        <p:spPr>
          <a:xfrm>
            <a:off x="640080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Monotype Corsiva"/>
              </a:rPr>
              <a:t>Warmly Welcome to Our School 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Hello ,everyone !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My name is </a:t>
            </a:r>
            <a:r>
              <a:rPr b="0" lang="zh-CN" sz="2800" spc="-1" strike="noStrike">
                <a:solidFill>
                  <a:srgbClr val="000099"/>
                </a:solidFill>
                <a:latin typeface="Tahoma"/>
                <a:ea typeface="方正舒体"/>
              </a:rPr>
              <a:t>Peary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My Chinese name is </a:t>
            </a:r>
            <a:r>
              <a:rPr b="0" lang="zh-CN" sz="2800" spc="-1" strike="noStrike">
                <a:solidFill>
                  <a:srgbClr val="000099"/>
                </a:solidFill>
                <a:latin typeface="Tahoma"/>
                <a:ea typeface="方正舒体"/>
              </a:rPr>
              <a:t>Zhang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ahoma"/>
                <a:ea typeface="方正舒体"/>
              </a:rPr>
              <a:t>     </a:t>
            </a:r>
            <a:r>
              <a:rPr b="0" lang="zh-CN" sz="2800" spc="-1" strike="noStrike">
                <a:solidFill>
                  <a:srgbClr val="000099"/>
                </a:solidFill>
                <a:latin typeface="Tahoma"/>
                <a:ea typeface="方正舒体"/>
              </a:rPr>
              <a:t>Meixiang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 </a:t>
            </a:r>
            <a:r>
              <a:rPr b="0" lang="zh-CN" sz="2800" spc="-1" strike="noStrike">
                <a:solidFill>
                  <a:srgbClr val="545472"/>
                </a:solidFill>
                <a:latin typeface="华文楷体"/>
                <a:ea typeface="华文楷体"/>
              </a:rPr>
              <a:t>(</a:t>
            </a:r>
            <a:r>
              <a:rPr b="0" lang="zh-CN" sz="2800" spc="-1" strike="noStrike">
                <a:solidFill>
                  <a:srgbClr val="545472"/>
                </a:solidFill>
                <a:latin typeface="华文楷体"/>
                <a:ea typeface="华文楷体"/>
              </a:rPr>
              <a:t>张美祥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)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I’m very glad to be your English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     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teacher. 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I’d like to be your friend, too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From now on, we’ll study together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I hope we can help and learn from each other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Thank you very much.  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6" name="peary1" descr=""/>
          <p:cNvPicPr/>
          <p:nvPr/>
        </p:nvPicPr>
        <p:blipFill>
          <a:blip r:embed="rId12"/>
          <a:stretch/>
        </p:blipFill>
        <p:spPr>
          <a:xfrm>
            <a:off x="6172200" y="1600200"/>
            <a:ext cx="2365200" cy="350532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6172200" y="56386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42640" y="228600"/>
            <a:ext cx="89146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10.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Times New Roman"/>
              </a:rPr>
              <a:t>play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man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named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huck Noland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t as /play the part of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a man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with the nam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huck Noland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11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.so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usy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that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has little time for his friend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too busy t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have any time to stay with his friend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manage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anage to do sth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s on a fligh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 is flying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go on board the plane/ship/train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-get on the plane/the ship/train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cras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n. vi. --fall/drop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rash into the tre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car crash                    an aircraft cras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>
            <a:hlinkClick r:id="" action="ppaction://hlinkshowjump?jump=firstslide"/>
          </p:cNvPr>
          <p:cNvSpPr/>
          <p:nvPr/>
        </p:nvSpPr>
        <p:spPr>
          <a:xfrm>
            <a:off x="6477120" y="49528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28600" y="685800"/>
            <a:ext cx="8672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5.deserted island--- on an island 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Times New Roman"/>
              </a:rPr>
              <a:t>without peo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ple/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      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where there are no peopl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 deserted village/island/templ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desert n. v.    in the desert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6.hunt for---search for/look fo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7.challeng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---something difficult that you have to d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8.in order to d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---so as to do/in order that sb can d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9.develop a friendship---- make a friendship bette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0.realise/realize---- come to know, make sth tru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realize his own danger          realize one’s hope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73200" y="871560"/>
            <a:ext cx="8181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1.have been thinking about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现在完成进行时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表示动作从过去某时开始， 一直延续到现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在并有可能延续下去。它和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lways, often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等连用时表示重复动作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From yesterday, he has been reading the novel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--Hi, Tracy, you look tired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---I am tired. I ______ the living room all day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. painted                      B. had painted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C. have been painting   D. have painted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2.treat …a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---regard …as, look on …. As      treatment(n.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92680" y="762120"/>
            <a:ext cx="88142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3.share happiness and sorrow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---to have the same happiness and unhappines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hare----to have the same feeling or interes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s someone els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hare(in) something      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Let’s share, you have half and I have half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hare something with sb.    share the cost with you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hare my troubles and joy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take my share of the cos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4.to one’s great sorrow/surprise/joy…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look at sb. in sorrow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443520" y="914400"/>
            <a:ext cx="83858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4.care about ---take care of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don’t care to do something(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否定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care for—like be fond of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5.should have cared more about his friend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hould have done (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过去应该做而没做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houldn’t have done(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过去不该做而做了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What a pity! He should _____ ________ (solve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the problem. Otherwise he can’t be busy now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We should _____ _______ (cast) away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the useless things last week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45400" y="3809880"/>
            <a:ext cx="21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solved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971800" y="4724280"/>
            <a:ext cx="168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cas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685800" y="533520"/>
            <a:ext cx="80773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26.give as much as we tak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27.such as--- for example/ lik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28.adventure--- a long walk in the countr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have an adventure in Afric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n adventure stor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29.scared—afraid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be scared of (doing) something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--- be afraid of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be scared to do something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30.like joking around---like making joke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31.drop me a line---write me a short letter,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write a short letter tom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435760" y="76320"/>
            <a:ext cx="473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A sample e-mail(Page 6)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5880" y="1066680"/>
            <a:ext cx="8937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Hi Jane,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My name is Xiao Fei and I come from Hunan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Hunan is in the south of china. I am a middle school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tudent and like speaking English.I read your e-pal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d and I would like to be your e-pal.You wrote that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you like rock music. Can you tell me what bands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you like? Have you ever heard any Chinese rock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bands? You also wrote that you like talking and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joking around.I do too! I think you and can be good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friends. Please send me an e-mail as soon as possible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                           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Xiao Fei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129400" y="0"/>
            <a:ext cx="50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Exercise 3 in Page 87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8120" y="914400"/>
            <a:ext cx="8975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Dear aunt,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Hi! I have made many friends at my school. W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re getting along very well. But one day one of my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friends lost 100 yuan. He thought I had taken his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money and he told others about it. They are not as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friendly to me as they were before. I’m very unhappy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 need your help. Can you give me some advice?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                              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Yours,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                              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Gao Fei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-1849320" y="-95400"/>
            <a:ext cx="9190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9" name="chinaadmimap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706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638680" y="3886200"/>
            <a:ext cx="12956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380880" y="5335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map1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8229600" cy="5506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225560" y="4876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2029800">
            <a:off x="6946560" y="4757760"/>
            <a:ext cx="114300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304920" y="3049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7160" y="762120"/>
            <a:ext cx="720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</a:rPr>
              <a:t>Likes</a:t>
            </a: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   : </a:t>
            </a: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surf the Internet,table tennis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1200" y="3809880"/>
            <a:ext cx="7297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I like/enjoy/love…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I am fond of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I am into…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My hobbies/ interests are…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I think … is interesting/boring/terrible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2120" y="2587680"/>
            <a:ext cx="7943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</a:rPr>
              <a:t>Dislikes</a:t>
            </a: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noises, go shopping, play cards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with my son…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6440" y="2025720"/>
            <a:ext cx="60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some TV plays ,classic music…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07640" y="1415880"/>
            <a:ext cx="552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news, cigarette(sometimes) ,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firstslide"/>
          </p:cNvPr>
          <p:cNvSpPr/>
          <p:nvPr/>
        </p:nvSpPr>
        <p:spPr>
          <a:xfrm>
            <a:off x="6324480" y="45720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9140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Would you please answer me some questions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ahoma"/>
              </a:rPr>
              <a:t>1. Where are you from?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4" name="PE03166_" descr=""/>
          <p:cNvPicPr/>
          <p:nvPr/>
        </p:nvPicPr>
        <p:blipFill>
          <a:blip r:embed="rId2"/>
          <a:stretch/>
        </p:blipFill>
        <p:spPr>
          <a:xfrm>
            <a:off x="6858000" y="3809880"/>
            <a:ext cx="1889280" cy="2467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V="1">
            <a:off x="990720" y="5397120"/>
            <a:ext cx="6215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9280" y="5181480"/>
            <a:ext cx="620064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5. What do you think of Songgang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Middle School?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0000" y="4724280"/>
            <a:ext cx="622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4. Are you living a happy life now?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9720" y="3733920"/>
            <a:ext cx="613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3. How many people are there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in your    family?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9960" y="2743200"/>
            <a:ext cx="707832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2. Which part of Xingjiang  do you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live in?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0" y="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990720" y="32000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9. How can you learn  English well?          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2" name="BS00554_" descr=""/>
          <p:cNvPicPr/>
          <p:nvPr/>
        </p:nvPicPr>
        <p:blipFill>
          <a:blip r:embed="rId2"/>
          <a:stretch/>
        </p:blipFill>
        <p:spPr>
          <a:xfrm>
            <a:off x="5486400" y="3962520"/>
            <a:ext cx="3429000" cy="22302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066680" y="914400"/>
            <a:ext cx="69343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6. Do you have any friends, what do you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think of them?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0200" y="2057400"/>
            <a:ext cx="522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7.  Do you like English? Why?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14120" y="2590920"/>
            <a:ext cx="67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8. What are your likes and dislikes?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1219320" y="4495680"/>
            <a:ext cx="2286000" cy="1143000"/>
          </a:xfrm>
          <a:custGeom>
            <a:avLst/>
            <a:gdLst>
              <a:gd name="textAreaLeft" fmla="*/ 73800 w 2286000"/>
              <a:gd name="textAreaRight" fmla="*/ 2212200 w 22860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43193" h="21600">
                <a:moveTo>
                  <a:pt x="0" y="0"/>
                </a:moveTo>
                <a:lnTo>
                  <a:pt x="43193" y="0"/>
                </a:lnTo>
                <a:lnTo>
                  <a:pt x="43193" y="21600"/>
                </a:lnTo>
                <a:lnTo>
                  <a:pt x="0" y="21600"/>
                </a:lnTo>
                <a:close/>
              </a:path>
              <a:path fill="lightenLess" w="43193" h="21600">
                <a:moveTo>
                  <a:pt x="0" y="0"/>
                </a:moveTo>
                <a:lnTo>
                  <a:pt x="43193" y="0"/>
                </a:lnTo>
                <a:lnTo>
                  <a:pt x="41793" y="1400"/>
                </a:lnTo>
                <a:lnTo>
                  <a:pt x="1400" y="1400"/>
                </a:lnTo>
                <a:close/>
              </a:path>
              <a:path fill="darken" w="43193" h="21600">
                <a:moveTo>
                  <a:pt x="43193" y="0"/>
                </a:moveTo>
                <a:lnTo>
                  <a:pt x="43193" y="21600"/>
                </a:lnTo>
                <a:lnTo>
                  <a:pt x="41793" y="20200"/>
                </a:lnTo>
                <a:lnTo>
                  <a:pt x="41793" y="1400"/>
                </a:lnTo>
                <a:close/>
              </a:path>
              <a:path fill="darkenLess" w="43193" h="21600">
                <a:moveTo>
                  <a:pt x="431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3" y="20200"/>
                </a:lnTo>
                <a:close/>
              </a:path>
              <a:path fill="lighten" w="431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-229680" y="723960"/>
            <a:ext cx="9647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f someone doesn’t like telling lies, he is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f someone is not afraid of danger, we say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e is b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  true and faithful , not turning against l_____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 If an old man is bright we call him a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____ man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. opposite of  ugly(for man)  h______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6. if a boy is clever , we say he is s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7. “Work out a problem” means s______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problem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1120" y="129528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honest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54640" y="236232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brav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46320" y="28954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loyal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7600" y="403848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wis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7160" y="4572000"/>
            <a:ext cx="20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handsom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02960" y="510552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mart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67520" y="563868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olv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5" name="">
            <a:hlinkClick r:id="" action="ppaction://hlinkshowjump?jump=firstslide"/>
          </p:cNvPr>
          <p:cNvSpPr/>
          <p:nvPr/>
        </p:nvSpPr>
        <p:spPr>
          <a:xfrm>
            <a:off x="685800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02:35:49Z</dcterms:created>
  <dc:creator>sgzx</dc:creator>
  <dc:description/>
  <dc:language>en-US</dc:language>
  <cp:lastModifiedBy>sgzx</cp:lastModifiedBy>
  <dcterms:modified xsi:type="dcterms:W3CDTF">2003-09-11T07:12:53Z</dcterms:modified>
  <cp:revision>48</cp:revision>
  <dc:subject/>
  <dc:title>PowerPoint 演示文稿</dc:title>
</cp:coreProperties>
</file>