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E47-AAB8-4B95-8959-2071BE56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F78-F4D6-4DAE-AF59-393B90EB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4F3-1FF4-4052-B098-664B0938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D1C-6F39-4A43-A31C-2647610B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54DA-9029-4290-9824-8D9BE3E6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8B0A-491C-43E2-B4B4-7F7C1FE2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03B4-643C-4E26-B450-C2BC34F3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2B2E-249D-4705-BE88-C7E910E4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D710-4F9D-487D-8612-B9DA1E72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E8D8-A11D-4CE0-ACEC-2F31662B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7A9-4517-45A9-88F3-37B0563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FEA-157F-41BC-94C6-EA7336BD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542A-F0EB-4A3A-841A-FEC1A1E0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50C7-80E0-4310-AACC-9FB6BCB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EFB9-6ED4-4209-9BCC-9B230F17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F9C7-E66D-4063-9060-DA6491C6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5A24-EEEE-48ED-81A1-D3037CC2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E0B-4ECB-4B40-BC7C-05E4A000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607-3CF4-4E83-9F2C-B88FBE07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EB5-3439-4335-94DF-B349D819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155-06A1-4D11-A003-30AE1712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11C-537D-44C5-B467-609AE79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448-074F-4EB9-B928-ADE0EF9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B92-89E5-4CD5-AD73-06FA3D61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1B83-2E59-4A24-9DC5-16AE216BD342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DE26-A710-4C29-B6BD-8172F5E2D764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" Target="slide9.xml"/><Relationship Id="rId5" Type="http://schemas.openxmlformats.org/officeDocument/2006/relationships/slide" Target="slide2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J_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E03166_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2939760" cy="38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066680" y="990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Good friend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095880" y="30492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elf introduc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5943600" y="198108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w    wor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5715000" y="57913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5943600" y="3581280"/>
            <a:ext cx="2666880" cy="1067040"/>
          </a:xfrm>
          <a:custGeom>
            <a:avLst/>
            <a:gdLst>
              <a:gd name="textAreaLeft" fmla="*/ 69120 w 2666880"/>
              <a:gd name="textAreaRight" fmla="*/ 2597760 w 2666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’s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5560" y="609480"/>
            <a:ext cx="835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 Opposite of modern is c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f you like doing something, you a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____ of doing i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Now we usually make fire with a lighter ,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ut in the past  people make fire with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1.A friend is a m______, because he or sh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let us know about ourselves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A film is a m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Throw a stone means c_____ a sto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2080" y="6094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7208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n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86760" y="33526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atch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4840" y="38862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irro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0280" y="49975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ovi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5562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a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858000" y="2286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6858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go on living, escape being killed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A place where there are no people is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________ plac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They are look for an e-pal, that is to say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y’re h_______ for a friend on the li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 The noun form of sorry is 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 “To have the same interest or feeling a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omeone else”means to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for example like---s ___ a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2193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rvi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2000" y="2330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sert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34290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unti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0" y="39625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rrow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48560" y="50734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ha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5638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ch  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8520" y="609480"/>
            <a:ext cx="820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. An exciting or dangerous journey  is a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_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 Write someone a short letter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_____ someone a l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. A  friend on the internet is an e-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. They are afraid of something , “afraid ”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s s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0440" y="1143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adventu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3840" y="2787480"/>
            <a:ext cx="44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drop                        lin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9280" y="3352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e-p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5880" y="44640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car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cast%20away1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451400" cy="510552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655308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09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Hank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0120" y="4648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920" y="4876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astaway1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72680" cy="57150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68580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astaway2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715520" cy="5143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6172200" y="4495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8280" y="5791320"/>
            <a:ext cx="72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ve the problem of lonelines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astaway6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655308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astaway7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1840" y="601992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unt for something to ea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4680" y="838080"/>
            <a:ext cx="36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best design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6000" y="16002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6000" y="251460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000" y="33526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3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6000" y="40384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4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7242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5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0080" y="167652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6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4120" y="236232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7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0440" y="32004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8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0080" y="40384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9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8769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0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62940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5600" y="838080"/>
            <a:ext cx="296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ost read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676520"/>
            <a:ext cx="86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. how to collect water, hunt for foo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d make fi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760" y="3429000"/>
            <a:ext cx="834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He realizes friendship is importan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He realizes that he hasn’t been a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good friend…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55308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xjmap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7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62940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4320" y="1166760"/>
            <a:ext cx="9268200" cy="54565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Noland, a successful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sinessman,lands on a_______ island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fter a plane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has to learn basic survival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kills on the island. __ ____ __ do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neliness, he _______ a friendship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olleyball _____ Wilson and _____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t as a real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22320" y="1905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59092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0560" y="38098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99320" y="4495680"/>
            <a:ext cx="21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1814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600" y="51055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520" y="609480"/>
            <a:ext cx="9403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years’ life on the island teache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ck the importance of having frien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being a good friend. He know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should ______ happiness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.Friends should _____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uch as they _____from each other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also learned that he _____have care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____ his friends.So in some way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are __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66688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a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3526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rrow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32767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gi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240" y="39625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k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120" y="464832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oul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25780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bou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200" y="601992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acher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18000" y="1523880"/>
            <a:ext cx="917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riends and unusual friend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important in our life.Friend an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hip help us understand ___ we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and how we should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760" y="289548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68160" y="3581280"/>
            <a:ext cx="17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eha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647712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520" y="0"/>
            <a:ext cx="838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anguage points in Unit 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goodness, wort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a ma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 fine 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material is poor qualit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hon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not telling l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nest e-pa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loyal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true and faithfu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loyal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b./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oyal supporter of the Par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rg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quarrel   argu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about/over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with s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argued with the waiter about the price of th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a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629400" y="42670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9440" y="781200"/>
            <a:ext cx="8758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lve the problem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 work out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he way of solving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either side can find any solution to an argumen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 that.../ such …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+ adj. /adv.  so good/smart/loyal.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such boys/material/e-pals/such a b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ch a adj.+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busy a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o adj. a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a busy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 many/much/little/f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adj.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复数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不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funny stories   such good weat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55308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8240" y="663480"/>
            <a:ext cx="920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The box is ___ heavy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_____heavy is the box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se are ____ small shoes that I can’t put them on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It is ____ fine weather that we will go swimm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It was ___ a lovely day that we decided to go hiking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The Smiths have ______ many children that the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their own basketball team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3760" y="6541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240" y="1066680"/>
            <a:ext cx="7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560" y="26208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640" y="2133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0040" y="16002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960" y="31240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12960" y="89208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that…/so 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…that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此…以致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所以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了，以便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order that, in order to d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hard-working a boy is he that he always gets hig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___ hard-working that he always gets high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so that we could catch the first 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___ ____ ____we could catch the fir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2160" y="3809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8880" y="522612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in order th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47712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6440" y="816120"/>
            <a:ext cx="889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/neither/n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的倒装结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/neither 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助动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语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不一样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t center school last year, and so was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riend Bob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tudy hard, and so ____ my brother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can finish it in time,so___ w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go to the cinema tonight, so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don’t go to the cinema tonight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didn’t see him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2004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5040" y="37018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2080" y="41911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i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2280" y="4692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5040" y="51498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324480" y="55627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-15840" y="739800"/>
            <a:ext cx="94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it is /was with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has gone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is with Mary.(=so has Mary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ke didn’t attend the meeting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was with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=neither did I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m’s father was a good worker, and worked very hard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it was with Jack’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  “的确如此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omorrow will be Mon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So it wil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， 是星期一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" y="5486400"/>
            <a:ext cx="16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-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DD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5486400"/>
            <a:ext cx="15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6-1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B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4320" y="5410080"/>
            <a:ext cx="15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1-1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BDA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12600" y="762120"/>
            <a:ext cx="913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7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ike/love/enj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fon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be interested in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doi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think …is ok/interesting/boring/terrib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come fond of him---be beginning to like hi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8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rvive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escape being killed, go on living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rvival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last surviving member of the famil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survive 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feed on/ live o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9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s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be left away on an island after your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ip has sunk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st—throw    cast a ne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64008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Monotype Corsiva"/>
              </a:rPr>
              <a:t>Warmly Welcome to Our School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Hello ,everyone 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Peary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Chinese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Zha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Meixiang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张美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m very glad to be your English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eacher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d like to be your friend, to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From now on, we’ll study together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 hope we can help and learn from each oth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hank you very much.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peary1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23652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61722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2640" y="228600"/>
            <a:ext cx="8914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0.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play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man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named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 as /play the part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man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with the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so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y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tha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as little time for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oo busy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ny time to stay with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nage to do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s on a fl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is fly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 on board the plane/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get on the plane/the 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ras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n. vi. --fall/dro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ash into the tre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ar crash                    an aircraft cras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647712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685800"/>
            <a:ext cx="86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5.deserted island--- on an island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without peo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ere there are no peo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deserted village/island/tem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sert n. v.    in the desert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6.hunt for---search for/look fo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.challeng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mething difficult that you have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8.in order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 as to do/in order that sb can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9.develop a friendship---- make a friendship bett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0.realise/realize---- come to know, make sth tru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realize his own danger          realize one’s hope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73200" y="871560"/>
            <a:ext cx="818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1.have been thinking about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现在完成进行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表示动作从过去某时开始， 一直延续到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在并有可能延续下去。它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lways, ofte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等连用时表示重复动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om yesterday, he has been reading the nove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Hi, Tracy, you look tired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I am tired. I ______ the living room all 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. painted                      B. had painte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. have been painting   D. have paint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2.treat …a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regard …as, look on …. As      treat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2680" y="76212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3.share happiness and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to have the same happiness and unhappi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----to have the same feeling or intere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s someone els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(in) something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et’s share, you have half and I have half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something with sb.    share the cost with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my troubles and joy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my share of the co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to one’s great sorrow/surprise/joy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ook at sb. in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3520" y="914400"/>
            <a:ext cx="838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care about ---take care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on’t care to do something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否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re for—like be fon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5.should have cared more about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 have done 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应该做而没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n’t have done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不该做而做了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at a pity! He should _____ ________ (solve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problem. Otherwise he can’t be busy now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e should _____ _______ (cast) awa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useless things last week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5400" y="380988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olv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4724280"/>
            <a:ext cx="16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53352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6.give as much as we ta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7.such as--- for example/ li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8.adventure--- a long walk in the count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an adventure in Afric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 adventure sto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9.scared—afrai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of (doing)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-- be afrai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to do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0.like joking around---like making jok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1.drop me a line---write me a short letter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rite a short letter tom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35760" y="7632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 sample e-mail(Page 6)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80" y="1066680"/>
            <a:ext cx="893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 Jane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y name is Xiao Fei and I come from Hunan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unan is in the south of china. I am a middle schoo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tudent and like speaking English.I read your e-pa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d and I would like to be your e-pal.You wrote tha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 rock music. Can you tell me what band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? Have you ever heard any Chinese rock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ands? You also wrote that you like talking an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joking around.I do too! I think you and can be goo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. Please send me an e-mail as soon as possib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Xi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9400" y="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Exercise 3 in Page 87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120" y="914400"/>
            <a:ext cx="897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ar aunt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! I have made many friends at my school. W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re getting along very well. But one day one of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 lost 100 yuan. He thought I had taken hi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oney and he told others about it. They are not a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ly to me as they were before. I’m very unhapp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need your help. Can you give me some advice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rs,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G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849320" y="-95400"/>
            <a:ext cx="919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chinaadmimap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38680" y="3886200"/>
            <a:ext cx="12956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380880" y="533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p1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8229600" cy="55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2556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29800">
            <a:off x="6946560" y="475776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04920" y="304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7160" y="762120"/>
            <a:ext cx="72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urf the Internet,table tenni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200" y="3809880"/>
            <a:ext cx="729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like/enjoy/lov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fond of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into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My hobbies/ interests ar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 … is interesting/boring/terrib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2120" y="2587680"/>
            <a:ext cx="794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is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oises, go shopping, play card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with my son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6440" y="2025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ome TV plays ,classic music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640" y="141588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ews, cigarette(sometimes) 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6324480" y="45720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ould you please answer me some questions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1. Where are you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PE03166_" descr=""/>
          <p:cNvPicPr/>
          <p:nvPr/>
        </p:nvPicPr>
        <p:blipFill>
          <a:blip r:embed="rId2"/>
          <a:stretch/>
        </p:blipFill>
        <p:spPr>
          <a:xfrm>
            <a:off x="6858000" y="3809880"/>
            <a:ext cx="188928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990720" y="5397120"/>
            <a:ext cx="621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181480"/>
            <a:ext cx="6200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5. What do you think of Songgang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Middle School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000" y="472428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 Are you living a happy life now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9720" y="373392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3. How many people are the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in your    family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960" y="2743200"/>
            <a:ext cx="707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2. Which part of Xingjiang  do you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live in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0720" y="32000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9. How can you learn  English well? 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BS00554_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429000" cy="2230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91440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Do you have any friends, what do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think of them?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0200" y="2057400"/>
            <a:ext cx="52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7.  Do you like English? Why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14120" y="25909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8. What are your likes and dislikes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1219320" y="44956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229680" y="723960"/>
            <a:ext cx="964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doesn’t like telling lies, he 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is not afraid of danger, we say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b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true and faithful , not turning against l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If an old man is bright we call him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____ man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opposite of  ugly(for man)  h_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f a boy is clever , we say he is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“Work out a problem” means s______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12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ne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4640" y="2362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bra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6320" y="28954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loy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600" y="4038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is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7160" y="457200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andsom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960" y="51055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mar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67520" y="56386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2:35:49Z</dcterms:created>
  <dc:creator>sgzx</dc:creator>
  <dc:description/>
  <dc:language>en-US</dc:language>
  <cp:lastModifiedBy>sgzx</cp:lastModifiedBy>
  <dcterms:modified xsi:type="dcterms:W3CDTF">2003-09-11T07:12:53Z</dcterms:modified>
  <cp:revision>48</cp:revision>
  <dc:subject/>
  <dc:title>PowerPoint 演示文稿</dc:title>
</cp:coreProperties>
</file>