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41D0-216B-404E-B506-54D20E04F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71A4-A0C3-4802-B1B8-DA673F6D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F74C-EF6A-4333-9DCC-8B065BE9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DB42-4C3C-4685-AD73-8A9725C50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47A3-1C55-4819-BBDA-D27525FF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1843-911E-4239-A9AB-9758E8E2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2714-5508-43FF-BBF5-57073F72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0550-6589-43C2-988A-65559708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A1D3-2B62-4BE1-8EFF-8CD887D8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65DB-5D83-4F31-9085-1988F994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3A7A-DBF6-43E8-B592-77ABFA8C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D208-72EB-4B17-BB95-B22C1407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752FB-223B-4EF2-A5B0-A3BFF02830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920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important to learn a foreign language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offered to help u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usually has a lot of work to do on Sun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at to live , but we don’t live to e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warned us not to go out at 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e wants to do is earn his own br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 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Used as su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 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Used as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 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Used as attribu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 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Used as adverb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 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Used as object supplemen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     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Used as predi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3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 fill="hold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4-08-15T15:25:14Z</dcterms:modified>
  <cp:revision>1</cp:revision>
  <dc:subject/>
  <dc:title>PowerPoint Presentation</dc:title>
</cp:coreProperties>
</file>