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7.png" ContentType="image/png"/>
  <Override PartName="/ppt/media/image22.jpeg" ContentType="image/jpeg"/>
  <Override PartName="/ppt/media/image4.jpeg" ContentType="image/jpeg"/>
  <Override PartName="/ppt/media/image10.wmf" ContentType="image/x-wmf"/>
  <Override PartName="/ppt/media/image25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24.jpeg" ContentType="image/jpeg"/>
  <Override PartName="/ppt/media/image3.jpeg" ContentType="image/jpeg"/>
  <Override PartName="/ppt/media/image12.gif" ContentType="image/gif"/>
  <Override PartName="/ppt/media/333.wav" ContentType="audio/x-wav"/>
  <Override PartName="/ppt/media/image20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3.png" ContentType="image/png"/>
  <Override PartName="/ppt/media/image14.wmf" ContentType="image/x-wmf"/>
  <Override PartName="/ppt/media/image16.png" ContentType="image/png"/>
  <Override PartName="/ppt/media/image17.gif" ContentType="image/gif"/>
  <Override PartName="/ppt/media/MYYPT.wav" ContentType="audio/x-wav"/>
  <Override PartName="/ppt/media/image29.png" ContentType="image/png"/>
  <Override PartName="/ppt/media/image21.jpeg" ContentType="image/jpeg"/>
  <Override PartName="/ppt/media/image15.png" ContentType="image/png"/>
  <Override PartName="/ppt/media/image18.jpeg" ContentType="image/jpeg"/>
  <Override PartName="/ppt/media/image26.gif" ContentType="image/gif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BFB8-E421-495B-82C0-2143D324C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724B-7D97-406E-AC13-B5D10A19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8653-8AC0-4A7A-830A-438D206B2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DFAF-3BEC-4B7E-BA82-EAF1059E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F119B-910F-417E-B35E-DEC0C32D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0F03-B799-43F1-A99F-9159A749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CBD4-6A5D-4734-B828-087DED1F7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63D8-BE77-4BF4-AF65-87C28382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CE6E-3031-4158-953E-C24A4EEE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E5B4-CE7C-45D3-B27C-C026A10B0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7020-347C-4267-AA9F-9EED3257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BB6E-F66D-499C-9BC9-5DA84639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5FF1-CA51-48C9-A127-5DA73B4C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FBE48-07CE-4D7C-9218-0314986B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50B2-4BC8-4FCF-BCDE-704E8F0A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0D8D-4AD8-41D6-BDEB-8C35145B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FAE6-8819-4E71-8BA3-0435E54D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A2AA3-73A0-4F2A-BF67-0371AB4EC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43A20-9B2F-4AE3-B560-46D8630E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9B2DE-D524-4491-9C0A-89AEB655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FAB77-E7D7-4CAD-89DC-A4D71370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DA70C-D47F-47EC-925B-1E4F0610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2348-0B26-4B7A-9361-A5408CB7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0FD67-47E3-49A2-B3AA-47CECFD7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BCA96-A8B1-4D36-A71F-AA17B7E8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D818F-3A44-4040-AAE3-1E864AE4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889A7-A1DA-45C4-B7BC-9D5C59EA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53293-E914-4B92-93AF-38541ADA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451E8-0590-4DD4-88D7-5C431D485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FE740-9D4C-4BF6-9DA4-148FA920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DCD0F5-9374-4B82-8F98-C0999121A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682F25-FC73-47B6-B14E-D6942B49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7C38F5-D9E7-4C55-8C90-07DCB91C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0F42-6814-41CD-AAF2-75406782A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DD6C45-1D5B-44B1-B1B0-616A1780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3EEEA1-2A5D-4B67-AF91-050B413E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188FD9-9E7A-4A2F-A907-D8A9CDF6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BB21E7-DB7F-4B62-8876-E88CE730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9A0042-9FF3-425B-A022-608E9C25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03D5F6-40F7-468C-A2CA-8E6D8930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EF0789-B870-477D-A2CE-56EEE7D3A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86FE45-D580-4146-89AF-EEFFD772E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28ED91-A0EF-4A35-9520-0E5ACC536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2CC99-BB4E-474F-A6E2-DA4CB094A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77ED-BA80-43D7-A1BB-C6E30EAAA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CBD8B-E520-4A89-A90E-E6B75A6FC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93A18-E1D4-419F-8351-FFA721D4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7AF2D-2086-4176-BA6E-19648B21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39E45-AD0F-43B1-A619-4AA66AD4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56D26-CBCA-4E21-B8AB-F9DEF7FEC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1CC2C-BEB0-4A8F-8E47-ECF8BA7B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3E2AF-810C-441D-BE90-00B30FBF2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2BD2A-9EE5-4B26-B4C7-E1D6C9A2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E0A36-F38E-4CCA-9903-1F872642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2D78E-4B03-41F1-BD5E-E84F09B84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0316-B8E1-4BB1-A7C7-FFA18DE5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8DC3F8-9935-4F6D-8D48-DBB99688E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8215-F2D5-4532-A989-2187290C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66CA-D8D0-4C2D-AC41-1998C81B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FA40-3212-4797-B220-DB7AB21F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58B80-2B0E-43CF-B2B8-F3820CDC90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5A81-1756-4E38-9157-24AB44E64316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9EFD-73C0-457B-8BFC-6D1A13CE940C}" type="slidenum">
              <a:rPr b="0" lang="zh-CN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9B2A2-7282-4101-BED4-EE8BAAAAB81E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9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4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9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44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5720-A670-4E8B-BC65-505F1DEAFE8A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2.gif"/><Relationship Id="rId8" Type="http://schemas.openxmlformats.org/officeDocument/2006/relationships/audio" Target="../media/333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14.wmf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MYYPT.wav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 txBox="1"/>
          <p:nvPr/>
        </p:nvSpPr>
        <p:spPr>
          <a:xfrm>
            <a:off x="1523880" y="1066680"/>
            <a:ext cx="297180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Unit 2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600200" y="3124080"/>
            <a:ext cx="5867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News Media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3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5" name=""/>
          <p:cNvGraphicFramePr/>
          <p:nvPr/>
        </p:nvGraphicFramePr>
        <p:xfrm>
          <a:off x="179280" y="260280"/>
          <a:ext cx="8785440" cy="6440400"/>
        </p:xfrm>
        <a:graphic>
          <a:graphicData uri="http://schemas.openxmlformats.org/drawingml/2006/table">
            <a:tbl>
              <a:tblPr/>
              <a:tblGrid>
                <a:gridCol w="2016360"/>
                <a:gridCol w="2447640"/>
                <a:gridCol w="2283120"/>
                <a:gridCol w="203832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eve without checking other 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ieve some &amp; check other 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believe &amp; check other sourc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s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 progra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paper artic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 txBox="1"/>
          <p:nvPr/>
        </p:nvSpPr>
        <p:spPr>
          <a:xfrm>
            <a:off x="533520" y="2971800"/>
            <a:ext cx="76197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8b04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Behind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8b04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8b04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f8b049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the Headlines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bbe0e3"/>
                  </a:gs>
                  <a:gs pos="100000">
                    <a:srgbClr val="f8b049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533520" y="2971800"/>
            <a:ext cx="76197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Times New Roman"/>
              </a:rPr>
              <a:t>Behind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Times New Roman"/>
              </a:rPr>
              <a:t> </a:t>
            </a: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Times New Roman"/>
              </a:rPr>
              <a:t>the Headlines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048120" y="1523880"/>
            <a:ext cx="4267080" cy="642600"/>
          </a:xfrm>
          <a:prstGeom prst="rect">
            <a:avLst/>
          </a:prstGeom>
          <a:gradFill rotWithShape="0">
            <a:gsLst>
              <a:gs pos="0">
                <a:srgbClr val="2d9f2d"/>
              </a:gs>
              <a:gs pos="100000">
                <a:srgbClr val="164f16"/>
              </a:gs>
            </a:gsLst>
            <a:lin ang="5400000"/>
          </a:gradFill>
          <a:ln cap="sq" w="572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Reading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7"/>
          <a:stretch/>
        </p:blipFill>
        <p:spPr>
          <a:xfrm>
            <a:off x="1371600" y="1066680"/>
            <a:ext cx="1616040" cy="164016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 txBox="1"/>
          <p:nvPr/>
        </p:nvSpPr>
        <p:spPr>
          <a:xfrm>
            <a:off x="533520" y="2971800"/>
            <a:ext cx="761976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Behind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r>
              <a:rPr b="1" i="1" lang="en-US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ccff"/>
                    </a:gs>
                    <a:gs pos="100000">
                      <a:srgbClr val="ccccff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the Headlines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ccff"/>
                  </a:gs>
                  <a:gs pos="100000">
                    <a:srgbClr val="ccccff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33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 txBox="1"/>
          <p:nvPr/>
        </p:nvSpPr>
        <p:spPr>
          <a:xfrm>
            <a:off x="395280" y="0"/>
            <a:ext cx="2362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ead-in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44" name=""/>
          <p:cNvSpPr/>
          <p:nvPr/>
        </p:nvSpPr>
        <p:spPr>
          <a:xfrm>
            <a:off x="539640" y="907920"/>
            <a:ext cx="813600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 In what way do you know what is happening around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What newspaper do you usually read in your spare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 How much do you spend on newspaper per mon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Which column of a newspaper do you spend most t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 Do you believe every single news repor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 How do you think newspapers report what happe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5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0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15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0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5" dur="500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0" dur="500"/>
                                        <p:tgtEl>
                                          <p:spTgt spid="5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6" name=""/>
          <p:cNvGraphicFramePr/>
          <p:nvPr/>
        </p:nvGraphicFramePr>
        <p:xfrm rot="10800000">
          <a:off x="380880" y="5943600"/>
          <a:ext cx="8458200" cy="50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 rot="10800000">
                    <a:off x="380880" y="5943600"/>
                    <a:ext cx="84582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"/>
          <p:cNvSpPr/>
          <p:nvPr/>
        </p:nvSpPr>
        <p:spPr>
          <a:xfrm>
            <a:off x="571320" y="968400"/>
            <a:ext cx="573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Lucida Sans Unicode"/>
              </a:rPr>
              <a:t>Read for main idea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9680" y="1844640"/>
            <a:ext cx="153396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4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6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Para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133720" y="1752480"/>
            <a:ext cx="6781680" cy="861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News and other media do mote than simply record what happ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133720" y="2743200"/>
            <a:ext cx="6781680" cy="861480"/>
          </a:xfrm>
          <a:prstGeom prst="rect">
            <a:avLst/>
          </a:prstGeom>
          <a:solidFill>
            <a:srgbClr val="808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Q: How do you decide what you are going to wri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133720" y="3733920"/>
            <a:ext cx="6781680" cy="861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Which of the articles that you have written do you like b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133720" y="4724280"/>
            <a:ext cx="6781680" cy="861480"/>
          </a:xfrm>
          <a:prstGeom prst="rect">
            <a:avLst/>
          </a:prstGeom>
          <a:solidFill>
            <a:srgbClr val="80808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If you could write any article you want, what would you write and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24000" y="5661000"/>
            <a:ext cx="6782040" cy="86148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How do newspapers help us understand the worl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4"/>
          <a:stretch/>
        </p:blipFill>
        <p:spPr>
          <a:xfrm>
            <a:off x="7467480" y="228600"/>
            <a:ext cx="1676520" cy="142884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5"/>
          <a:stretch/>
        </p:blipFill>
        <p:spPr>
          <a:xfrm>
            <a:off x="0" y="1828800"/>
            <a:ext cx="533520" cy="6094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6"/>
          <a:stretch/>
        </p:blipFill>
        <p:spPr>
          <a:xfrm>
            <a:off x="0" y="28195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58" name="" descr=""/>
          <p:cNvPicPr/>
          <p:nvPr/>
        </p:nvPicPr>
        <p:blipFill>
          <a:blip r:embed="rId7"/>
          <a:stretch/>
        </p:blipFill>
        <p:spPr>
          <a:xfrm>
            <a:off x="0" y="36576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8"/>
          <a:stretch/>
        </p:blipFill>
        <p:spPr>
          <a:xfrm>
            <a:off x="0" y="4648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60" name="" descr=""/>
          <p:cNvPicPr/>
          <p:nvPr/>
        </p:nvPicPr>
        <p:blipFill>
          <a:blip r:embed="rId9"/>
          <a:stretch/>
        </p:blipFill>
        <p:spPr>
          <a:xfrm>
            <a:off x="0" y="5562720"/>
            <a:ext cx="533520" cy="533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556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556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3" dur="1" fill="hold"/>
                                        <p:tgtEl>
                                          <p:spTgt spid="5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557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557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559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559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1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3" dur="1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826920" y="1341360"/>
            <a:ext cx="68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b3827"/>
                </a:solidFill>
                <a:latin typeface="Comic Sans MS"/>
                <a:ea typeface="方正姚体"/>
              </a:rPr>
              <a:t>Which of the following questions the text answ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85800" y="2590920"/>
            <a:ext cx="7543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does a reporter decide what to wri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much does a newspaper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Why do people read newspap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do newspapers report what happe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Where do people read newspap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____How do newspapers help us understand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wor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1067040" cy="23796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395280" y="3789360"/>
            <a:ext cx="1066680" cy="23796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4"/>
          <a:stretch/>
        </p:blipFill>
        <p:spPr>
          <a:xfrm>
            <a:off x="395280" y="4365720"/>
            <a:ext cx="1066680" cy="23796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5"/>
          <a:stretch/>
        </p:blipFill>
        <p:spPr>
          <a:xfrm>
            <a:off x="395280" y="5445000"/>
            <a:ext cx="1066680" cy="2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"/>
          <p:cNvGrpSpPr/>
          <p:nvPr/>
        </p:nvGrpSpPr>
        <p:grpSpPr>
          <a:xfrm>
            <a:off x="0" y="333360"/>
            <a:ext cx="9144000" cy="6237360"/>
            <a:chOff x="0" y="333360"/>
            <a:chExt cx="9144000" cy="6237360"/>
          </a:xfrm>
        </p:grpSpPr>
        <p:sp>
          <p:nvSpPr>
            <p:cNvPr id="569" name=""/>
            <p:cNvSpPr/>
            <p:nvPr/>
          </p:nvSpPr>
          <p:spPr>
            <a:xfrm>
              <a:off x="304560" y="3538440"/>
              <a:ext cx="6683400" cy="3032280"/>
            </a:xfrm>
            <a:custGeom>
              <a:avLst/>
              <a:gdLst/>
              <a:ahLst/>
              <a:rect l="l" t="t" r="r" b="b"/>
              <a:pathLst>
                <a:path w="4210" h="1910">
                  <a:moveTo>
                    <a:pt x="430" y="448"/>
                  </a:moveTo>
                  <a:cubicBezTo>
                    <a:pt x="474" y="332"/>
                    <a:pt x="467" y="287"/>
                    <a:pt x="600" y="235"/>
                  </a:cubicBezTo>
                  <a:cubicBezTo>
                    <a:pt x="627" y="224"/>
                    <a:pt x="657" y="228"/>
                    <a:pt x="686" y="224"/>
                  </a:cubicBezTo>
                  <a:cubicBezTo>
                    <a:pt x="714" y="203"/>
                    <a:pt x="737" y="170"/>
                    <a:pt x="771" y="160"/>
                  </a:cubicBezTo>
                  <a:cubicBezTo>
                    <a:pt x="826" y="144"/>
                    <a:pt x="885" y="154"/>
                    <a:pt x="942" y="150"/>
                  </a:cubicBezTo>
                  <a:cubicBezTo>
                    <a:pt x="1056" y="143"/>
                    <a:pt x="1169" y="135"/>
                    <a:pt x="1283" y="128"/>
                  </a:cubicBezTo>
                  <a:cubicBezTo>
                    <a:pt x="1522" y="76"/>
                    <a:pt x="1246" y="121"/>
                    <a:pt x="1464" y="128"/>
                  </a:cubicBezTo>
                  <a:cubicBezTo>
                    <a:pt x="1557" y="131"/>
                    <a:pt x="1649" y="121"/>
                    <a:pt x="1742" y="118"/>
                  </a:cubicBezTo>
                  <a:cubicBezTo>
                    <a:pt x="1991" y="100"/>
                    <a:pt x="2241" y="63"/>
                    <a:pt x="2488" y="107"/>
                  </a:cubicBezTo>
                  <a:cubicBezTo>
                    <a:pt x="2727" y="90"/>
                    <a:pt x="2758" y="136"/>
                    <a:pt x="2894" y="0"/>
                  </a:cubicBezTo>
                  <a:cubicBezTo>
                    <a:pt x="2931" y="123"/>
                    <a:pt x="2955" y="240"/>
                    <a:pt x="3011" y="352"/>
                  </a:cubicBezTo>
                  <a:cubicBezTo>
                    <a:pt x="3001" y="410"/>
                    <a:pt x="2979" y="505"/>
                    <a:pt x="3011" y="555"/>
                  </a:cubicBezTo>
                  <a:cubicBezTo>
                    <a:pt x="3023" y="574"/>
                    <a:pt x="3054" y="541"/>
                    <a:pt x="3075" y="534"/>
                  </a:cubicBezTo>
                  <a:cubicBezTo>
                    <a:pt x="3170" y="993"/>
                    <a:pt x="3223" y="799"/>
                    <a:pt x="3811" y="790"/>
                  </a:cubicBezTo>
                  <a:cubicBezTo>
                    <a:pt x="3849" y="750"/>
                    <a:pt x="3818" y="769"/>
                    <a:pt x="3854" y="811"/>
                  </a:cubicBezTo>
                  <a:cubicBezTo>
                    <a:pt x="3862" y="821"/>
                    <a:pt x="3875" y="825"/>
                    <a:pt x="3886" y="832"/>
                  </a:cubicBezTo>
                  <a:cubicBezTo>
                    <a:pt x="3900" y="924"/>
                    <a:pt x="3884" y="1023"/>
                    <a:pt x="3918" y="1110"/>
                  </a:cubicBezTo>
                  <a:cubicBezTo>
                    <a:pt x="3931" y="1143"/>
                    <a:pt x="3979" y="1148"/>
                    <a:pt x="4003" y="1174"/>
                  </a:cubicBezTo>
                  <a:cubicBezTo>
                    <a:pt x="4095" y="1276"/>
                    <a:pt x="4116" y="1335"/>
                    <a:pt x="4174" y="1451"/>
                  </a:cubicBezTo>
                  <a:cubicBezTo>
                    <a:pt x="4177" y="1501"/>
                    <a:pt x="4210" y="1558"/>
                    <a:pt x="4184" y="1600"/>
                  </a:cubicBezTo>
                  <a:cubicBezTo>
                    <a:pt x="4167" y="1627"/>
                    <a:pt x="4037" y="1646"/>
                    <a:pt x="3992" y="1654"/>
                  </a:cubicBezTo>
                  <a:cubicBezTo>
                    <a:pt x="3985" y="1677"/>
                    <a:pt x="3966" y="1695"/>
                    <a:pt x="3960" y="1718"/>
                  </a:cubicBezTo>
                  <a:cubicBezTo>
                    <a:pt x="3948" y="1767"/>
                    <a:pt x="3964" y="1823"/>
                    <a:pt x="3939" y="1867"/>
                  </a:cubicBezTo>
                  <a:cubicBezTo>
                    <a:pt x="3921" y="1899"/>
                    <a:pt x="3869" y="1896"/>
                    <a:pt x="3832" y="1899"/>
                  </a:cubicBezTo>
                  <a:cubicBezTo>
                    <a:pt x="3740" y="1906"/>
                    <a:pt x="3647" y="1906"/>
                    <a:pt x="3555" y="1910"/>
                  </a:cubicBezTo>
                  <a:cubicBezTo>
                    <a:pt x="3218" y="1899"/>
                    <a:pt x="2966" y="1909"/>
                    <a:pt x="2659" y="1856"/>
                  </a:cubicBezTo>
                  <a:cubicBezTo>
                    <a:pt x="2424" y="1679"/>
                    <a:pt x="2435" y="1728"/>
                    <a:pt x="2083" y="1739"/>
                  </a:cubicBezTo>
                  <a:cubicBezTo>
                    <a:pt x="1665" y="1793"/>
                    <a:pt x="2477" y="1691"/>
                    <a:pt x="1123" y="1760"/>
                  </a:cubicBezTo>
                  <a:cubicBezTo>
                    <a:pt x="1064" y="1763"/>
                    <a:pt x="952" y="1803"/>
                    <a:pt x="952" y="1803"/>
                  </a:cubicBezTo>
                  <a:cubicBezTo>
                    <a:pt x="938" y="1817"/>
                    <a:pt x="928" y="1837"/>
                    <a:pt x="910" y="1846"/>
                  </a:cubicBezTo>
                  <a:cubicBezTo>
                    <a:pt x="861" y="1870"/>
                    <a:pt x="707" y="1872"/>
                    <a:pt x="654" y="1878"/>
                  </a:cubicBezTo>
                  <a:cubicBezTo>
                    <a:pt x="561" y="1849"/>
                    <a:pt x="469" y="1819"/>
                    <a:pt x="376" y="1792"/>
                  </a:cubicBezTo>
                  <a:cubicBezTo>
                    <a:pt x="348" y="1784"/>
                    <a:pt x="300" y="1799"/>
                    <a:pt x="291" y="1771"/>
                  </a:cubicBezTo>
                  <a:cubicBezTo>
                    <a:pt x="72" y="1071"/>
                    <a:pt x="396" y="1140"/>
                    <a:pt x="78" y="1099"/>
                  </a:cubicBezTo>
                  <a:cubicBezTo>
                    <a:pt x="154" y="551"/>
                    <a:pt x="0" y="682"/>
                    <a:pt x="291" y="608"/>
                  </a:cubicBezTo>
                  <a:cubicBezTo>
                    <a:pt x="326" y="574"/>
                    <a:pt x="356" y="550"/>
                    <a:pt x="376" y="502"/>
                  </a:cubicBezTo>
                  <a:cubicBezTo>
                    <a:pt x="383" y="484"/>
                    <a:pt x="385" y="462"/>
                    <a:pt x="398" y="448"/>
                  </a:cubicBezTo>
                  <a:cubicBezTo>
                    <a:pt x="415" y="429"/>
                    <a:pt x="438" y="416"/>
                    <a:pt x="462" y="406"/>
                  </a:cubicBezTo>
                  <a:cubicBezTo>
                    <a:pt x="482" y="398"/>
                    <a:pt x="516" y="414"/>
                    <a:pt x="526" y="395"/>
                  </a:cubicBezTo>
                  <a:cubicBezTo>
                    <a:pt x="543" y="364"/>
                    <a:pt x="526" y="324"/>
                    <a:pt x="526" y="288"/>
                  </a:cubicBezTo>
                </a:path>
              </a:pathLst>
            </a:custGeom>
            <a:blipFill rotWithShape="0">
              <a:blip r:embed="rId1">
                <a:alphaModFix amt="0"/>
              </a:blip>
              <a:srcRect/>
              <a:stretch/>
            </a:blipFill>
            <a:ln cap="sq"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"/>
            <p:cNvGrpSpPr/>
            <p:nvPr/>
          </p:nvGrpSpPr>
          <p:grpSpPr>
            <a:xfrm>
              <a:off x="0" y="333360"/>
              <a:ext cx="9067680" cy="3449880"/>
              <a:chOff x="0" y="333360"/>
              <a:chExt cx="9067680" cy="3449880"/>
            </a:xfrm>
          </p:grpSpPr>
          <p:sp>
            <p:nvSpPr>
              <p:cNvPr id="571" name=""/>
              <p:cNvSpPr/>
              <p:nvPr/>
            </p:nvSpPr>
            <p:spPr>
              <a:xfrm>
                <a:off x="2222280" y="333360"/>
                <a:ext cx="6845400" cy="3449880"/>
              </a:xfrm>
              <a:custGeom>
                <a:avLst/>
                <a:gdLst/>
                <a:ahLst/>
                <a:rect l="l" t="t" r="r" b="b"/>
                <a:pathLst>
                  <a:path w="4312" h="2173">
                    <a:moveTo>
                      <a:pt x="120" y="1158"/>
                    </a:moveTo>
                    <a:cubicBezTo>
                      <a:pt x="123" y="1002"/>
                      <a:pt x="107" y="844"/>
                      <a:pt x="130" y="689"/>
                    </a:cubicBezTo>
                    <a:cubicBezTo>
                      <a:pt x="133" y="665"/>
                      <a:pt x="174" y="670"/>
                      <a:pt x="194" y="657"/>
                    </a:cubicBezTo>
                    <a:cubicBezTo>
                      <a:pt x="259" y="616"/>
                      <a:pt x="318" y="598"/>
                      <a:pt x="397" y="593"/>
                    </a:cubicBezTo>
                    <a:cubicBezTo>
                      <a:pt x="536" y="584"/>
                      <a:pt x="674" y="578"/>
                      <a:pt x="813" y="571"/>
                    </a:cubicBezTo>
                    <a:cubicBezTo>
                      <a:pt x="918" y="187"/>
                      <a:pt x="849" y="308"/>
                      <a:pt x="941" y="689"/>
                    </a:cubicBezTo>
                    <a:cubicBezTo>
                      <a:pt x="944" y="703"/>
                      <a:pt x="944" y="658"/>
                      <a:pt x="952" y="646"/>
                    </a:cubicBezTo>
                    <a:cubicBezTo>
                      <a:pt x="984" y="597"/>
                      <a:pt x="1010" y="540"/>
                      <a:pt x="1058" y="507"/>
                    </a:cubicBezTo>
                    <a:cubicBezTo>
                      <a:pt x="1094" y="483"/>
                      <a:pt x="1143" y="493"/>
                      <a:pt x="1186" y="486"/>
                    </a:cubicBezTo>
                    <a:cubicBezTo>
                      <a:pt x="1371" y="417"/>
                      <a:pt x="1539" y="352"/>
                      <a:pt x="1720" y="273"/>
                    </a:cubicBezTo>
                    <a:cubicBezTo>
                      <a:pt x="1775" y="249"/>
                      <a:pt x="1836" y="236"/>
                      <a:pt x="1890" y="209"/>
                    </a:cubicBezTo>
                    <a:cubicBezTo>
                      <a:pt x="2011" y="148"/>
                      <a:pt x="2072" y="65"/>
                      <a:pt x="2210" y="49"/>
                    </a:cubicBezTo>
                    <a:cubicBezTo>
                      <a:pt x="2231" y="42"/>
                      <a:pt x="2254" y="37"/>
                      <a:pt x="2274" y="27"/>
                    </a:cubicBezTo>
                    <a:cubicBezTo>
                      <a:pt x="2283" y="22"/>
                      <a:pt x="2288" y="0"/>
                      <a:pt x="2296" y="6"/>
                    </a:cubicBezTo>
                    <a:cubicBezTo>
                      <a:pt x="2308" y="14"/>
                      <a:pt x="2303" y="35"/>
                      <a:pt x="2306" y="49"/>
                    </a:cubicBezTo>
                    <a:cubicBezTo>
                      <a:pt x="2313" y="308"/>
                      <a:pt x="2317" y="568"/>
                      <a:pt x="2328" y="827"/>
                    </a:cubicBezTo>
                    <a:cubicBezTo>
                      <a:pt x="2328" y="838"/>
                      <a:pt x="2333" y="805"/>
                      <a:pt x="2338" y="795"/>
                    </a:cubicBezTo>
                    <a:cubicBezTo>
                      <a:pt x="2344" y="783"/>
                      <a:pt x="2353" y="774"/>
                      <a:pt x="2360" y="763"/>
                    </a:cubicBezTo>
                    <a:cubicBezTo>
                      <a:pt x="2391" y="896"/>
                      <a:pt x="2356" y="812"/>
                      <a:pt x="2626" y="699"/>
                    </a:cubicBezTo>
                    <a:cubicBezTo>
                      <a:pt x="2712" y="663"/>
                      <a:pt x="2811" y="692"/>
                      <a:pt x="2904" y="689"/>
                    </a:cubicBezTo>
                    <a:cubicBezTo>
                      <a:pt x="3053" y="710"/>
                      <a:pt x="3240" y="652"/>
                      <a:pt x="3352" y="753"/>
                    </a:cubicBezTo>
                    <a:cubicBezTo>
                      <a:pt x="3457" y="848"/>
                      <a:pt x="3320" y="1090"/>
                      <a:pt x="3437" y="1169"/>
                    </a:cubicBezTo>
                    <a:cubicBezTo>
                      <a:pt x="3520" y="1225"/>
                      <a:pt x="3579" y="1026"/>
                      <a:pt x="3650" y="955"/>
                    </a:cubicBezTo>
                    <a:cubicBezTo>
                      <a:pt x="3679" y="926"/>
                      <a:pt x="3736" y="870"/>
                      <a:pt x="3736" y="870"/>
                    </a:cubicBezTo>
                    <a:cubicBezTo>
                      <a:pt x="3770" y="970"/>
                      <a:pt x="3755" y="1254"/>
                      <a:pt x="3928" y="1169"/>
                    </a:cubicBezTo>
                    <a:cubicBezTo>
                      <a:pt x="3955" y="1156"/>
                      <a:pt x="3971" y="1126"/>
                      <a:pt x="3992" y="1105"/>
                    </a:cubicBezTo>
                    <a:cubicBezTo>
                      <a:pt x="4043" y="1531"/>
                      <a:pt x="3918" y="1654"/>
                      <a:pt x="4269" y="1745"/>
                    </a:cubicBezTo>
                    <a:cubicBezTo>
                      <a:pt x="4280" y="1777"/>
                      <a:pt x="4290" y="1809"/>
                      <a:pt x="4301" y="1841"/>
                    </a:cubicBezTo>
                    <a:cubicBezTo>
                      <a:pt x="4312" y="1874"/>
                      <a:pt x="4284" y="2029"/>
                      <a:pt x="4205" y="2033"/>
                    </a:cubicBezTo>
                    <a:cubicBezTo>
                      <a:pt x="3999" y="2043"/>
                      <a:pt x="3792" y="2044"/>
                      <a:pt x="3586" y="2054"/>
                    </a:cubicBezTo>
                    <a:cubicBezTo>
                      <a:pt x="3142" y="2076"/>
                      <a:pt x="2253" y="2129"/>
                      <a:pt x="2253" y="2129"/>
                    </a:cubicBezTo>
                    <a:cubicBezTo>
                      <a:pt x="2217" y="2125"/>
                      <a:pt x="2182" y="2118"/>
                      <a:pt x="2146" y="2118"/>
                    </a:cubicBezTo>
                    <a:cubicBezTo>
                      <a:pt x="2117" y="2118"/>
                      <a:pt x="2089" y="2135"/>
                      <a:pt x="2061" y="2129"/>
                    </a:cubicBezTo>
                    <a:cubicBezTo>
                      <a:pt x="1968" y="2110"/>
                      <a:pt x="1848" y="2044"/>
                      <a:pt x="1762" y="2001"/>
                    </a:cubicBezTo>
                    <a:cubicBezTo>
                      <a:pt x="1759" y="2012"/>
                      <a:pt x="1762" y="2027"/>
                      <a:pt x="1752" y="2033"/>
                    </a:cubicBezTo>
                    <a:cubicBezTo>
                      <a:pt x="1733" y="2044"/>
                      <a:pt x="1709" y="2040"/>
                      <a:pt x="1688" y="2043"/>
                    </a:cubicBezTo>
                    <a:cubicBezTo>
                      <a:pt x="1652" y="2047"/>
                      <a:pt x="1617" y="2050"/>
                      <a:pt x="1581" y="2054"/>
                    </a:cubicBezTo>
                    <a:cubicBezTo>
                      <a:pt x="1560" y="2047"/>
                      <a:pt x="1524" y="2054"/>
                      <a:pt x="1517" y="2033"/>
                    </a:cubicBezTo>
                    <a:cubicBezTo>
                      <a:pt x="1448" y="1807"/>
                      <a:pt x="1595" y="1770"/>
                      <a:pt x="1432" y="1841"/>
                    </a:cubicBezTo>
                    <a:cubicBezTo>
                      <a:pt x="1228" y="2045"/>
                      <a:pt x="1489" y="1803"/>
                      <a:pt x="1304" y="1926"/>
                    </a:cubicBezTo>
                    <a:cubicBezTo>
                      <a:pt x="1150" y="2028"/>
                      <a:pt x="1347" y="1969"/>
                      <a:pt x="1133" y="2011"/>
                    </a:cubicBezTo>
                    <a:cubicBezTo>
                      <a:pt x="809" y="2173"/>
                      <a:pt x="533" y="2087"/>
                      <a:pt x="141" y="2075"/>
                    </a:cubicBezTo>
                    <a:cubicBezTo>
                      <a:pt x="137" y="2050"/>
                      <a:pt x="133" y="2026"/>
                      <a:pt x="130" y="2001"/>
                    </a:cubicBezTo>
                    <a:cubicBezTo>
                      <a:pt x="126" y="1972"/>
                      <a:pt x="144" y="1931"/>
                      <a:pt x="120" y="1915"/>
                    </a:cubicBezTo>
                    <a:cubicBezTo>
                      <a:pt x="101" y="1902"/>
                      <a:pt x="105" y="1958"/>
                      <a:pt x="98" y="1979"/>
                    </a:cubicBezTo>
                    <a:cubicBezTo>
                      <a:pt x="0" y="1830"/>
                      <a:pt x="42" y="1665"/>
                      <a:pt x="141" y="1531"/>
                    </a:cubicBezTo>
                    <a:cubicBezTo>
                      <a:pt x="145" y="1510"/>
                      <a:pt x="145" y="1488"/>
                      <a:pt x="152" y="1467"/>
                    </a:cubicBezTo>
                    <a:cubicBezTo>
                      <a:pt x="156" y="1455"/>
                      <a:pt x="164" y="1426"/>
                      <a:pt x="173" y="1435"/>
                    </a:cubicBezTo>
                    <a:cubicBezTo>
                      <a:pt x="188" y="1450"/>
                      <a:pt x="180" y="1478"/>
                      <a:pt x="184" y="1499"/>
                    </a:cubicBezTo>
                    <a:cubicBezTo>
                      <a:pt x="121" y="1744"/>
                      <a:pt x="195" y="1474"/>
                      <a:pt x="152" y="934"/>
                    </a:cubicBezTo>
                    <a:cubicBezTo>
                      <a:pt x="149" y="896"/>
                      <a:pt x="109" y="1041"/>
                      <a:pt x="109" y="1041"/>
                    </a:cubicBezTo>
                  </a:path>
                </a:pathLst>
              </a:custGeom>
              <a:solidFill>
                <a:srgbClr val="ffffff">
                  <a:alpha val="75000"/>
                </a:srgbClr>
              </a:solidFill>
              <a:ln cap="sq" w="0">
                <a:solidFill>
                  <a:srgbClr val="ffffff"/>
                </a:solidFill>
              </a:ln>
              <a:effectLst>
                <a:outerShdw dist="17819" dir="2700000" blurRad="0" rotWithShape="0">
                  <a:srgbClr val="9898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932040"/>
                <a:ext cx="1676160" cy="201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3" name=""/>
              <p:cNvSpPr/>
              <p:nvPr/>
            </p:nvSpPr>
            <p:spPr>
              <a:xfrm>
                <a:off x="228600" y="2913120"/>
                <a:ext cx="137160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db3827"/>
                    </a:solidFill>
                    <a:latin typeface="Times New Roman"/>
                  </a:rPr>
                  <a:t>Zhu Li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4" name="" descr=""/>
            <p:cNvPicPr/>
            <p:nvPr/>
          </p:nvPicPr>
          <p:blipFill>
            <a:blip r:embed="rId3"/>
            <a:stretch/>
          </p:blipFill>
          <p:spPr>
            <a:xfrm>
              <a:off x="7238880" y="3979800"/>
              <a:ext cx="16765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7162560" y="5732640"/>
              <a:ext cx="19814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Chen Y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2514600" y="1557360"/>
            <a:ext cx="66294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80880" y="228600"/>
            <a:ext cx="815364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566768"/>
                    </a:gs>
                    <a:gs pos="5000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6f8587"/>
                  </a:outerShdw>
                </a:effectLst>
                <a:latin typeface="Comic Sans MS"/>
              </a:rPr>
              <a:t>Q: How do you decide what you are going to write?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566768"/>
                  </a:gs>
                  <a:gs pos="5000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53753" dir="2700000" blurRad="0" rotWithShape="0">
                  <a:srgbClr val="6f8587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066680" y="4191120"/>
            <a:ext cx="640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ch is done before startin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gins by contacting people, then prepares questions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viewing is difficult…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 the interview, … present … ref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340000" y="170028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fore writing…discuss with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long &amp; important ones, the editor will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editor’s job is to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257040" y="304920"/>
            <a:ext cx="88869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6f8587"/>
                  </a:outerShdw>
                </a:effectLst>
                <a:latin typeface="Comic Sans MS"/>
              </a:rPr>
              <a:t>which of the articles do you like best 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6f8587"/>
                </a:outerShdw>
              </a:effectLst>
              <a:latin typeface="Comic Sans MS"/>
              <a:ea typeface="Comic Sans MS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0" y="1197000"/>
            <a:ext cx="9144000" cy="5661000"/>
            <a:chOff x="0" y="1197000"/>
            <a:chExt cx="9144000" cy="5661000"/>
          </a:xfrm>
        </p:grpSpPr>
        <p:pic>
          <p:nvPicPr>
            <p:cNvPr id="582" name="" descr=""/>
            <p:cNvPicPr/>
            <p:nvPr/>
          </p:nvPicPr>
          <p:blipFill>
            <a:blip r:embed="rId1"/>
            <a:stretch/>
          </p:blipFill>
          <p:spPr>
            <a:xfrm>
              <a:off x="228600" y="4495680"/>
              <a:ext cx="12952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0" y="6095880"/>
              <a:ext cx="137160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Zhu L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395280" y="1197000"/>
              <a:ext cx="8748720" cy="2665440"/>
              <a:chOff x="395280" y="1197000"/>
              <a:chExt cx="8748720" cy="2665440"/>
            </a:xfrm>
          </p:grpSpPr>
          <p:pic>
            <p:nvPicPr>
              <p:cNvPr id="58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238880" y="1219320"/>
                <a:ext cx="1295640" cy="12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6" name=""/>
              <p:cNvSpPr/>
              <p:nvPr/>
            </p:nvSpPr>
            <p:spPr>
              <a:xfrm>
                <a:off x="7162920" y="2362320"/>
                <a:ext cx="1981080" cy="4597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db3827"/>
                    </a:solidFill>
                    <a:latin typeface="Times New Roman"/>
                  </a:rPr>
                  <a:t>Chen Y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95280" y="1197000"/>
                <a:ext cx="6121440" cy="2665440"/>
              </a:xfrm>
              <a:prstGeom prst="flowChartPunchedTap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"/>
            <p:cNvSpPr/>
            <p:nvPr/>
          </p:nvSpPr>
          <p:spPr>
            <a:xfrm>
              <a:off x="2411280" y="4149720"/>
              <a:ext cx="6048360" cy="2708280"/>
            </a:xfrm>
            <a:prstGeom prst="flowChartPunchedTape">
              <a:avLst/>
            </a:prstGeom>
            <a:solidFill>
              <a:srgbClr val="99cc00">
                <a:alpha val="3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2771640" y="4508640"/>
            <a:ext cx="56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en though…, …about an ordinary  young woman who… adapt to…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ause …with real passion; realize…u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68360" y="1484280"/>
            <a:ext cx="59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ut the effor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act …museum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view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cause …news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＆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619280" y="3860640"/>
            <a:ext cx="1008000" cy="10083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5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"/>
          <p:cNvGrpSpPr/>
          <p:nvPr/>
        </p:nvGrpSpPr>
        <p:grpSpPr>
          <a:xfrm>
            <a:off x="611280" y="3645000"/>
            <a:ext cx="7762320" cy="2621880"/>
            <a:chOff x="611280" y="3645000"/>
            <a:chExt cx="7762320" cy="2621880"/>
          </a:xfrm>
        </p:grpSpPr>
        <p:sp>
          <p:nvSpPr>
            <p:cNvPr id="593" name=""/>
            <p:cNvSpPr/>
            <p:nvPr/>
          </p:nvSpPr>
          <p:spPr>
            <a:xfrm>
              <a:off x="611280" y="5807160"/>
              <a:ext cx="137124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Zhu Li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4" name="" descr=""/>
            <p:cNvPicPr/>
            <p:nvPr/>
          </p:nvPicPr>
          <p:blipFill>
            <a:blip r:embed="rId1"/>
            <a:stretch/>
          </p:blipFill>
          <p:spPr>
            <a:xfrm>
              <a:off x="1006200" y="4064040"/>
              <a:ext cx="129492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3693960" y="3645000"/>
              <a:ext cx="4679640" cy="2455920"/>
            </a:xfrm>
            <a:custGeom>
              <a:avLst/>
              <a:gdLst/>
              <a:ahLst/>
              <a:rect l="l" t="t" r="r" b="b"/>
              <a:pathLst>
                <a:path w="4210" h="1910">
                  <a:moveTo>
                    <a:pt x="430" y="448"/>
                  </a:moveTo>
                  <a:cubicBezTo>
                    <a:pt x="474" y="332"/>
                    <a:pt x="467" y="287"/>
                    <a:pt x="600" y="235"/>
                  </a:cubicBezTo>
                  <a:cubicBezTo>
                    <a:pt x="627" y="224"/>
                    <a:pt x="657" y="228"/>
                    <a:pt x="686" y="224"/>
                  </a:cubicBezTo>
                  <a:cubicBezTo>
                    <a:pt x="714" y="203"/>
                    <a:pt x="737" y="170"/>
                    <a:pt x="771" y="160"/>
                  </a:cubicBezTo>
                  <a:cubicBezTo>
                    <a:pt x="826" y="144"/>
                    <a:pt x="885" y="154"/>
                    <a:pt x="942" y="150"/>
                  </a:cubicBezTo>
                  <a:cubicBezTo>
                    <a:pt x="1056" y="143"/>
                    <a:pt x="1169" y="135"/>
                    <a:pt x="1283" y="128"/>
                  </a:cubicBezTo>
                  <a:cubicBezTo>
                    <a:pt x="1522" y="76"/>
                    <a:pt x="1246" y="121"/>
                    <a:pt x="1464" y="128"/>
                  </a:cubicBezTo>
                  <a:cubicBezTo>
                    <a:pt x="1557" y="131"/>
                    <a:pt x="1649" y="121"/>
                    <a:pt x="1742" y="118"/>
                  </a:cubicBezTo>
                  <a:cubicBezTo>
                    <a:pt x="1991" y="100"/>
                    <a:pt x="2241" y="63"/>
                    <a:pt x="2488" y="107"/>
                  </a:cubicBezTo>
                  <a:cubicBezTo>
                    <a:pt x="2727" y="90"/>
                    <a:pt x="2758" y="136"/>
                    <a:pt x="2894" y="0"/>
                  </a:cubicBezTo>
                  <a:cubicBezTo>
                    <a:pt x="2931" y="123"/>
                    <a:pt x="2955" y="240"/>
                    <a:pt x="3011" y="352"/>
                  </a:cubicBezTo>
                  <a:cubicBezTo>
                    <a:pt x="3001" y="410"/>
                    <a:pt x="2979" y="505"/>
                    <a:pt x="3011" y="555"/>
                  </a:cubicBezTo>
                  <a:cubicBezTo>
                    <a:pt x="3023" y="574"/>
                    <a:pt x="3054" y="541"/>
                    <a:pt x="3075" y="534"/>
                  </a:cubicBezTo>
                  <a:cubicBezTo>
                    <a:pt x="3170" y="993"/>
                    <a:pt x="3223" y="799"/>
                    <a:pt x="3811" y="790"/>
                  </a:cubicBezTo>
                  <a:cubicBezTo>
                    <a:pt x="3849" y="750"/>
                    <a:pt x="3818" y="769"/>
                    <a:pt x="3854" y="811"/>
                  </a:cubicBezTo>
                  <a:cubicBezTo>
                    <a:pt x="3862" y="821"/>
                    <a:pt x="3875" y="825"/>
                    <a:pt x="3886" y="832"/>
                  </a:cubicBezTo>
                  <a:cubicBezTo>
                    <a:pt x="3900" y="924"/>
                    <a:pt x="3884" y="1023"/>
                    <a:pt x="3918" y="1110"/>
                  </a:cubicBezTo>
                  <a:cubicBezTo>
                    <a:pt x="3931" y="1143"/>
                    <a:pt x="3979" y="1148"/>
                    <a:pt x="4003" y="1174"/>
                  </a:cubicBezTo>
                  <a:cubicBezTo>
                    <a:pt x="4095" y="1276"/>
                    <a:pt x="4116" y="1335"/>
                    <a:pt x="4174" y="1451"/>
                  </a:cubicBezTo>
                  <a:cubicBezTo>
                    <a:pt x="4177" y="1501"/>
                    <a:pt x="4210" y="1558"/>
                    <a:pt x="4184" y="1600"/>
                  </a:cubicBezTo>
                  <a:cubicBezTo>
                    <a:pt x="4167" y="1627"/>
                    <a:pt x="4037" y="1646"/>
                    <a:pt x="3992" y="1654"/>
                  </a:cubicBezTo>
                  <a:cubicBezTo>
                    <a:pt x="3985" y="1677"/>
                    <a:pt x="3966" y="1695"/>
                    <a:pt x="3960" y="1718"/>
                  </a:cubicBezTo>
                  <a:cubicBezTo>
                    <a:pt x="3948" y="1767"/>
                    <a:pt x="3964" y="1823"/>
                    <a:pt x="3939" y="1867"/>
                  </a:cubicBezTo>
                  <a:cubicBezTo>
                    <a:pt x="3921" y="1899"/>
                    <a:pt x="3869" y="1896"/>
                    <a:pt x="3832" y="1899"/>
                  </a:cubicBezTo>
                  <a:cubicBezTo>
                    <a:pt x="3740" y="1906"/>
                    <a:pt x="3647" y="1906"/>
                    <a:pt x="3555" y="1910"/>
                  </a:cubicBezTo>
                  <a:cubicBezTo>
                    <a:pt x="3218" y="1899"/>
                    <a:pt x="2966" y="1909"/>
                    <a:pt x="2659" y="1856"/>
                  </a:cubicBezTo>
                  <a:cubicBezTo>
                    <a:pt x="2424" y="1679"/>
                    <a:pt x="2435" y="1728"/>
                    <a:pt x="2083" y="1739"/>
                  </a:cubicBezTo>
                  <a:cubicBezTo>
                    <a:pt x="1665" y="1793"/>
                    <a:pt x="2477" y="1691"/>
                    <a:pt x="1123" y="1760"/>
                  </a:cubicBezTo>
                  <a:cubicBezTo>
                    <a:pt x="1064" y="1763"/>
                    <a:pt x="952" y="1803"/>
                    <a:pt x="952" y="1803"/>
                  </a:cubicBezTo>
                  <a:cubicBezTo>
                    <a:pt x="938" y="1817"/>
                    <a:pt x="928" y="1837"/>
                    <a:pt x="910" y="1846"/>
                  </a:cubicBezTo>
                  <a:cubicBezTo>
                    <a:pt x="861" y="1870"/>
                    <a:pt x="707" y="1872"/>
                    <a:pt x="654" y="1878"/>
                  </a:cubicBezTo>
                  <a:cubicBezTo>
                    <a:pt x="561" y="1849"/>
                    <a:pt x="469" y="1819"/>
                    <a:pt x="376" y="1792"/>
                  </a:cubicBezTo>
                  <a:cubicBezTo>
                    <a:pt x="348" y="1784"/>
                    <a:pt x="300" y="1799"/>
                    <a:pt x="291" y="1771"/>
                  </a:cubicBezTo>
                  <a:cubicBezTo>
                    <a:pt x="72" y="1071"/>
                    <a:pt x="396" y="1140"/>
                    <a:pt x="78" y="1099"/>
                  </a:cubicBezTo>
                  <a:cubicBezTo>
                    <a:pt x="154" y="551"/>
                    <a:pt x="0" y="682"/>
                    <a:pt x="291" y="608"/>
                  </a:cubicBezTo>
                  <a:cubicBezTo>
                    <a:pt x="326" y="574"/>
                    <a:pt x="356" y="550"/>
                    <a:pt x="376" y="502"/>
                  </a:cubicBezTo>
                  <a:cubicBezTo>
                    <a:pt x="383" y="484"/>
                    <a:pt x="385" y="462"/>
                    <a:pt x="398" y="448"/>
                  </a:cubicBezTo>
                  <a:cubicBezTo>
                    <a:pt x="415" y="429"/>
                    <a:pt x="438" y="416"/>
                    <a:pt x="462" y="406"/>
                  </a:cubicBezTo>
                  <a:cubicBezTo>
                    <a:pt x="482" y="398"/>
                    <a:pt x="516" y="414"/>
                    <a:pt x="526" y="395"/>
                  </a:cubicBezTo>
                  <a:cubicBezTo>
                    <a:pt x="543" y="364"/>
                    <a:pt x="526" y="324"/>
                    <a:pt x="526" y="288"/>
                  </a:cubicBezTo>
                </a:path>
              </a:pathLst>
            </a:custGeom>
            <a:blipFill rotWithShape="0">
              <a:blip r:embed="rId2">
                <a:alphaModFix amt="0"/>
              </a:blip>
              <a:srcRect/>
              <a:stretch/>
            </a:blipFill>
            <a:ln cap="sq" w="57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1116000" y="404640"/>
            <a:ext cx="8028000" cy="3313440"/>
            <a:chOff x="1116000" y="404640"/>
            <a:chExt cx="8028000" cy="3313440"/>
          </a:xfrm>
        </p:grpSpPr>
        <p:sp>
          <p:nvSpPr>
            <p:cNvPr id="597" name=""/>
            <p:cNvSpPr/>
            <p:nvPr/>
          </p:nvSpPr>
          <p:spPr>
            <a:xfrm>
              <a:off x="7162920" y="2362320"/>
              <a:ext cx="19810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db3827"/>
                  </a:solidFill>
                  <a:latin typeface="Times New Roman"/>
                </a:rPr>
                <a:t>Chen Y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8" name="" descr=""/>
            <p:cNvPicPr/>
            <p:nvPr/>
          </p:nvPicPr>
          <p:blipFill>
            <a:blip r:embed="rId3"/>
            <a:stretch/>
          </p:blipFill>
          <p:spPr>
            <a:xfrm>
              <a:off x="7238880" y="1219320"/>
              <a:ext cx="12956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1116000" y="404640"/>
              <a:ext cx="5040360" cy="3313440"/>
            </a:xfrm>
            <a:custGeom>
              <a:avLst/>
              <a:gdLst/>
              <a:ahLst/>
              <a:rect l="l" t="t" r="r" b="b"/>
              <a:pathLst>
                <a:path w="4312" h="2173">
                  <a:moveTo>
                    <a:pt x="120" y="1158"/>
                  </a:moveTo>
                  <a:cubicBezTo>
                    <a:pt x="123" y="1002"/>
                    <a:pt x="107" y="844"/>
                    <a:pt x="130" y="689"/>
                  </a:cubicBezTo>
                  <a:cubicBezTo>
                    <a:pt x="133" y="665"/>
                    <a:pt x="174" y="670"/>
                    <a:pt x="194" y="657"/>
                  </a:cubicBezTo>
                  <a:cubicBezTo>
                    <a:pt x="259" y="616"/>
                    <a:pt x="318" y="598"/>
                    <a:pt x="397" y="593"/>
                  </a:cubicBezTo>
                  <a:cubicBezTo>
                    <a:pt x="536" y="584"/>
                    <a:pt x="674" y="578"/>
                    <a:pt x="813" y="571"/>
                  </a:cubicBezTo>
                  <a:cubicBezTo>
                    <a:pt x="918" y="187"/>
                    <a:pt x="849" y="308"/>
                    <a:pt x="941" y="689"/>
                  </a:cubicBezTo>
                  <a:cubicBezTo>
                    <a:pt x="944" y="703"/>
                    <a:pt x="944" y="658"/>
                    <a:pt x="952" y="646"/>
                  </a:cubicBezTo>
                  <a:cubicBezTo>
                    <a:pt x="984" y="597"/>
                    <a:pt x="1010" y="540"/>
                    <a:pt x="1058" y="507"/>
                  </a:cubicBezTo>
                  <a:cubicBezTo>
                    <a:pt x="1094" y="483"/>
                    <a:pt x="1143" y="493"/>
                    <a:pt x="1186" y="486"/>
                  </a:cubicBezTo>
                  <a:cubicBezTo>
                    <a:pt x="1371" y="417"/>
                    <a:pt x="1539" y="352"/>
                    <a:pt x="1720" y="273"/>
                  </a:cubicBezTo>
                  <a:cubicBezTo>
                    <a:pt x="1775" y="249"/>
                    <a:pt x="1836" y="236"/>
                    <a:pt x="1890" y="209"/>
                  </a:cubicBezTo>
                  <a:cubicBezTo>
                    <a:pt x="2011" y="148"/>
                    <a:pt x="2072" y="65"/>
                    <a:pt x="2210" y="49"/>
                  </a:cubicBezTo>
                  <a:cubicBezTo>
                    <a:pt x="2231" y="42"/>
                    <a:pt x="2254" y="37"/>
                    <a:pt x="2274" y="27"/>
                  </a:cubicBezTo>
                  <a:cubicBezTo>
                    <a:pt x="2283" y="22"/>
                    <a:pt x="2288" y="0"/>
                    <a:pt x="2296" y="6"/>
                  </a:cubicBezTo>
                  <a:cubicBezTo>
                    <a:pt x="2308" y="14"/>
                    <a:pt x="2303" y="35"/>
                    <a:pt x="2306" y="49"/>
                  </a:cubicBezTo>
                  <a:cubicBezTo>
                    <a:pt x="2313" y="308"/>
                    <a:pt x="2317" y="568"/>
                    <a:pt x="2328" y="827"/>
                  </a:cubicBezTo>
                  <a:cubicBezTo>
                    <a:pt x="2328" y="838"/>
                    <a:pt x="2333" y="805"/>
                    <a:pt x="2338" y="795"/>
                  </a:cubicBezTo>
                  <a:cubicBezTo>
                    <a:pt x="2344" y="783"/>
                    <a:pt x="2353" y="774"/>
                    <a:pt x="2360" y="763"/>
                  </a:cubicBezTo>
                  <a:cubicBezTo>
                    <a:pt x="2391" y="896"/>
                    <a:pt x="2356" y="812"/>
                    <a:pt x="2626" y="699"/>
                  </a:cubicBezTo>
                  <a:cubicBezTo>
                    <a:pt x="2712" y="663"/>
                    <a:pt x="2811" y="692"/>
                    <a:pt x="2904" y="689"/>
                  </a:cubicBezTo>
                  <a:cubicBezTo>
                    <a:pt x="3053" y="710"/>
                    <a:pt x="3240" y="652"/>
                    <a:pt x="3352" y="753"/>
                  </a:cubicBezTo>
                  <a:cubicBezTo>
                    <a:pt x="3457" y="848"/>
                    <a:pt x="3320" y="1090"/>
                    <a:pt x="3437" y="1169"/>
                  </a:cubicBezTo>
                  <a:cubicBezTo>
                    <a:pt x="3520" y="1225"/>
                    <a:pt x="3579" y="1026"/>
                    <a:pt x="3650" y="955"/>
                  </a:cubicBezTo>
                  <a:cubicBezTo>
                    <a:pt x="3679" y="926"/>
                    <a:pt x="3736" y="870"/>
                    <a:pt x="3736" y="870"/>
                  </a:cubicBezTo>
                  <a:cubicBezTo>
                    <a:pt x="3770" y="970"/>
                    <a:pt x="3755" y="1254"/>
                    <a:pt x="3928" y="1169"/>
                  </a:cubicBezTo>
                  <a:cubicBezTo>
                    <a:pt x="3955" y="1156"/>
                    <a:pt x="3971" y="1126"/>
                    <a:pt x="3992" y="1105"/>
                  </a:cubicBezTo>
                  <a:cubicBezTo>
                    <a:pt x="4043" y="1531"/>
                    <a:pt x="3918" y="1654"/>
                    <a:pt x="4269" y="1745"/>
                  </a:cubicBezTo>
                  <a:cubicBezTo>
                    <a:pt x="4280" y="1777"/>
                    <a:pt x="4290" y="1809"/>
                    <a:pt x="4301" y="1841"/>
                  </a:cubicBezTo>
                  <a:cubicBezTo>
                    <a:pt x="4312" y="1874"/>
                    <a:pt x="4284" y="2029"/>
                    <a:pt x="4205" y="2033"/>
                  </a:cubicBezTo>
                  <a:cubicBezTo>
                    <a:pt x="3999" y="2043"/>
                    <a:pt x="3792" y="2044"/>
                    <a:pt x="3586" y="2054"/>
                  </a:cubicBezTo>
                  <a:cubicBezTo>
                    <a:pt x="3142" y="2076"/>
                    <a:pt x="2253" y="2129"/>
                    <a:pt x="2253" y="2129"/>
                  </a:cubicBezTo>
                  <a:cubicBezTo>
                    <a:pt x="2217" y="2125"/>
                    <a:pt x="2182" y="2118"/>
                    <a:pt x="2146" y="2118"/>
                  </a:cubicBezTo>
                  <a:cubicBezTo>
                    <a:pt x="2117" y="2118"/>
                    <a:pt x="2089" y="2135"/>
                    <a:pt x="2061" y="2129"/>
                  </a:cubicBezTo>
                  <a:cubicBezTo>
                    <a:pt x="1968" y="2110"/>
                    <a:pt x="1848" y="2044"/>
                    <a:pt x="1762" y="2001"/>
                  </a:cubicBezTo>
                  <a:cubicBezTo>
                    <a:pt x="1759" y="2012"/>
                    <a:pt x="1762" y="2027"/>
                    <a:pt x="1752" y="2033"/>
                  </a:cubicBezTo>
                  <a:cubicBezTo>
                    <a:pt x="1733" y="2044"/>
                    <a:pt x="1709" y="2040"/>
                    <a:pt x="1688" y="2043"/>
                  </a:cubicBezTo>
                  <a:cubicBezTo>
                    <a:pt x="1652" y="2047"/>
                    <a:pt x="1617" y="2050"/>
                    <a:pt x="1581" y="2054"/>
                  </a:cubicBezTo>
                  <a:cubicBezTo>
                    <a:pt x="1560" y="2047"/>
                    <a:pt x="1524" y="2054"/>
                    <a:pt x="1517" y="2033"/>
                  </a:cubicBezTo>
                  <a:cubicBezTo>
                    <a:pt x="1448" y="1807"/>
                    <a:pt x="1595" y="1770"/>
                    <a:pt x="1432" y="1841"/>
                  </a:cubicBezTo>
                  <a:cubicBezTo>
                    <a:pt x="1228" y="2045"/>
                    <a:pt x="1489" y="1803"/>
                    <a:pt x="1304" y="1926"/>
                  </a:cubicBezTo>
                  <a:cubicBezTo>
                    <a:pt x="1150" y="2028"/>
                    <a:pt x="1347" y="1969"/>
                    <a:pt x="1133" y="2011"/>
                  </a:cubicBezTo>
                  <a:cubicBezTo>
                    <a:pt x="809" y="2173"/>
                    <a:pt x="533" y="2087"/>
                    <a:pt x="141" y="2075"/>
                  </a:cubicBezTo>
                  <a:cubicBezTo>
                    <a:pt x="137" y="2050"/>
                    <a:pt x="133" y="2026"/>
                    <a:pt x="130" y="2001"/>
                  </a:cubicBezTo>
                  <a:cubicBezTo>
                    <a:pt x="126" y="1972"/>
                    <a:pt x="144" y="1931"/>
                    <a:pt x="120" y="1915"/>
                  </a:cubicBezTo>
                  <a:cubicBezTo>
                    <a:pt x="101" y="1902"/>
                    <a:pt x="105" y="1958"/>
                    <a:pt x="98" y="1979"/>
                  </a:cubicBezTo>
                  <a:cubicBezTo>
                    <a:pt x="0" y="1830"/>
                    <a:pt x="42" y="1665"/>
                    <a:pt x="141" y="1531"/>
                  </a:cubicBezTo>
                  <a:cubicBezTo>
                    <a:pt x="145" y="1510"/>
                    <a:pt x="145" y="1488"/>
                    <a:pt x="152" y="1467"/>
                  </a:cubicBezTo>
                  <a:cubicBezTo>
                    <a:pt x="156" y="1455"/>
                    <a:pt x="164" y="1426"/>
                    <a:pt x="173" y="1435"/>
                  </a:cubicBezTo>
                  <a:cubicBezTo>
                    <a:pt x="188" y="1450"/>
                    <a:pt x="180" y="1478"/>
                    <a:pt x="184" y="1499"/>
                  </a:cubicBezTo>
                  <a:cubicBezTo>
                    <a:pt x="121" y="1744"/>
                    <a:pt x="195" y="1474"/>
                    <a:pt x="152" y="934"/>
                  </a:cubicBezTo>
                  <a:cubicBezTo>
                    <a:pt x="149" y="896"/>
                    <a:pt x="109" y="1041"/>
                    <a:pt x="109" y="1041"/>
                  </a:cubicBezTo>
                </a:path>
              </a:pathLst>
            </a:custGeom>
            <a:solidFill>
              <a:srgbClr val="ffffff">
                <a:alpha val="75000"/>
              </a:srgbClr>
            </a:solidFill>
            <a:ln cap="sq" w="0">
              <a:solidFill>
                <a:srgbClr val="ffffff"/>
              </a:solidFill>
            </a:ln>
            <a:effectLst>
              <a:outerShdw dist="17819" dir="2700000" blurRad="0" rotWithShape="0">
                <a:srgbClr val="98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0" name=""/>
          <p:cNvSpPr txBox="1"/>
          <p:nvPr/>
        </p:nvSpPr>
        <p:spPr>
          <a:xfrm>
            <a:off x="257040" y="304920"/>
            <a:ext cx="888696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6f8587"/>
                  </a:outerShdw>
                </a:effectLst>
                <a:latin typeface="Comic Sans MS"/>
              </a:rPr>
              <a:t>what would you write about and why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6f8587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01" name=""/>
          <p:cNvSpPr/>
          <p:nvPr/>
        </p:nvSpPr>
        <p:spPr>
          <a:xfrm>
            <a:off x="4211640" y="4365720"/>
            <a:ext cx="331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ut people you seldom read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619280" y="191628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sic, art, nature and the importance of spiritual fulfill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00199999988079071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21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42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"/>
          <p:cNvGrpSpPr/>
          <p:nvPr/>
        </p:nvGrpSpPr>
        <p:grpSpPr>
          <a:xfrm>
            <a:off x="380880" y="2133720"/>
            <a:ext cx="8763120" cy="4724280"/>
            <a:chOff x="380880" y="2133720"/>
            <a:chExt cx="8763120" cy="4724280"/>
          </a:xfrm>
        </p:grpSpPr>
        <p:sp>
          <p:nvSpPr>
            <p:cNvPr id="604" name=""/>
            <p:cNvSpPr/>
            <p:nvPr/>
          </p:nvSpPr>
          <p:spPr>
            <a:xfrm>
              <a:off x="3352680" y="2666880"/>
              <a:ext cx="2743200" cy="198144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noFill/>
            <a:ln w="25560">
              <a:solidFill>
                <a:srgbClr val="00ff00"/>
              </a:solidFill>
              <a:miter/>
            </a:ln>
            <a:effectLst>
              <a:outerShdw dist="17819" dir="2700000" blurRad="0" rotWithShape="0">
                <a:srgbClr val="c0c0c0">
                  <a:alpha val="8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About Iraq, I think…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380880" y="2133720"/>
              <a:ext cx="8763120" cy="4724280"/>
              <a:chOff x="380880" y="2133720"/>
              <a:chExt cx="8763120" cy="4724280"/>
            </a:xfrm>
          </p:grpSpPr>
          <p:pic>
            <p:nvPicPr>
              <p:cNvPr id="60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2209680"/>
                <a:ext cx="2714760" cy="4077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213600" y="2133720"/>
                <a:ext cx="2930400" cy="472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8" name=""/>
              <p:cNvSpPr/>
              <p:nvPr/>
            </p:nvSpPr>
            <p:spPr>
              <a:xfrm>
                <a:off x="3352680" y="2666880"/>
                <a:ext cx="2743200" cy="1981440"/>
              </a:xfrm>
              <a:prstGeom prst="wedgeRoundRectCallout">
                <a:avLst>
                  <a:gd name="adj1" fmla="val 50925"/>
                  <a:gd name="adj2" fmla="val 72194"/>
                  <a:gd name="adj3" fmla="val 16667"/>
                </a:avLst>
              </a:prstGeom>
              <a:noFill/>
              <a:ln w="25560">
                <a:solidFill>
                  <a:srgbClr val="00ff00"/>
                </a:solidFill>
                <a:miter/>
              </a:ln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ff"/>
                    </a:solidFill>
                    <a:latin typeface="Arial"/>
                  </a:rPr>
                  <a:t>About Iraq, I think…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09" name=""/>
          <p:cNvSpPr/>
          <p:nvPr/>
        </p:nvSpPr>
        <p:spPr>
          <a:xfrm>
            <a:off x="1619280" y="981000"/>
            <a:ext cx="70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a film or sports star is asked to comment on a “hot topic”, do their opinions mat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79280" y="0"/>
            <a:ext cx="3538800" cy="108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iscuss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3365640" cy="403848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"/>
          <a:stretch/>
        </p:blipFill>
        <p:spPr>
          <a:xfrm>
            <a:off x="5076720" y="2492280"/>
            <a:ext cx="3429000" cy="388620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 txBox="1"/>
          <p:nvPr/>
        </p:nvSpPr>
        <p:spPr>
          <a:xfrm>
            <a:off x="826920" y="404640"/>
            <a:ext cx="685800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integrating skills</a:t>
            </a:r>
            <a:endParaRPr b="1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514600" y="2286000"/>
            <a:ext cx="3809880" cy="2362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d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57200" y="373392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di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666880" y="9907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ur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5280" y="5105520"/>
            <a:ext cx="33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V program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63868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ebs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076720" y="62064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st/host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781680" y="24922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i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85800" y="167652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ad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0400" y="6019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gaz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705720" y="42670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spap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535640" y="170028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viewer/interview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162920" y="350532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3429000" y="3147840"/>
            <a:ext cx="2286000" cy="5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news &amp; media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419640" y="328464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宋体"/>
              </a:rPr>
              <a:t>news medi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9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1" dur="2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3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2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 txBox="1"/>
          <p:nvPr/>
        </p:nvSpPr>
        <p:spPr>
          <a:xfrm>
            <a:off x="228600" y="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ad and discus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15" name=""/>
          <p:cNvSpPr/>
          <p:nvPr/>
        </p:nvSpPr>
        <p:spPr>
          <a:xfrm>
            <a:off x="152280" y="1012680"/>
            <a:ext cx="8839440" cy="443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Arial"/>
              </a:rPr>
              <a:t>Read the two reports carefully and discuss these question with your partn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ow are the reports diff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o do you think wrote each rep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do you think are facts and what are opin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would be a good headline for each s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What pictures would you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1"/>
          <a:stretch/>
        </p:blipFill>
        <p:spPr>
          <a:xfrm>
            <a:off x="4800600" y="5638680"/>
            <a:ext cx="4343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800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228600" y="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ad and discus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18" name=""/>
          <p:cNvSpPr/>
          <p:nvPr/>
        </p:nvSpPr>
        <p:spPr>
          <a:xfrm>
            <a:off x="152280" y="1012680"/>
            <a:ext cx="88394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1"/>
          <a:stretch/>
        </p:blipFill>
        <p:spPr>
          <a:xfrm>
            <a:off x="4800600" y="5638680"/>
            <a:ext cx="43434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0" name=""/>
          <p:cNvGraphicFramePr/>
          <p:nvPr/>
        </p:nvGraphicFramePr>
        <p:xfrm>
          <a:off x="69840" y="533520"/>
          <a:ext cx="9074160" cy="5200560"/>
        </p:xfrm>
        <a:graphic>
          <a:graphicData uri="http://schemas.openxmlformats.org/drawingml/2006/table">
            <a:tbl>
              <a:tblPr/>
              <a:tblGrid>
                <a:gridCol w="6939000"/>
                <a:gridCol w="213516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 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small group of fewer than a hundred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ed problem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 successful company”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rude and noisy group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 it difficult for workers” “troublemakers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ft peacefully … but a few of them fought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2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 txBox="1"/>
          <p:nvPr/>
        </p:nvSpPr>
        <p:spPr>
          <a:xfrm>
            <a:off x="228600" y="0"/>
            <a:ext cx="3124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ad and discus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22" name=""/>
          <p:cNvSpPr/>
          <p:nvPr/>
        </p:nvSpPr>
        <p:spPr>
          <a:xfrm>
            <a:off x="152280" y="1012680"/>
            <a:ext cx="88394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3" name=""/>
          <p:cNvGraphicFramePr/>
          <p:nvPr/>
        </p:nvGraphicFramePr>
        <p:xfrm>
          <a:off x="0" y="685800"/>
          <a:ext cx="8964720" cy="5200560"/>
        </p:xfrm>
        <a:graphic>
          <a:graphicData uri="http://schemas.openxmlformats.org/drawingml/2006/table">
            <a:tbl>
              <a:tblPr/>
              <a:tblGrid>
                <a:gridCol w="2111400"/>
                <a:gridCol w="685332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descrip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than ninety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ing citizens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 their voices heard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ity’s worst polluter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itizens … love nature and our planet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lked to workers …a positive message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st”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ry men armed with sticks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304920" y="89532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 (to) the sou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62120" y="1809720"/>
            <a:ext cx="8381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be faced with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面临；面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face up to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面对；承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face the music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接受（不愉快的后果或情况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09480" y="1962000"/>
            <a:ext cx="152640" cy="152424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62120" y="4476600"/>
            <a:ext cx="86104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was faced with a new probl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couldn’t face up to the f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boy was caught cheating in the examination and had to face the mus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267080" y="895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面对南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09480" y="3867120"/>
            <a:ext cx="10670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228600" y="152280"/>
            <a:ext cx="6172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Language points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6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6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6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5" dur="500"/>
                                        <p:tgtEl>
                                          <p:spTgt spid="6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0" dur="500"/>
                                        <p:tgtEl>
                                          <p:spTgt spid="6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6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228600" y="304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. Injure Vt.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使）受伤，损害，伤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066680" y="1905120"/>
            <a:ext cx="746784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arthquake killed 2000 people and injured 3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got badly injured in the acc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injured were taken to hospit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hope I didn’t injure her feel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 refusal injured his pr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533520" y="1143000"/>
            <a:ext cx="10666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6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6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6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457200" y="304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more t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0"/>
            <a:ext cx="6324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不仅仅；不只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（常与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simply, just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一起用加强语气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533520" y="11430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37" name=""/>
          <p:cNvSpPr/>
          <p:nvPr/>
        </p:nvSpPr>
        <p:spPr>
          <a:xfrm>
            <a:off x="1447920" y="1981080"/>
            <a:ext cx="708660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ibrary is more than just a place where books are sto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were more than 100 people at the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is more than willing to help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can jump no more than yo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’s more like a writer than an arti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1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6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6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304920" y="30492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4. Inform Vt.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通知，告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952880" y="40464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Inform sb of s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533520" y="11430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95280" y="1628640"/>
            <a:ext cx="820908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informed her mother of her safe arriv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returned and informed us of their dec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were informed that a big fire had broken out in the next tow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 letter informed us how and when he was expected to arrive in Beij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8b1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he been informed of his father’s dea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2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2000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2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20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6" dur="8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7" dur="8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533520" y="228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without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3962520" y="2286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ff99"/>
                </a:solidFill>
                <a:latin typeface="Arial"/>
              </a:rPr>
              <a:t>毫不劲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143000" y="8380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2209680" y="8380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did it without eff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981080" y="167652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209680" y="1523880"/>
            <a:ext cx="4038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are no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n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no eff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181480" y="21337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09480" y="37339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. read ab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581280" y="373392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读关于……的文章；获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 txBox="1"/>
          <p:nvPr/>
        </p:nvSpPr>
        <p:spPr>
          <a:xfrm>
            <a:off x="762120" y="434340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2" name=""/>
          <p:cNvSpPr/>
          <p:nvPr/>
        </p:nvSpPr>
        <p:spPr>
          <a:xfrm>
            <a:off x="1676520" y="457200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read about the accident in the news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143000" y="51055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sth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895480" y="51814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读（内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676520" y="58672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read a good article in today’s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26" dur="5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5" dur="5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20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2000" fill="hold"/>
                                        <p:tgtEl>
                                          <p:spTgt spid="6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5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457200" y="1522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 suffer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29000" y="7632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苦于……； 患……的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57200" y="76212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59" name=""/>
          <p:cNvSpPr/>
          <p:nvPr/>
        </p:nvSpPr>
        <p:spPr>
          <a:xfrm>
            <a:off x="1447920" y="7621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 often suffer from headach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57200" y="137160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draw attention 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038480" y="1219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对……加以注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把注意力吸引到……上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33520" y="18288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/ at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304920" y="2362320"/>
            <a:ext cx="9144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e.g.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64" name=""/>
          <p:cNvSpPr/>
          <p:nvPr/>
        </p:nvSpPr>
        <p:spPr>
          <a:xfrm>
            <a:off x="609480" y="2919240"/>
            <a:ext cx="8686800" cy="38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drew attention to the rising employ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 should pay attention to the experi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He devoted much attention to training new teacher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I must call your attention to the air pollu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She turned her attention to improve her Englis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624"/>
              </a:spcBef>
              <a:buClr>
                <a:srgbClr val="ff3399"/>
              </a:buClr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You must fix your attention on / upon what the teacher is say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2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3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5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5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20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2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2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1" dur="5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2000" fill="hold"/>
                                        <p:tgtEl>
                                          <p:spTgt spid="6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3" dur="500"/>
                                        <p:tgtEl>
                                          <p:spTgt spid="6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/>
          <p:nvPr/>
        </p:nvSpPr>
        <p:spPr>
          <a:xfrm>
            <a:off x="228600" y="304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9. add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916360" y="304920"/>
            <a:ext cx="50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Arial"/>
              </a:rPr>
              <a:t>be / become / get addic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26920" y="1197000"/>
            <a:ext cx="487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is addicted to drin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became addicted to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is addicted to re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457200" y="38862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 look up 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895480" y="396252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ffcc"/>
                </a:solidFill>
                <a:latin typeface="Arial"/>
              </a:rPr>
              <a:t>尊敬，钦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1066680" y="4800600"/>
            <a:ext cx="71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hoolboys usually look up to great athle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is a fine chap. I’ve always looked up to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99ffcc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should look up to him as an example of devotion to du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0" dur="5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7" dur="10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4" dur="1000"/>
                                        <p:tgtEl>
                                          <p:spTgt spid="6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6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7" dur="500"/>
                                        <p:tgtEl>
                                          <p:spTgt spid="6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80"/>
                                        <p:tgtEl>
                                          <p:spTgt spid="6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2000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0" dur="20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2000" fill="hold"/>
                                        <p:tgtEl>
                                          <p:spTgt spid="6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4" name=""/>
          <p:cNvGrpSpPr/>
          <p:nvPr/>
        </p:nvGrpSpPr>
        <p:grpSpPr>
          <a:xfrm>
            <a:off x="1371600" y="1143000"/>
            <a:ext cx="5486400" cy="4495680"/>
            <a:chOff x="1371600" y="1143000"/>
            <a:chExt cx="5486400" cy="4495680"/>
          </a:xfrm>
        </p:grpSpPr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1371600" y="1143000"/>
              <a:ext cx="5486400" cy="449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3"/>
            <a:stretch/>
          </p:blipFill>
          <p:spPr>
            <a:xfrm>
              <a:off x="2590920" y="1523880"/>
              <a:ext cx="3200400" cy="251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1371600" y="380880"/>
            <a:ext cx="59436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affair, business, matter &amp; event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304920" y="1371600"/>
            <a:ext cx="85341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affair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日常事务或国家事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he affairs of state/one’s 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business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商务或正经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ravel on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matter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麻烦事；常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What’s the matter with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event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所长指国内外的大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to cover events in poli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638680" y="1752480"/>
            <a:ext cx="3429000" cy="3657600"/>
          </a:xfrm>
          <a:prstGeom prst="horizontalScroll">
            <a:avLst>
              <a:gd name="adj" fmla="val 12500"/>
            </a:avLst>
          </a:prstGeom>
          <a:solidFill>
            <a:srgbClr val="8fc7ff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It’s none of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Mind your ow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aff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Business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7" dur="20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2" dur="200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3" dur="2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2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2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 fill="hold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6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304920" y="152280"/>
            <a:ext cx="8762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injure, wound, hurt, harm, destroy &amp; damage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152280" y="838080"/>
            <a:ext cx="8991720" cy="39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injure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意外事故造成的伤害，可能危及功能发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wound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刀、枪、剑伤或战场上受伤。也指对感情的伤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hurt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精神上或肉体上的“创伤”“伤害”，作不及物动词，意为“疼痛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harm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般指伤害有生命的东西，常指伤及一个人的健康、权利、事业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damage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主要指对价值和功能的破坏，多用于无生命的东西，一般还可以修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destroy: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通过某种有力的或粗暴的手段使之毁灭或无用。一般不能或很难修复。有时可用作比喻意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609588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e1f08"/>
                </a:solidFill>
                <a:latin typeface="Arial"/>
              </a:rPr>
              <a:t>the inju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495680" y="609588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1f08"/>
                </a:solidFill>
                <a:latin typeface="Arial"/>
              </a:rPr>
              <a:t>the woun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3" dur="5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1000"/>
                                        <p:tgtEl>
                                          <p:spTgt spid="6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7" dur="1000"/>
                                        <p:tgtEl>
                                          <p:spTgt spid="6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6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5000" fill="hold"/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5000" fill="hold"/>
                                        <p:tgtEl>
                                          <p:spTgt spid="6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2000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2000" fill="hold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2000" fill="hold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2000" fill="hold"/>
                                        <p:tgtEl>
                                          <p:spTgt spid="6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9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28600" y="0"/>
            <a:ext cx="2209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Grammar</a:t>
            </a:r>
            <a:endParaRPr b="1" lang="en-US" sz="96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9" name=""/>
          <p:cNvSpPr/>
          <p:nvPr/>
        </p:nvSpPr>
        <p:spPr>
          <a:xfrm>
            <a:off x="0" y="533520"/>
            <a:ext cx="9144000" cy="63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Experienced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ditors and reporters make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inform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cisions about what events to report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e asked two of China’s many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talented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journalists to tell us more about news and newspap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fter the interview, the reporter must present the material in an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organised</a:t>
            </a:r>
            <a:r>
              <a:rPr b="1" lang="en-US" sz="2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ay and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hen wrote about the efforts to bring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stolen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ltural relics back to chin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want to write about people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addict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to dru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V programmes and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printed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ticles help people in other countries learn about China and the Chinese peop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media can often help solve problems and draw attentions to situations where help is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 need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t will lead to a future world where people from all countries are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respect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and different views and opinions are</a:t>
            </a:r>
            <a:r>
              <a:rPr b="1" lang="en-US" sz="22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4b4bff"/>
                </a:solidFill>
                <a:latin typeface="Arial"/>
              </a:rPr>
              <a:t>tolerated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380880" y="1398600"/>
            <a:ext cx="85345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 brought some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paint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ch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Everybody attended the meeting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held last week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He’s one of those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 invit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609480" y="3657600"/>
            <a:ext cx="1219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position: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797280"/>
            <a:ext cx="58672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cd2bed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past participle, before the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d2bed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rase after the 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cd2bed"/>
              </a:buClr>
              <a:buFont typeface="Webdings" charset="2"/>
              <a:buChar char="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the past participle after “something”, “anything”, “those” and so 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609480" y="228600"/>
            <a:ext cx="76964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008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Past Participle as Attribute: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solidFill>
                <a:srgbClr val="00008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77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7" dur="77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49" dur="77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1" dur="770" fill="hold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1" dur="500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6" dur="20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3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304920" y="228600"/>
            <a:ext cx="1676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solidFill>
                  <a:srgbClr val="00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differences:</a:t>
            </a:r>
            <a:endParaRPr b="1" lang="en-US" sz="9600" spc="1" strike="noStrike">
              <a:ln w="0">
                <a:noFill/>
              </a:ln>
              <a:solidFill>
                <a:srgbClr val="00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5" name=""/>
          <p:cNvSpPr/>
          <p:nvPr/>
        </p:nvSpPr>
        <p:spPr>
          <a:xfrm>
            <a:off x="304920" y="914400"/>
            <a:ext cx="861048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A reporter begins by contacting the people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to be interview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and then prepares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Most of the artists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invit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to the party were from South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Did you see the boy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being question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by the poli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457200" y="4114800"/>
            <a:ext cx="8458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过去分词作定语表示一个完成的被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现在分词被动式作定语表示一个正在进行的被动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定式的被动式作定语表示一个将来的被动动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0" fill="hold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9" dur="500"/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20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20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 fill="hold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1" dur="1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2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8" dur="20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3" dur="500"/>
                                        <p:tgtEl>
                                          <p:spTgt spid="6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 txBox="1"/>
          <p:nvPr/>
        </p:nvSpPr>
        <p:spPr>
          <a:xfrm>
            <a:off x="457200" y="228600"/>
            <a:ext cx="7696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Past Participle as Predicative:</a:t>
            </a:r>
            <a:endParaRPr b="1" lang="en-US" sz="96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88" name=""/>
          <p:cNvSpPr/>
          <p:nvPr/>
        </p:nvSpPr>
        <p:spPr>
          <a:xfrm>
            <a:off x="838080" y="990720"/>
            <a:ext cx="64008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She looks</a:t>
            </a:r>
            <a:r>
              <a:rPr b="0" lang="en-US" sz="2800" spc="-1" strike="noStrike">
                <a:solidFill>
                  <a:srgbClr val="99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worried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Your article is well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written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y have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got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engaged five years 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52280" y="297180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differences:</a:t>
            </a:r>
            <a:endParaRPr b="1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90" name=""/>
          <p:cNvSpPr/>
          <p:nvPr/>
        </p:nvSpPr>
        <p:spPr>
          <a:xfrm>
            <a:off x="1981080" y="3106800"/>
            <a:ext cx="68580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glass is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broken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glass was </a:t>
            </a:r>
            <a:r>
              <a:rPr b="0" lang="en-US" sz="2800" spc="-1" strike="noStrike">
                <a:solidFill>
                  <a:srgbClr val="4b4bff"/>
                </a:solidFill>
                <a:latin typeface="Arial"/>
              </a:rPr>
              <a:t>broken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by Tom las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304920" y="4589640"/>
            <a:ext cx="883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用作表语的过去分词，被动意味很弱，主要表示动作的完成和状态，此时相当于一个形容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de00a4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动语态的过去分词，动作意味很强，句子主语为动作的承受者，后常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短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500"/>
                                        <p:tgtEl>
                                          <p:spTgt spid="6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1000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28600" y="0"/>
            <a:ext cx="2362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0033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Revision</a:t>
            </a:r>
            <a:endParaRPr b="0" lang="en-US" sz="9600" spc="1" strike="noStrike">
              <a:ln w="9360">
                <a:solidFill>
                  <a:srgbClr val="cc99ff"/>
                </a:solidFill>
                <a:miter/>
              </a:ln>
              <a:solidFill>
                <a:srgbClr val="0033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93" name=""/>
          <p:cNvSpPr/>
          <p:nvPr/>
        </p:nvSpPr>
        <p:spPr>
          <a:xfrm>
            <a:off x="0" y="609480"/>
            <a:ext cx="9144000" cy="611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e the sentences using the right form of the given ver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 had nothing to do. I was __________ (bore) and lone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Jack looked even more _______ (amaze) than he fel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results were very _____________ (disappoi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 was thanked by the _____________ (satisfy) custo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The girl ___________ (dress) in red is my daugh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66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Last Monday our class went on an ____________ (organise) tr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4724280" y="1600200"/>
            <a:ext cx="1828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b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4038480" y="2529000"/>
            <a:ext cx="19814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ama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038480" y="3352680"/>
            <a:ext cx="24386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disappoi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62520" y="4038480"/>
            <a:ext cx="2133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satis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981080" y="5029200"/>
            <a:ext cx="22100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5943600" y="5638680"/>
            <a:ext cx="2362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e00a4"/>
                </a:solidFill>
                <a:latin typeface="Arial"/>
              </a:rPr>
              <a:t>organ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3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 txBox="1"/>
          <p:nvPr/>
        </p:nvSpPr>
        <p:spPr>
          <a:xfrm>
            <a:off x="1676520" y="2514600"/>
            <a:ext cx="579096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cap="sq" w="12600">
                  <a:solidFill>
                    <a:srgbClr val="000099"/>
                  </a:solidFill>
                  <a:miter/>
                </a:ln>
                <a:gradFill rotWithShape="0">
                  <a:gsLst>
                    <a:gs pos="0">
                      <a:srgbClr val="33ccff"/>
                    </a:gs>
                    <a:gs pos="100000">
                      <a:srgbClr val="175e75"/>
                    </a:gs>
                  </a:gsLst>
                  <a:lin ang="5400000"/>
                </a:gradFill>
                <a:effectLst>
                  <a:outerShdw dist="125751" dir="18900000" blurRad="0" rotWithShape="0">
                    <a:srgbClr val="000099"/>
                  </a:outerShdw>
                </a:effectLst>
                <a:latin typeface="Comic Sans MS"/>
              </a:rPr>
              <a:t>The End</a:t>
            </a:r>
            <a:endParaRPr b="1" lang="en-US" sz="6600" spc="1" strike="noStrike">
              <a:ln cap="sq" w="12600">
                <a:solidFill>
                  <a:srgbClr val="000099"/>
                </a:solidFill>
                <a:miter/>
              </a:ln>
              <a:gradFill rotWithShape="0">
                <a:gsLst>
                  <a:gs pos="0">
                    <a:srgbClr val="33ccff"/>
                  </a:gs>
                  <a:gs pos="100000">
                    <a:srgbClr val="175e75"/>
                  </a:gs>
                </a:gsLst>
                <a:lin ang="5400000"/>
              </a:gradFill>
              <a:effectLst>
                <a:outerShdw dist="125751" dir="18900000" blurRad="0" rotWithShape="0">
                  <a:srgbClr val="000099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4" dur="indefinite" restart="never" nodeType="tmRoot">
          <p:childTnLst>
            <p:seq>
              <p:cTn id="1235" dur="indefinite" nodeType="mainSeq">
                <p:childTnLst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YYP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1981080" y="1219320"/>
            <a:ext cx="4572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4" dur="1" fill="hold"/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676520" y="609480"/>
            <a:ext cx="51973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2" name="" descr=""/>
          <p:cNvPicPr/>
          <p:nvPr/>
        </p:nvPicPr>
        <p:blipFill>
          <a:blip r:embed="rId2"/>
          <a:stretch/>
        </p:blipFill>
        <p:spPr>
          <a:xfrm>
            <a:off x="2666880" y="1295280"/>
            <a:ext cx="419112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2286000" y="914400"/>
            <a:ext cx="4267080" cy="49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 txBox="1"/>
          <p:nvPr/>
        </p:nvSpPr>
        <p:spPr>
          <a:xfrm>
            <a:off x="324000" y="333360"/>
            <a:ext cx="3809880" cy="103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comparison</a:t>
            </a:r>
            <a:endParaRPr b="1" lang="en-US" sz="6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1523880" y="1395360"/>
          <a:ext cx="609624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536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9" name=""/>
          <p:cNvGraphicFramePr/>
          <p:nvPr/>
        </p:nvGraphicFramePr>
        <p:xfrm>
          <a:off x="179280" y="189000"/>
          <a:ext cx="8785440" cy="6337080"/>
        </p:xfrm>
        <a:graphic>
          <a:graphicData uri="http://schemas.openxmlformats.org/drawingml/2006/table">
            <a:tbl>
              <a:tblPr/>
              <a:tblGrid>
                <a:gridCol w="2160720"/>
                <a:gridCol w="3311640"/>
                <a:gridCol w="3313080"/>
              </a:tblGrid>
              <a:tr h="105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advan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si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az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spap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8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 txBox="1"/>
          <p:nvPr/>
        </p:nvSpPr>
        <p:spPr>
          <a:xfrm>
            <a:off x="1403280" y="2421000"/>
            <a:ext cx="640080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566768"/>
                    </a:gs>
                    <a:gs pos="5000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imes New Roman"/>
              </a:rPr>
              <a:t>What is the most 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566768"/>
                  </a:gs>
                  <a:gs pos="5000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566768"/>
                    </a:gs>
                    <a:gs pos="50000">
                      <a:srgbClr val="bbe0e3"/>
                    </a:gs>
                    <a:gs pos="100000">
                      <a:srgbClr val="566768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68686"/>
                  </a:outerShdw>
                </a:effectLst>
                <a:latin typeface="Times New Roman"/>
              </a:rPr>
              <a:t>reliable?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566768"/>
                  </a:gs>
                  <a:gs pos="50000">
                    <a:srgbClr val="bbe0e3"/>
                  </a:gs>
                  <a:gs pos="100000">
                    <a:srgbClr val="566768"/>
                  </a:gs>
                </a:gsLst>
                <a:lin ang="5400000"/>
              </a:gradFill>
              <a:effectLst>
                <a:outerShdw dist="17819" dir="2700000" blurRad="0" rotWithShape="0">
                  <a:srgbClr val="868686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1:32:30Z</dcterms:created>
  <dc:creator> </dc:creator>
  <dc:description/>
  <dc:language>en-US</dc:language>
  <cp:lastModifiedBy>tianghong</cp:lastModifiedBy>
  <dcterms:modified xsi:type="dcterms:W3CDTF">2004-09-23T00:08:56Z</dcterms:modified>
  <cp:revision>14</cp:revision>
  <dc:subject/>
  <dc:title>幻灯片 1</dc:title>
</cp:coreProperties>
</file>