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247-A06B-452A-8185-A11E8259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1A9-CF06-4A50-A586-8144D78F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029-01F6-499B-AFFB-98C9CF35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7D9-E7DE-4EA6-B26A-AB869DD5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01A-4CC7-4978-B2FE-37D28EF8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0A8-778A-4B4B-8CBA-CD6580D0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9FC-27EF-4F80-BEE8-7BBE01C5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628-4258-4D21-B757-1D8AD64E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985-13C9-45EB-BE18-92A17D8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2AC-280F-43BB-BE49-F28A89C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491-A02C-422A-89F5-992B35C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AC0-0F1F-4C97-A301-C6675B9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2065-8D64-4DCB-9846-693E32C969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Unit 18 Office equip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6280" y="1143000"/>
            <a:ext cx="5214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eleph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ompu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r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c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Fax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Photocop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Answering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Word proc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61760" y="8380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i="1" lang="en-US" sz="6600" spc="-1" strike="noStrike">
                <a:solidFill>
                  <a:srgbClr val="ff3300"/>
                </a:solidFill>
                <a:latin typeface="Times New Roman"/>
              </a:rPr>
              <a:t>Oral competition</a:t>
            </a:r>
            <a:br>
              <a:rPr sz="66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uppose you are a secretary in an office. Would you please introduce the modern equipments to the visito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. Read the text aloud after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. Make sentences with the key phra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. Write a short passage about how to sell one of the four modern equipments as  a bag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un1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380880"/>
          <a:ext cx="8610480" cy="5736960"/>
        </p:xfrm>
        <a:graphic>
          <a:graphicData uri="http://schemas.openxmlformats.org/drawingml/2006/table">
            <a:tbl>
              <a:tblPr/>
              <a:tblGrid>
                <a:gridCol w="3276720"/>
                <a:gridCol w="5333760"/>
              </a:tblGrid>
              <a:tr h="99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fax mach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862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machine “read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057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anges … into electroni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9120" y="265752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ends signals down a telephon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400" y="3301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much qui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760" y="4038480"/>
            <a:ext cx="49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more expensive than p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844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fax can be read by 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457200"/>
          <a:ext cx="8534520" cy="6132600"/>
        </p:xfrm>
        <a:graphic>
          <a:graphicData uri="http://schemas.openxmlformats.org/drawingml/2006/table">
            <a:tbl>
              <a:tblPr/>
              <a:tblGrid>
                <a:gridCol w="2362320"/>
                <a:gridCol w="61722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photocopie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666880" y="15238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using a mirror, a roller &amp; special black pow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267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Make bigger or smaller, lighter or dark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copy onto both sides of the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4200" y="4210200"/>
            <a:ext cx="60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copy a long report and sort and 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copies toge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4040" y="540720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can produce color co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304920"/>
          <a:ext cx="8686800" cy="6896160"/>
        </p:xfrm>
        <a:graphic>
          <a:graphicData uri="http://schemas.openxmlformats.org/drawingml/2006/table">
            <a:tbl>
              <a:tblPr/>
              <a:tblGrid>
                <a:gridCol w="2286000"/>
                <a:gridCol w="6400800"/>
              </a:tblGrid>
              <a:tr h="78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word processo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8280" y="1044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ombines a typewriter keyboar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printer and a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4240" y="2254320"/>
            <a:ext cx="65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he writing appears on a screen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is recorded onto a computer d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3549600"/>
            <a:ext cx="63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you make any changes you wis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heck it and print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3440" y="4952880"/>
            <a:ext cx="66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instead of spending five hours ty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report again, print it in one 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304920"/>
          <a:ext cx="8686800" cy="6354720"/>
        </p:xfrm>
        <a:graphic>
          <a:graphicData uri="http://schemas.openxmlformats.org/drawingml/2006/table">
            <a:tbl>
              <a:tblPr/>
              <a:tblGrid>
                <a:gridCol w="2362320"/>
                <a:gridCol w="6324480"/>
              </a:tblGrid>
              <a:tr h="100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answering machine</a:t>
                      </a: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577600" y="194940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leave the answering machin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2360" y="2482920"/>
            <a:ext cx="63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eople who call you up can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27360" y="3952800"/>
            <a:ext cx="5838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following morning or aft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holiday, you can listen to th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take any necessary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4760" y="5559480"/>
            <a:ext cx="41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information lin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8760" y="13716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telephone with a tape re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1. When should you find out how to work the office equip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2. What does “be rushed off one’s feet”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3. Why is it not surprising that Japan has more fax machines than any other country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4. If you were the Head Teacher of a school, which of the machines would be useful to have? In what ways could they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ll in the blanks with the proper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1. The __________is a type of machine which is use to make copies from newspapers, books or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2. The fax machine is used to ________ including words, pictures, designs and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3. The word processor is a kind of machine which is used to __________ , save them for future use and make changes if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4. The answering machine is used to __________ messages when the receiver is ab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6960" y="10098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hotoco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9480" y="25336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end ma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3000" y="41148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yp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7960" y="517212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cord 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你一旦显出害怕的样子，狗就会来咬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每周回家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父亲曾在一家汽车厂工作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 rather …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些鞋子穿起来很舒服，但并不漂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喜欢游泳，而不喜欢溜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决定写信而不打电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Rush somebody off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今天我们办公室里真忙，我是忙得不可开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Make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对旅行计划作了一些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Tak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那种情况下，你应该立即采取行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nce you show any fear, the dog will attac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go home on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His father once worked in a car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se shoes are comfortable rather than pret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love swimming rather than sk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decide to write rather than (to) teleph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were so busy in the office today. I was rushed off my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have made some changes in ou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plan fo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 that situation, you should take immediat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2:08:51Z</dcterms:created>
  <dc:creator>xu</dc:creator>
  <dc:description/>
  <dc:language>en-US</dc:language>
  <cp:lastModifiedBy>xu</cp:lastModifiedBy>
  <dcterms:modified xsi:type="dcterms:W3CDTF">2001-11-06T15:29:04Z</dcterms:modified>
  <cp:revision>6</cp:revision>
  <dc:subject/>
  <dc:title>Office equipment</dc:title>
</cp:coreProperties>
</file>