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media/image8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D1E-D2BB-4900-A746-6640EB57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8E6-AAD6-4B2C-9327-2CD2B9B9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C4F-B2A3-41FB-97C6-CFD52D5C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ADE-068B-4899-9466-68CE03BA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A3E7-703B-4793-8AA1-13187566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6A2D-7143-440B-BB0B-F70D34D1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362E-527B-4D30-8B37-147614D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AE7-17C9-4469-9E5B-EC9A6515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14E4-1F30-4716-A758-B09920FE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29C-5083-4F13-BB16-B497B76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FA7F-9CB2-42B1-9F11-5908ACB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FDE-398F-4865-AA98-2A8FFC1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FCCA-6149-4935-9075-AC58DD8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FE1-C717-485A-BBD7-A9B734B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F3E5-D8BC-4108-A87E-B6FADCCF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886B-6D12-4365-B429-CB36FCB7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8DA8-A6C8-437A-968C-C3478175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D2A-06D7-48CD-8E7C-4DD012C0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1E8-F271-4410-A2ED-7B7806FF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0DD-2945-4E25-AE8F-10A6FA17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363-D3E4-4448-ABBB-BCE9F646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A12-40D7-4EE0-8CCF-1B021B8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1B7-CAA1-404B-8269-A3CABD4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954-2D97-437D-878F-B14AA1C2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37D-30E8-4BC8-A348-F983F9118DF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C3B-C9CB-4978-90E9-FE45C79723F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838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华文新魏"/>
                <a:ea typeface="华文新魏"/>
              </a:rPr>
              <a:t>Wri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81952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English Writing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英语书面表达训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609480" y="5715000"/>
            <a:ext cx="380880" cy="2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3248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05120"/>
            <a:ext cx="56833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4. Form a pass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267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0" y="38088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2565360"/>
            <a:ext cx="4248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5.Check ag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0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华文行楷"/>
              </a:rPr>
              <a:t>Correct your mista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609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rec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019560" cy="433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9164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516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90920"/>
            <a:ext cx="60195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6. Make a clear co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黑体"/>
              </a:rPr>
              <a:t>Handwriting and 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990720"/>
            <a:ext cx="70866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并列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, as well as, als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递进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sides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 addition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reo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mor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转折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, yet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howe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lthough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wi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r, in spite of, despite, instead of, in the end,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wor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时间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, then, next, finally, …     firstly,secondly,finally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比较对比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, unlike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 the contrar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n the other han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60199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0"/>
            <a:ext cx="5105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678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总        结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 word, in general, in short, above all, after all, generally spea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ow to deal with the writing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219320"/>
            <a:ext cx="254160" cy="5029200"/>
          </a:xfrm>
          <a:custGeom>
            <a:avLst/>
            <a:gdLst>
              <a:gd name="textAreaLeft" fmla="*/ 162360 w 254160"/>
              <a:gd name="textAreaRight" fmla="*/ 254520 w 2541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alyze the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523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yle, person, tense, ke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839960"/>
            <a:ext cx="62485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ords and phras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one or two words to express the key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90720"/>
            <a:ext cx="64008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ke sentenc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the words or phrases to make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orm the passag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876920"/>
            <a:ext cx="262080" cy="1371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847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16564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54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927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357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eck ag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38188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0512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clear 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038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rangement and logic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ffe"/>
            </a:gs>
            <a:gs pos="50000">
              <a:srgbClr val="ffe1ff"/>
            </a:gs>
            <a:gs pos="100000">
              <a:srgbClr val="feef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43800" cy="502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221760" y="2286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0093"/>
                </a:solidFill>
                <a:latin typeface="Monotype Corsiva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2004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an article and use these writ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43" name="04031108472003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438280" y="762120"/>
            <a:ext cx="6324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523880"/>
            <a:ext cx="678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请你根据以下表格内容提示，用英语写一篇短文，谈谈拥有私家车的利与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514600"/>
          <a:ext cx="5790960" cy="2133720"/>
        </p:xfrm>
        <a:graphic>
          <a:graphicData uri="http://schemas.openxmlformats.org/drawingml/2006/table">
            <a:tbl>
              <a:tblPr/>
              <a:tblGrid>
                <a:gridCol w="2819160"/>
                <a:gridCol w="29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时难找车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省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昂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你一种独立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危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467480" cy="454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05120" y="533520"/>
            <a:ext cx="60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Thank you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05120" y="5410080"/>
            <a:ext cx="6019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华文隶书"/>
              </a:rPr>
              <a:t>请不吝赐教！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1981080"/>
            <a:ext cx="76201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roduction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W1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Body: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ed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Conclusion: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onclude the who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ssage or y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pin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14400"/>
            <a:ext cx="26668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Stru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22096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990720"/>
            <a:ext cx="6553080" cy="10238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Six steps in wr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93880" y="2257200"/>
            <a:ext cx="3684600" cy="4095720"/>
            <a:chOff x="2693880" y="2257200"/>
            <a:chExt cx="3684600" cy="4095720"/>
          </a:xfrm>
        </p:grpSpPr>
        <p:sp>
          <p:nvSpPr>
            <p:cNvPr id="103" name="_s134165"/>
            <p:cNvSpPr/>
            <p:nvPr/>
          </p:nvSpPr>
          <p:spPr>
            <a:xfrm flipH="1" flipV="1">
              <a:off x="3647520" y="3790440"/>
              <a:ext cx="446040" cy="258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34164"/>
            <p:cNvSpPr/>
            <p:nvPr/>
          </p:nvSpPr>
          <p:spPr>
            <a:xfrm>
              <a:off x="2693880" y="302400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Arial Black"/>
                  <a:ea typeface="华文琥珀"/>
                </a:rPr>
                <a:t>抄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34163"/>
            <p:cNvSpPr/>
            <p:nvPr/>
          </p:nvSpPr>
          <p:spPr>
            <a:xfrm flipH="1">
              <a:off x="364752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34162"/>
            <p:cNvSpPr/>
            <p:nvPr/>
          </p:nvSpPr>
          <p:spPr>
            <a:xfrm>
              <a:off x="269388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2" action="ppaction://hlinksldjump"/>
                </a:rPr>
                <a:t>改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34161"/>
            <p:cNvSpPr/>
            <p:nvPr/>
          </p:nvSpPr>
          <p:spPr>
            <a:xfrm>
              <a:off x="4535280" y="4813200"/>
              <a:ext cx="0" cy="515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34160"/>
            <p:cNvSpPr/>
            <p:nvPr/>
          </p:nvSpPr>
          <p:spPr>
            <a:xfrm>
              <a:off x="4024080" y="532908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3" action="ppaction://hlinksldjump"/>
                </a:rPr>
                <a:t>合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34158"/>
            <p:cNvSpPr/>
            <p:nvPr/>
          </p:nvSpPr>
          <p:spPr>
            <a:xfrm>
              <a:off x="497664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34157"/>
            <p:cNvSpPr/>
            <p:nvPr/>
          </p:nvSpPr>
          <p:spPr>
            <a:xfrm>
              <a:off x="535464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4" action="ppaction://hlinksldjump"/>
                </a:rPr>
                <a:t>扩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34156"/>
            <p:cNvSpPr/>
            <p:nvPr/>
          </p:nvSpPr>
          <p:spPr>
            <a:xfrm flipV="1">
              <a:off x="4976640" y="3791880"/>
              <a:ext cx="446040" cy="257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34155"/>
            <p:cNvSpPr/>
            <p:nvPr/>
          </p:nvSpPr>
          <p:spPr>
            <a:xfrm>
              <a:off x="5354640" y="3025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5" action="ppaction://hlinksldjump"/>
                </a:rPr>
                <a:t>抓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34154"/>
            <p:cNvSpPr/>
            <p:nvPr/>
          </p:nvSpPr>
          <p:spPr>
            <a:xfrm flipV="1">
              <a:off x="4535280" y="3279240"/>
              <a:ext cx="0" cy="51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34153"/>
            <p:cNvSpPr/>
            <p:nvPr/>
          </p:nvSpPr>
          <p:spPr>
            <a:xfrm>
              <a:off x="4024080" y="225720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6" action="ppaction://hlinksldjump"/>
                </a:rPr>
                <a:t>审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34152"/>
            <p:cNvSpPr/>
            <p:nvPr/>
          </p:nvSpPr>
          <p:spPr>
            <a:xfrm>
              <a:off x="4024080" y="379404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书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表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985080" y="4572000"/>
            <a:ext cx="21589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635652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59882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1. Analyse  the top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8954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确定基本要素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:5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W</a:t>
            </a:r>
            <a:r>
              <a:rPr b="0" lang="zh-CN" sz="4400" spc="-1" strike="noStrike">
                <a:solidFill>
                  <a:srgbClr val="000066"/>
                </a:solidFill>
                <a:latin typeface="Arial Black"/>
              </a:rPr>
              <a:t>1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666880"/>
            <a:ext cx="51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5451480"/>
            <a:ext cx="89208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733920"/>
            <a:ext cx="7162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5W: wha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when where 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1H: 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5847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67816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2. Grasp the key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195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确定主要行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7339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行楷"/>
              </a:rPr>
              <a:t>What happen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4724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行楷"/>
              </a:rPr>
              <a:t>Key words and phr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0056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133720"/>
            <a:ext cx="58611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  <a:ea typeface="黑体"/>
              </a:rPr>
              <a:t>3. Make sen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03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429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0226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Spel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5013360"/>
            <a:ext cx="63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Punctuation mark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标点符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743200"/>
          <a:ext cx="8076960" cy="3478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80880"/>
            <a:ext cx="358128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914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89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3980520"/>
          </a:xfrm>
          <a:prstGeom prst="rect">
            <a:avLst/>
          </a:prstGeom>
          <a:solidFill>
            <a:srgbClr val="00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考词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un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拼音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es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piny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743200"/>
          <a:ext cx="8076960" cy="35514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27200" y="1638360"/>
            <a:ext cx="47246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057400"/>
            <a:ext cx="49528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257800"/>
            <a:ext cx="6858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441972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2485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52880"/>
            <a:ext cx="1752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715000"/>
            <a:ext cx="1600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800600"/>
            <a:ext cx="609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800600"/>
            <a:ext cx="7621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762120"/>
            <a:ext cx="1752480" cy="380880"/>
          </a:xfrm>
          <a:prstGeom prst="wedgeRoundRectCallout">
            <a:avLst>
              <a:gd name="adj1" fmla="val -138856"/>
              <a:gd name="adj2" fmla="val 176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2057400" cy="380880"/>
          </a:xfrm>
          <a:prstGeom prst="wedgeRoundRectCallout">
            <a:avLst>
              <a:gd name="adj1" fmla="val 49384"/>
              <a:gd name="adj2" fmla="val 1387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2057400" cy="380880"/>
          </a:xfrm>
          <a:prstGeom prst="wedgeRoundRectCallout">
            <a:avLst>
              <a:gd name="adj1" fmla="val -82638"/>
              <a:gd name="adj2" fmla="val 6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867280"/>
            <a:ext cx="2057400" cy="381240"/>
          </a:xfrm>
          <a:prstGeom prst="wedgeRoundRectCallout">
            <a:avLst>
              <a:gd name="adj1" fmla="val 74384"/>
              <a:gd name="adj2" fmla="val -14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057400" cy="381240"/>
          </a:xfrm>
          <a:prstGeom prst="wedgeRoundRectCallout">
            <a:avLst>
              <a:gd name="adj1" fmla="val 45680"/>
              <a:gd name="adj2" fmla="val 192499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657600"/>
            <a:ext cx="2057400" cy="380880"/>
          </a:xfrm>
          <a:prstGeom prst="wedgeRoundRectCallout">
            <a:avLst>
              <a:gd name="adj1" fmla="val -118902"/>
              <a:gd name="adj2" fmla="val 7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410080"/>
            <a:ext cx="2057400" cy="381240"/>
          </a:xfrm>
          <a:prstGeom prst="wedgeRoundRectCallout">
            <a:avLst>
              <a:gd name="adj1" fmla="val -69986"/>
              <a:gd name="adj2" fmla="val -91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470640"/>
            <a:ext cx="2057400" cy="380880"/>
          </a:xfrm>
          <a:prstGeom prst="wedgeRoundRectCallout">
            <a:avLst>
              <a:gd name="adj1" fmla="val -70986"/>
              <a:gd name="adj2" fmla="val -11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43:56Z</dcterms:created>
  <dc:creator>gx</dc:creator>
  <dc:description/>
  <dc:language>en-US</dc:language>
  <cp:lastModifiedBy>太谷中学</cp:lastModifiedBy>
  <dcterms:modified xsi:type="dcterms:W3CDTF">2005-12-19T12:01:01Z</dcterms:modified>
  <cp:revision>22</cp:revision>
  <dc:subject/>
  <dc:title>How to deal with the writing？</dc:title>
</cp:coreProperties>
</file>