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media/laser.wav" ContentType="audio/x-wav"/>
  <Override PartName="/ppt/media/whoosh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079-0D2A-49F4-93C0-28D7C81B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B67-26FE-40C7-931D-62B2183D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DF4-EACD-49FC-B6F9-2266AB0B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978-6E48-4B2D-9F36-B3535AD6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6FE-577C-4817-99EA-F19D75E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B14-54A2-41E1-BC69-FB74E4DD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418-3139-494C-ABFD-E58D6069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A5F-76EE-4623-A264-17AD4289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59A-F8C1-4991-A8E6-F9AFA0AD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71A-9066-4844-B517-E192C76C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E97-562D-4F46-9D01-4670B8C7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6D9-065E-4EC9-881D-66090B61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92E8-EC85-4811-92CF-F74451F7A3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意疑问句和推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77738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+,-- ? She’s  afraid of dogs, 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答时否定用简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语必须为人称代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, + ?  Bill daren’t say such rude things,     dare h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 Yes, he dare. /  No, he dar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敢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不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She can’t be in the library, i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 I saw her on the play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去事实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ave d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om must have returned the book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dnesday, did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rary     /,                         ha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2997360"/>
            <a:ext cx="71280" cy="8632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501336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Mike can’t have finished his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y before yesterday, did 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,                                        has he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向反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表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You’ve made a mess of 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I have, have 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I won’t let you go out to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You won’t , w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2421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549360"/>
            <a:ext cx="80010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’s something worth reading in today’s newspaper, isn’t the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祈使句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, +/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me what it is , will /won’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y, you feed the dog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+ ? Don’t be late again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Let’s =let us    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discuss about it ,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=let us   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33560" y="5373720"/>
            <a:ext cx="71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55641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33880" y="44956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us go to the cinema tonight , will you, Mu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I wish to go out for the picnic with you today , may 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ishes to be on your team, may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not, never, hardly, seldom, scarcely, little, nothing, non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rry has never had a good education, ha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eldom goes out at night , does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happy          unhappy, polite         im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5516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0920" y="566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5516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866920" y="566100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     dislike, careful      ca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very careless in his homework , is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like maths , doe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s maths , doe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You and I discussed this the other d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body hopes to join the club ,don’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列句            就近原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76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23640" y="83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76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63640" y="907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2349360"/>
            <a:ext cx="505080" cy="11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609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is American but she speaks Chinese very well, does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brother doesn’t work hard at his lessons but he is fond of computer, isn’t h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从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宾语从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第一人称        同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ink he isn’t in at the moment, is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非第一人称时          同主句：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told you she was ill that day, did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656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5445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语从句              同主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first time you’ve been abroad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What a pleasant day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kind airhostess, isn’t sh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态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have to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须加助动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/w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to go to the dentist’s, d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have to hand in the composition tomorrow, won’t w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’d better      had better           ha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rather      would rather         wouldn’t       + S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692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365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797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360" y="4365720"/>
            <a:ext cx="360360" cy="503280"/>
          </a:xfrm>
          <a:custGeom>
            <a:avLst/>
            <a:gdLst>
              <a:gd name="textAreaLeft" fmla="*/ 0 w 360360"/>
              <a:gd name="textAreaRight" fmla="*/ 129960 w 360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6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d better remain here with him, hadn‘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d rather come a little later, would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n’t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d to be a heavy smoker, used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idn’t  you 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3213000"/>
            <a:ext cx="360360" cy="11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9040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ought to                oughtn’t /shouldn’t +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ught to do something for him to overcome the difficulty, oughtn’t /shouldn’t w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n’t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n’t 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ust obey the traffic rules, mustn’t w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ust hand in the homework today, needn’t  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推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去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620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148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2060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1433520"/>
            <a:ext cx="144720" cy="627120"/>
          </a:xfrm>
          <a:custGeom>
            <a:avLst/>
            <a:gdLst>
              <a:gd name="textAreaLeft" fmla="*/ 92520 w 144720"/>
              <a:gd name="textAreaRight" fmla="*/ 145080 w 144720"/>
              <a:gd name="textAreaTop" fmla="*/ 16200 h 627120"/>
              <a:gd name="textAreaBottom" fmla="*/ 61092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5080" y="3284640"/>
            <a:ext cx="142920" cy="57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然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测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般事实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he must be at home now,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I gave her a phone call just now and she answere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29242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1628640"/>
            <a:ext cx="287640" cy="1008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105264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27664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052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7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35772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 xing zhong</cp:lastModifiedBy>
  <dcterms:modified xsi:type="dcterms:W3CDTF">2003-11-20T11:36:20Z</dcterms:modified>
  <cp:revision>51</cp:revision>
  <dc:subject/>
  <dc:title>PowerPoint Presentation</dc:title>
</cp:coreProperties>
</file>