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90B-406E-4A13-8A2F-0F369711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1AF-43DE-46FE-9D2B-BA9744E4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3BF-EEE4-45B9-9ECE-1ED83F02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123-D618-441A-82B4-AC16819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920-DAB8-4E59-B3DC-3D4FF31E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616-C037-4BC4-8EAA-332E10F8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B5F-FAC8-4E1F-8032-60A79D2C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A84-6459-4CB8-9E75-7596EE71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089-F439-4306-A9F0-3DC981CE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4C5-2E05-40D0-860F-C9E42BEA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6D7-EC3D-4AEB-A5D2-86892C7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9BF-63EF-405C-8859-CDB96413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F132-617E-4CD6-A23A-CCA997DF1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归纳与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0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there any people over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glasses,bellows,tongs,slipp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工具或用具的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nts, scissors,boots,gloves, chopsticks,parents,clothes,shoes ,sock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ous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衣服的复数名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sers are d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在其前加上量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, a suit of cloth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 glasses is lying on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 ,deer ,mea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单复数同形的名词作主语时，谓语动词的数取决于该名词含义表示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sheep are looked after by the ol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The(blind ,brave ,dead ,old ,poor ,rich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ick ,young ,wise ,wound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主语时，谓语动词要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ead are soon forg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代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, which ,wh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定语从句中作主语时，谓语动词要与先行词在数上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se who want to go to Beijing please get on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语或从句作主语时，谓语动词要用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What I want to do is to play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o finish the work needs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疑问句中，几个并列的名词或代词作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时，谓语动词与最近的主语在数上保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you or he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归纳与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and where to build the factory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not decided   B. aren’t decide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n’t decided  D. haven’t dec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he fork and knife ______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                      B. ar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 been          D. have b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Each soldier and each sailor ______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if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given           b. w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The boys and girls each have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k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Half of the students _______ mad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me mist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has                        B.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is                           D.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 About 70% of the surface of our plane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ver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 teacher and no student is allowed to enter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ny a boy and many a girl has see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of the books are written by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______ good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limbing hills i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limbing the hil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climbing hill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climbing of hil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Twenty dollars _____ enough for the c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as                     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Which of the books do you think 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st amo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 --- Why did you change  your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om economics to la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Because economics  _____ a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teresting to me a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n’t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doesn’t                 D. are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 My clothes ______ made to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B. are      C. has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More than one person ______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as    B. has    C. were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Each of the hotel’s 3000 room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ir conditioning and tel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s equipped    B. were equ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(was)……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句型中，若强调主语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后的谓语动词要同主语的数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Tom who doe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……but also, not……b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ither……nor ,either……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的并列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a pen but also two books wer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is equipped          D. are equ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Not only I but also Tom and Mary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 of watching tel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m       B. is        C. a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verything, including the clothes,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a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as stolen         B. were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ole                  D.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Twenty-five thousand dollars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income for a four-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mily living in a medium-sized commun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the United Sta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      B. is       C. will b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.Over 90% of the world’s popul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w ________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use                    B.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having been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.The number of the errors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surprising    B. were surpris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urprising        D. was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.Let’s visit the art gallery first,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some   B.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we will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 Five pounds of sugar______ mo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  B. is    C. will be   D. would b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After carrying out a large  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,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lfred Nobel finding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formula for dynamite was fou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t was  in 1866 that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was found by Alfred Nob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fred Nobel found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To be an effective teacher, one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to convey the materi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it has been under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now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needs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ow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Fifteen minutes_______ all that I c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e to talk over this matter with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s        B. are      C. we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The king was loved by his friends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ed by his subjects, and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is enemies fear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frighten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he scar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feared by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The father, rather than the bro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for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responsib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er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responsibl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The instrument as well as other s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______ going to be air-lifte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B. are      C. be     D. wil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Father and son ______ standing 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adside. Beside them ____ a c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r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as, were      B. was, 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ere, was      D. were,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连接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……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ot only……but also, not……b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并列主语同谓语动词的一致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oth……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单数并列主语，谓语要用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he says and what he do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并列主语两个部分指的是同一个人或事物或视为整体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ur maths teacher and Li ping ’s father is respected and loved by th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连接的并列主语若被否定修饰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teacher and student is in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作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other, each, 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me ,any ,no ,eve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构成的复合不定代词作主语时，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ever anything happens , please stay here quie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n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主语时，谓语动词可用单数，也可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ne of her friends help/helps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等作主语时，谓语动词的单复数取决于它们所指代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Most of the earth is covered with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Most of the poor men are la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both,few,many,severa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 ar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“more than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词的复数结构”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five men have died in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“more than one (+n.)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结构作主语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one man has die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Many a + n.   +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a student has shortsight glasses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不定数量的词组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Part of, a lot of ,lots of ,one of, a number of, plenty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的单复数取决于量词后面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Part of it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Now a number of young men cook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a+n.+and a half / one and a half +n(es). /the number of +n(es)./ the part of +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作主语时，其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A year and a half has already pa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The number of the students who take part in the entrance examination i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特殊名词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体名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lice, people,catt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等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0:11:37Z</dcterms:created>
  <dc:creator>wang</dc:creator>
  <dc:description/>
  <dc:language>en-US</dc:language>
  <cp:lastModifiedBy>wang xing zhong</cp:lastModifiedBy>
  <dcterms:modified xsi:type="dcterms:W3CDTF">2004-01-29T02:40:00Z</dcterms:modified>
  <cp:revision>21</cp:revision>
  <dc:subject/>
  <dc:title>主谓一致 归纳与总结</dc:title>
</cp:coreProperties>
</file>