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EC6-190B-4144-906E-7BFC586F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443-BBED-47DC-B6B6-521AA412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8A5-276E-4759-B040-7E3835D1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C64-6077-4CF9-B857-AE342B4C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435-7AF7-4442-9BAF-300D2C73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1F7-04D5-4DA9-A9F5-27B67DA5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872-CD2F-42EC-904B-8D5FE8CC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E0F-77C9-4EE3-9F8E-6289CB26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4E9-F730-4705-A81A-E7BEF7D9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1E9-15CF-4113-A854-ED3E100F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32E-7409-4513-9644-19726B1E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84B-1270-4C37-A5B9-42496DBD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4F79-8083-4201-9171-389499DEAF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Times New Roman"/>
              </a:rPr>
              <a:t>Unit 18 Office equip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6280" y="1143000"/>
            <a:ext cx="5214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Teleph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Compu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Pri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Sc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Fax mach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Photocop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Answering mach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Word process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761760" y="8380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Times New Roman"/>
              </a:rPr>
              <a:t>            </a:t>
            </a:r>
            <a:r>
              <a:rPr b="1" i="1" lang="en-US" sz="6600" spc="-1" strike="noStrike">
                <a:solidFill>
                  <a:srgbClr val="ff3300"/>
                </a:solidFill>
                <a:latin typeface="Times New Roman"/>
              </a:rPr>
              <a:t>Oral competition</a:t>
            </a:r>
            <a:br>
              <a:rPr sz="6600"/>
            </a:b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uppose you are a secretary in an office. Would you please introduce the modern equipments to the visito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. Read the text aloud after cla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. Make sentences with the key phra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. Write a short passage about how to sell one of the four modern equipments as  a bag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00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un1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380880"/>
          <a:ext cx="8610480" cy="5736960"/>
        </p:xfrm>
        <a:graphic>
          <a:graphicData uri="http://schemas.openxmlformats.org/drawingml/2006/table">
            <a:tbl>
              <a:tblPr/>
              <a:tblGrid>
                <a:gridCol w="3276720"/>
                <a:gridCol w="5333760"/>
              </a:tblGrid>
              <a:tr h="99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fax mach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886200" y="1600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machine “read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20574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hanges … into electronic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89120" y="2657520"/>
            <a:ext cx="54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sends signals down a telephone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9400" y="33019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much quick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1760" y="4038480"/>
            <a:ext cx="49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more expensive than p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48448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fax can be read by an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457200"/>
          <a:ext cx="8534520" cy="6132600"/>
        </p:xfrm>
        <a:graphic>
          <a:graphicData uri="http://schemas.openxmlformats.org/drawingml/2006/table">
            <a:tbl>
              <a:tblPr/>
              <a:tblGrid>
                <a:gridCol w="2362320"/>
                <a:gridCol w="617220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photocopier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666880" y="152388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using a mirror, a roller &amp; special black pow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3267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Make bigger or smaller, lighter or dark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nd copy onto both sides of the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4200" y="4210200"/>
            <a:ext cx="60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copy a long report and sort and p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the copies toge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4040" y="540720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can produce color co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280" y="304920"/>
          <a:ext cx="8686800" cy="6896160"/>
        </p:xfrm>
        <a:graphic>
          <a:graphicData uri="http://schemas.openxmlformats.org/drawingml/2006/table">
            <a:tbl>
              <a:tblPr/>
              <a:tblGrid>
                <a:gridCol w="2286000"/>
                <a:gridCol w="6400800"/>
              </a:tblGrid>
              <a:tr h="784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word processor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8280" y="10447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ombines a typewriter keyboard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printer and a compu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24240" y="2254320"/>
            <a:ext cx="65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the writing appears on a screen 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is recorded onto a computer di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6520" y="3549600"/>
            <a:ext cx="63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you make any changes you wish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heck it and print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3440" y="4952880"/>
            <a:ext cx="664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instead of spending five hours ty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the report again, print it in one min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52280" y="304920"/>
          <a:ext cx="8686800" cy="6354720"/>
        </p:xfrm>
        <a:graphic>
          <a:graphicData uri="http://schemas.openxmlformats.org/drawingml/2006/table">
            <a:tbl>
              <a:tblPr/>
              <a:tblGrid>
                <a:gridCol w="2362320"/>
                <a:gridCol w="6324480"/>
              </a:tblGrid>
              <a:tr h="100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answering machine</a:t>
                      </a: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2577600" y="1949400"/>
            <a:ext cx="62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leave the answering machine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2360" y="2482920"/>
            <a:ext cx="63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people who call you up can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mess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27360" y="3952800"/>
            <a:ext cx="58388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following morning or aft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holiday, you can listen to th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nd take any necessary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04760" y="5559480"/>
            <a:ext cx="412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information lin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98760" y="13716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telephone with a tape rec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1. When should you find out how to work the office equip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2. What does “be rushed off one’s feet” m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3. Why is it not surprising that Japan has more fax machines than any other country in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4. If you were the Head Teacher of a school, which of the machines would be useful to have? In what ways could they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ll in the blanks with the proper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1. The __________is a type of machine which is use to make copies from newspapers, books or re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2. The fax machine is used to ________ including words, pictures, designs and ma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3. The word processor is a kind of machine which is used to __________ , save them for future use and make changes if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4. The answering machine is used to __________ messages when the receiver is ab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6960" y="100980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hotocop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69480" y="253368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end ma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3000" y="411480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yp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37960" y="5172120"/>
            <a:ext cx="26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ecord te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 O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你一旦显出害怕的样子，狗就会来咬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们每周回家一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父亲曾在一家汽车厂工作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 rather …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这些鞋子穿起来很舒服，但并不漂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喜欢游泳，而不喜欢溜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决定写信而不打电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. Rush somebody off his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今天我们办公室里真忙，我是忙得不可开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 Make a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们对旅行计划作了一些修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. Take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在那种情况下，你应该立即采取行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Once you show any fear, the dog will attack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go home once a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His father once worked in a car fa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ese shoes are comfortable rather than pret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 love swimming rather than sk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 decide to write rather than (to) teleph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were so busy in the office today. I was rushed off my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have made some changes in our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plan for tra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n that situation, you should take immediate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12:08:51Z</dcterms:created>
  <dc:creator>xu</dc:creator>
  <dc:description/>
  <dc:language>en-US</dc:language>
  <cp:lastModifiedBy>xu</cp:lastModifiedBy>
  <dcterms:modified xsi:type="dcterms:W3CDTF">2001-11-06T15:29:04Z</dcterms:modified>
  <cp:revision>6</cp:revision>
  <dc:subject/>
  <dc:title>Office equipment</dc:title>
</cp:coreProperties>
</file>