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9BE-40F5-4917-9BC0-A093618F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106-AD8F-4E32-B4A8-40B21F6B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21B-DA15-461B-A971-030188B1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B5E-DC78-4626-8531-A49F6D0D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088-6761-4863-8EDA-A4569296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810-99F1-43CE-9FEA-D0CDEEF7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43E-62FA-4D6A-9815-4FA10819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E4D-60F2-476F-8320-F257F787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478-DEFA-4836-85A0-38E3F8E3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DF1-E218-4945-A772-85D6B31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94D-AD36-4BAD-A2CF-AE271A3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50C-4BFB-448D-AC95-8463662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372B-CF8A-41FE-813C-71ABA3D27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476280"/>
            <a:ext cx="7272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原级、比较级和最高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形容词的原级：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…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so/as… a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引导的同级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car is as expensive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’s almost as tall as her mother now but not so tall as her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 spoken English is nearly as good as , if not better than, Miss Green’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ke sings as beautifully as his br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, much, many, a lot, ra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                                     + more tha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, a b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read many more books than 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s a little taller than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ovel is far less interesting than 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y f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taller than Mike by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y far the most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2064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un is by far the bigger of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最高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st +adj/(the) most 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all the stars, the sun is the closes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1.) a most adj 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er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) most  a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most humorous novel that 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r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328464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84720" y="3860280"/>
            <a:ext cx="647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tanic” is most instr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ths is a least interesting subject th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as adj …+( a ) + n. +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ucy is as lovely a girl as Lind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as hot a day today as it was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s useful a dictionary as you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have as many good books as 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数的表示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big as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ce/twice           bigger than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three … times      the siz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14972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expensiv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bike is twice   more expensiv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ri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long a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rope is six times   long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ength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62064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997360"/>
            <a:ext cx="217440" cy="1295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   big                   short               hea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          ,  length          , weight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               long          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/tall                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            ,   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                  n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620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216000" cy="129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62064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349360"/>
            <a:ext cx="71640" cy="13669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34936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4076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中，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是非常严谨的， 既人和人比，物和物比，比较级的结构必须是一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ther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m is taller than   any boy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f the other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r handwriting is better tha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49228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ndwriting of yours is better  than that /the handwriting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untry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larger than  any other country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of China is bigger tha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the population of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more beautiful kite than ___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916280"/>
            <a:ext cx="71280" cy="165708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nyone                  B. any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nyone’s                D. any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ite is more beautiful than _______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taller than any boy in the class, let alone the girl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on is nearer to the earth than _____ to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ny star               B. any 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any other star      D. any othe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比较级前不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以下两点要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the more… , the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harder you work, the greater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er mistakes , the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more of the tw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and Lily are twin sisters. They’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ike that I can’t tell which is wh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is the taller and  fatter of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hile Lily is the shorter and th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Which is the further to us, the sun 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Of the two, the sun is much the fur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5:56:22Z</dcterms:created>
  <dc:creator>wang xing zhong</dc:creator>
  <dc:description/>
  <dc:language>en-US</dc:language>
  <cp:lastModifiedBy>wang xing zhong</cp:lastModifiedBy>
  <dcterms:modified xsi:type="dcterms:W3CDTF">2004-01-28T07:03:11Z</dcterms:modified>
  <cp:revision>35</cp:revision>
  <dc:subject/>
  <dc:title>幻灯片 1</dc:title>
</cp:coreProperties>
</file>