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plode.wav" ContentType="audio/x-wav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media/laser.wav" ContentType="audio/x-wav"/>
  <Override PartName="/ppt/media/whoosh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5668-1378-45B9-8EFC-E269E8FF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DF5-8E55-4974-9348-3EFC4965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D8D-9BE4-4787-B1A8-B3F3E741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B817-C17C-43FF-8168-2964A17A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EED1-64AB-482A-B25B-DE5F6A46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A43-D818-4F8A-AFD2-D1EFD637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1C6A-B859-4E8F-A3C9-37AB625A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D171-AE0F-4D35-A29E-264E0715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B685-D74F-42BF-AA43-7447622F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1E4E-BAE4-4617-A7FB-BF5D1C41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261A-F419-4FB2-9791-F60EB241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B069-CC8C-4C67-86D5-58CF6FB8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FE4F-5FF4-42AB-A97F-2466AE8761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反意疑问句和推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852640"/>
            <a:ext cx="77738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+,-- ? She’s  afraid of dogs, isn’t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回答时否定用简略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语必须为人称代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, + ?  Bill daren’t say such rude things,     dare h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1) Yes, he dare. /  No, he dare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敢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不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She can’t be in the library, is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 I saw her on the play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肯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/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去事实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have d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否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/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Tom must have returned the book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dnesday, didn’t 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rary     /,                         hasn’t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56000" y="2997360"/>
            <a:ext cx="71280" cy="86328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501336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Mike can’t have finished his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y before yesterday, did h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,                                        has he?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向反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表感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 You’ve made a mess of 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 I have, have I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 I won’t let you go out to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 You won’t , won’t you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242100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6280" y="549360"/>
            <a:ext cx="80010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re’s something worth reading in today’s newspaper, isn’t ther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祈使句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, +/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me what it is , will /won’t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y, you feed the dog, will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, + ? Don’t be late again, will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Let’s =let us     shall w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discuss about it , shall w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=let us    will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33560" y="5373720"/>
            <a:ext cx="712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55641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33880" y="44956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us go to the cinema tonight , will you, Mu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I wish to go out for the picnic with you today , may I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ishes to be on your team, may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not, never, hardly, seldom, scarcely, little, nothing, non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rry has never had a good education, has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eldom goes out at night , does 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happy          unhappy, polite         impo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24000" y="55166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050920" y="5661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2000" y="5516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866920" y="5661000"/>
            <a:ext cx="100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     dislike, careful      car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is very careless in his homework , isn’t 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like maths , does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likes maths , doesn’t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You and I discussed this the other d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n’t w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body hopes to join the club ,don’t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列句            就近原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765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123640" y="83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76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363640" y="9079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2349360"/>
            <a:ext cx="505080" cy="1152720"/>
          </a:xfrm>
          <a:custGeom>
            <a:avLst/>
            <a:gdLst>
              <a:gd name="textAreaLeft" fmla="*/ 322920 w 505080"/>
              <a:gd name="textAreaRight" fmla="*/ 505440 w 5050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59280" y="6093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y is American but she speaks Chinese very well, doesn’t sh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brother doesn’t work hard at his lessons but he is fond of computer, isn’t he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从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宾语从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: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句的主语为第一人称        同从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hink he isn’t in at the moment, is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句的主语为非第一人称时          同主句：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told you she was ill that day, didn’t sh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6560" y="450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19640" y="5445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语从句              同主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first time you’ve been abroad, isn’t i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What a pleasant day, isn’t i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 kind airhostess, isn’t she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情态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have to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必须加助动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/w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to go to the dentist’s, don’t you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have to hand in the composition tomorrow, won’t w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’d better      had better           had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rather      would rather         wouldn’t       + S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692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278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4365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47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1636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4797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80360" y="4365720"/>
            <a:ext cx="360360" cy="503280"/>
          </a:xfrm>
          <a:custGeom>
            <a:avLst/>
            <a:gdLst>
              <a:gd name="textAreaLeft" fmla="*/ 0 w 360360"/>
              <a:gd name="textAreaRight" fmla="*/ 129960 w 36036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0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3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6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d better remain here with him, hadn‘t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’d rather come a little later, wouldn’t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n’t + 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us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n’t  + 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used to be a heavy smoker, used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didn’t  you 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1280" y="3213000"/>
            <a:ext cx="360360" cy="1152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8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4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7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0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90400" y="476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ought to                oughtn’t /shouldn’t +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ought to do something for him to overcome the difficulty, oughtn’t /shouldn’t w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n’t + S ?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可商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.m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n’t  + S ?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商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ust obey the traffic rules, mustn’t w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must hand in the homework today, needn’t  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般事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推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过去事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620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80000" y="1484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24360" y="206064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0920" y="1433520"/>
            <a:ext cx="144720" cy="627120"/>
          </a:xfrm>
          <a:custGeom>
            <a:avLst/>
            <a:gdLst>
              <a:gd name="textAreaLeft" fmla="*/ 92520 w 144720"/>
              <a:gd name="textAreaRight" fmla="*/ 145080 w 144720"/>
              <a:gd name="textAreaTop" fmla="*/ 16200 h 627120"/>
              <a:gd name="textAreaBottom" fmla="*/ 61092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5080" y="3284640"/>
            <a:ext cx="142920" cy="576000"/>
          </a:xfrm>
          <a:custGeom>
            <a:avLst/>
            <a:gdLst>
              <a:gd name="textAreaLeft" fmla="*/ 91440 w 142920"/>
              <a:gd name="textAreaRight" fmla="*/ 143280 w 14292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必然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肯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推测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否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问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肯定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/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般事实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否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问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/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She must be at home now,isn’t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I gave her a phone call just now and she answere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80000" y="292428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8000" y="1628640"/>
            <a:ext cx="287640" cy="10083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1052640"/>
            <a:ext cx="144360" cy="647640"/>
          </a:xfrm>
          <a:custGeom>
            <a:avLst/>
            <a:gdLst>
              <a:gd name="textAreaLeft" fmla="*/ 92160 w 144360"/>
              <a:gd name="textAreaRight" fmla="*/ 144360 w 144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276640"/>
            <a:ext cx="144360" cy="57600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3280" y="1052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7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3357720"/>
            <a:ext cx="144360" cy="934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ng xing zhong</cp:lastModifiedBy>
  <dcterms:modified xsi:type="dcterms:W3CDTF">2003-11-20T11:36:20Z</dcterms:modified>
  <cp:revision>51</cp:revision>
  <dc:subject/>
  <dc:title>PowerPoint Presentation</dc:title>
</cp:coreProperties>
</file>