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C2C-3F05-4D20-BCF2-099336DC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44C-4586-43EC-895D-D48E17C7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69A-07F2-4C5E-9658-D78673E2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466-059F-4197-A505-7ED95A23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E761C-1134-42B5-BAAB-BAB52078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1AD92-7A12-4BFD-ACF4-0DC626C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A4868-3B96-4DFD-B4D5-5C18C8F2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2D195-0B0E-4E46-B531-D8028858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B25C3-AB2D-44C0-9300-AC97EC91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075C6-E272-4013-AA00-C03F2E2A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73CE1-EDEF-4AE7-A1E6-7B0DE166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DC1-E397-4952-B225-E6E777F4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F12DE-5991-4AAA-9B95-BC8CE0BD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EAFEF-0836-4AB9-A107-BAB2B96B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4F429-46F6-4754-A443-E9FCA0BB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54EFC-49DE-4863-A38B-1814E60D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C806E-C4AE-4315-B1ED-54645F0C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311-2F0E-464D-9DED-BC6E95E5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FEB-7D51-45E9-8CED-F072A552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C9D-3AF7-4863-BF8B-3F1F0673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296-83A5-46B2-AFEC-6C9B5589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820-152E-4BEF-A265-65955747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A63-4702-421A-9FEF-BD3AD377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C48-59D0-4C22-9F2B-A40FA349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8497-C67A-4BFB-BA1C-06A23361C6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4E0B-8E40-48B0-A4C0-9DCA32150BA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75920"/>
            <a:ext cx="64008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状 语 从 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状语从句是用来修饰主句的谓   语动词，表示动作发生的时间，地点，原因，条件，行为方式，结果，程度，让步等等，以下对状语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一作介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it had not been raining for quite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ong time , that year was a dry 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弱，不表强烈的因果关系，即可在句首又可在后面，不是重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 her parents are music teachers, she is into music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a little fat as she is always e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/ was … that 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强调句型中，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/ Now that... 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只在句首，表众所周知的原因，“既然…，由于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the earth moves around the sun, we have four different seasons in a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everybody is here and everything is ready, let’s begin our mee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ow that you have already understood about it , I won’t say anything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for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在句首，表补充说明，“大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大约因为”，有“，” 与主句隔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pring has come, for flowers have come out these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have to say goodbye now, for it is 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ark out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条件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, as/so long as, unles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条件状语从句中，常常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 it is fine tomorrow, we shall go out for a picnic instead of staying in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So long as you work hard, you’re sure to pass next month’s exa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nless= if…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WTO cannot live up to its name unless it includes a country that is home to 1/5 of manki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You won’t succeed unless you work harder than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in ca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remember to bring the raincoat with yourself in case it rains this aftern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为方式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 are told/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’re at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六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果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that, in order 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rt off a little early so that you won’t miss the early b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My father had to go to work when he was very young in order to support the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七程度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…that, such…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so young this year that she can’t go to school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uch a gre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instein was                       scientist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great  a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received the world-wide respect and l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 so hot today that I have to stay inside.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30686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八让步状语从句：由以下句型构成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Although/Though…, (yet)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注意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but /how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/Though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 she was ill yesterday, she went to work, but she didn’t stay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Why do you prefer coffee tonight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Although it keeps me awake, I still prefer coffee to tea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However +          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owever cold it was that day, there were many people in the stre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still failed in the exam, however hard he tried. Lend him some help, will yo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…even if/ even though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won’t believe him even if/though he says  about it time and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69156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当让步状语从句所指的是一种假设的情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通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是用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everybody desert you, I wo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they might do and say somet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bout our plan, we won’t give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e will always stay all together though 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l happen to meet all kinds of difficu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多数情况下，两个词可通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97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97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97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97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97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97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97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97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时间状语从句：由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as soon as, the moment, immediately, while, as, every /each time, after, before, until, sinc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/As soon as/ The moment /Immediately she knows about the good news, she’ll be madly happy and exc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Every/Each time he comes back from abroad, he’ll find great changes in his hometown and be greatly encoura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).    v.       + as/ though…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hild as he is, he is so lea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ld as it was the other day, we ha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nd in the cold air, waiting for h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ry as/though she could,she didn’t pass       the examination last wee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981000"/>
            <a:ext cx="504720" cy="1800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Much as/though they have already lear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bout the war, there’s still something 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important for them to ma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at, who, who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5).                                 +-ever +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where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此句型不仅仅用来引导让步状语从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oever he is, he’ll be punished if he breaks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a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* Whoever breaks the law will be pun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184464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860640"/>
            <a:ext cx="71280" cy="115272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im 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don’t belie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, whom, w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).No matter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, where,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此句型仅仅用来引导让步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836640"/>
            <a:ext cx="142920" cy="129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6920" y="2637000"/>
            <a:ext cx="73080" cy="107928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o he is, he’ll be punished if he breaks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n’t believe him no matter  what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how I apologized to her, she wouldn’t forgive me for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ere you go in China now, you can find great changes everywhere have taken place in 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7. While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尽管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she is famous, she isn’t resp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as/so far as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根据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 So far as we know, there’re 107 ele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nts in n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765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时间状语从句中，用一般现在时表示将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个句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1) I was about to leave when the telephone r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 She was doing her cooking when she heard the clock strike twel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Hardly had I got home that day when it began to rain heav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用法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≈when/as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和持续动词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2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在句中，表鲜明的对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3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名词，意为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 short time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4)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连词，意为“趁… 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5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引导让步状语从句，意为“尽管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e.g. While staying in the countrysid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 learned a lot from the farm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*when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常和短暂动词连用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表示主句的谓语动词和从句谓语动词同时发生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, e.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270080"/>
            <a:ext cx="287280" cy="2303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hen I came in, I found she was surfing on the internet in her stu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s they were walking, they were telling each other sto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fairly pretty while I’m rather ug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ould you wait for me for a whi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trike the iron while it is h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not respected while she is famo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t will be months before we meet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Let’s have a good drink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用否定         时间状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v                                +unt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持续动词     用肯定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时间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didn’t go to bed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he                             until 10 last n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tayed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2060640"/>
            <a:ext cx="71280" cy="1224000"/>
          </a:xfrm>
          <a:custGeom>
            <a:avLst/>
            <a:gdLst>
              <a:gd name="textAreaLeft" fmla="*/ 45720 w 71280"/>
              <a:gd name="textAreaRight" fmla="*/ 71640 w 71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989000"/>
            <a:ext cx="71640" cy="13687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21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321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3789360"/>
            <a:ext cx="72720" cy="1297080"/>
          </a:xfrm>
          <a:custGeom>
            <a:avLst/>
            <a:gdLst>
              <a:gd name="textAreaLeft" fmla="*/ 46440 w 72720"/>
              <a:gd name="textAreaRight" fmla="*/ 73080 w 727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Since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的句型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s                                                    d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t        +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一段时间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+ since+ S1 + 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was                                                had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   正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持续动词         相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He works at a chemical plant; it is half a year since he was a college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134136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1341360"/>
            <a:ext cx="142920" cy="1008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3284640"/>
            <a:ext cx="71280" cy="93636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1080" y="328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gan to 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’s 3 years since he                         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i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地点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, wher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a will, there’s a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money, there’s the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ver you go in China, you can find great changes have taken place recen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ake marks where you’ve got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765000"/>
            <a:ext cx="142920" cy="115128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amboo can grow well where it is wet and wa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I live, there’re plenty of shee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原因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, as, Since/Now that, fo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表强烈的因果关系，既可在句首又可在后面，是重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couldn’t go on with her study because the family was too po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7:43:09Z</dcterms:created>
  <dc:creator>wang xing zhong</dc:creator>
  <dc:description/>
  <dc:language>en-US</dc:language>
  <cp:lastModifiedBy>wang xing zhong</cp:lastModifiedBy>
  <dcterms:modified xsi:type="dcterms:W3CDTF">2003-12-14T02:48:28Z</dcterms:modified>
  <cp:revision>69</cp:revision>
  <dc:subject/>
  <dc:title>状 语 从 句</dc:title>
</cp:coreProperties>
</file>