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FF6-8120-416E-AC99-B29365F5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01B-FF7A-465A-85CB-1170095E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323-F0B6-4E7F-AC77-9499BF7E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6A4-B8D0-42C6-9624-B3B5AB73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E00-6501-40D3-B3D4-F528FFD9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7B1-2813-47D9-9104-C4100E10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EF5-0AD6-4245-9DF3-3FC4D4C2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44F-B93F-4707-80EE-E56307E3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379-D317-45B0-ABCD-C6D4166C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58C-7EA7-4805-8903-5EC76AC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5DA-0AA9-411F-B4C4-352E0D09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95B-E869-4C08-9A0F-FCFF95E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EEC2-1B1D-4698-998E-C439C29519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考训练题非谓语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Mr. Smith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started to rea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ired; boring             B. tiring;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ired; bored              D. tiring;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riendship is like money: easier made th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ept                          B. to be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eeping                     D. being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—Wh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o the museum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’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go           B. don’g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oing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. English teacher encourages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us doing       B. u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our reading  D.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—Mr. Wilson is expected back at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have hi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hen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lling   B. call  C. to call  D.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—Is the radio disturbing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ertainly is, I’d lik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urning  B. to turn C. turned D.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Sorry! I’ve forgott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ett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osting          B. to hav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o post           D. that I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She is not wor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o get angr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etting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getting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o get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The woman lay on the bed, her f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ving covered  B. co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cover             D.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pace, the earth looks lik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plane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eeing              B. To s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een                 D. Having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.Do you m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ugg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e to make       B. my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r me to make  D. I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is apple juice-perhap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rying               B. T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try               D. Have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Lots of empty bottles were foun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man’s bed. He must ha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ink B. to drink  C. drinking D. d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busy in his garage, I said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call again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find               B. When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inding              D. As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. I bitterly regr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the stor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tell            B. to have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ld               D. having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. Gun-powder is generally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vent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ving invente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b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have been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 I’m consider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accept       B. acce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ept           D.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.The cloth won’t 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wash          B.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ashed          D. for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.It’s pay-day, and they’re waiting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r paying       B.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be paying   D. to hav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. —Will John come h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he finally decided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to be         B. not to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not to  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1064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There are three waiting-rooms in the new statio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out 1000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ating        B. 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eated        D.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finest skirt, the girl tri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hersel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essing; notic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ressed;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ressing; being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ressed; no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i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she lef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ething; to bu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nything; having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verything;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everything;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—Where should I send my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office is the pl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or sending it     B. to  send i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send              D. to se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e should at least answer wh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peaking           B. spok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poken to          D. speak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—What do you think made Mary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new motor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 she lost       B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Losing              D. Because of 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The wonderful time they have be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war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arr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d   B. have   C. has   D.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Is this the TV set which you wis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have it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repai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have repa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will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She came i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by a group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llowing         B.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follow          D.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 If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a high temperature, water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 turned into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eat  B. to heat  C. heating D. 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. The girl was sitting there,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de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lose  B. to lose  C. losing  D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is father had come, his face l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heard   B. When he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earing            D. When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. Do you know the bo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t the back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at   B. sit         C. seating D.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We’ve us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ountry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iving               B.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living          D. ha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His remarks left m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his rea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onder           B. wond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ondered       D. to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0:13:46Z</dcterms:created>
  <dc:creator>guest</dc:creator>
  <dc:description/>
  <dc:language>en-US</dc:language>
  <cp:lastModifiedBy>wang xing zhong</cp:lastModifiedBy>
  <dcterms:modified xsi:type="dcterms:W3CDTF">2003-12-23T02:00:44Z</dcterms:modified>
  <cp:revision>25</cp:revision>
  <dc:subject/>
  <dc:title>高考训练题非谓语动词</dc:title>
</cp:coreProperties>
</file>