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0.jpeg" ContentType="image/jpeg"/>
  <Override PartName="/ppt/media/image26.gif" ContentType="image/gif"/>
  <Override PartName="/ppt/media/image19.jpeg" ContentType="image/jpeg"/>
  <Override PartName="/ppt/media/image2.gif" ContentType="image/gif"/>
  <Override PartName="/ppt/media/image24.jpeg" ContentType="image/jpeg"/>
  <Override PartName="/ppt/media/image30.jpeg" ContentType="image/jpeg"/>
  <Override PartName="/ppt/media/image12.gif" ContentType="image/gif"/>
  <Override PartName="/ppt/media/image8.gif" ContentType="image/gif"/>
  <Override PartName="/ppt/media/image18.jpeg" ContentType="image/jpeg"/>
  <Override PartName="/ppt/media/image36.png" ContentType="image/png"/>
  <Override PartName="/ppt/media/image9.gif" ContentType="image/gif"/>
  <Override PartName="/ppt/media/image10.gif" ContentType="image/gif"/>
  <Override PartName="/ppt/media/image31.png" ContentType="image/png"/>
  <Override PartName="/ppt/media/image3.gif" ContentType="image/gif"/>
  <Override PartName="/ppt/media/image7.gif" ContentType="image/gif"/>
  <Override PartName="/ppt/media/image32.jpeg" ContentType="image/jpeg"/>
  <Override PartName="/ppt/media/image13.jpeg" ContentType="image/jpeg"/>
  <Override PartName="/ppt/media/image33.png" ContentType="image/png"/>
  <Override PartName="/ppt/media/image11.gif" ContentType="image/gif"/>
  <Override PartName="/ppt/media/image34.gif" ContentType="image/gif"/>
  <Override PartName="/ppt/media/image4.gif" ContentType="image/gif"/>
  <Override PartName="/ppt/media/image1.jpeg" ContentType="image/jpeg"/>
  <Override PartName="/ppt/media/image22.jpeg" ContentType="image/jpeg"/>
  <Override PartName="/ppt/media/image27.gif" ContentType="image/gif"/>
  <Override PartName="/ppt/media/image5.png" ContentType="image/png"/>
  <Override PartName="/ppt/media/image25.gif" ContentType="image/gif"/>
  <Override PartName="/ppt/media/image28.png" ContentType="image/png"/>
  <Override PartName="/ppt/media/image35.gif" ContentType="image/gif"/>
  <Override PartName="/ppt/media/image14.gif" ContentType="image/gif"/>
  <Override PartName="/ppt/media/image15.gif" ContentType="image/gif"/>
  <Override PartName="/ppt/media/image16.gif" ContentType="image/gif"/>
  <Override PartName="/ppt/media/image17.gif" ContentType="image/gif"/>
  <Override PartName="/ppt/media/image21.jpeg" ContentType="image/jpeg"/>
  <Override PartName="/ppt/media/image29.png" ContentType="image/png"/>
  <Override PartName="/ppt/media/image6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63A5-F90D-4EA1-9E4F-E0998860D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D541-FB05-46EA-8636-3708822A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9DFA-4955-4D6E-9791-52944F752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4EB0-FF90-44F8-8130-3FD701E96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993E-2715-4EE4-8FC3-31FB9957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E42E-A517-4276-9A4F-C32F3B3E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61F4-22E8-4474-ADC2-7B34F695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0AA1-1E38-4CEF-B367-D9952893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24B7-16B6-40A2-ABD9-39834E64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2F06-C245-449C-9DDD-47F1F383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6F39-923C-4122-94A3-58843CD5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2886-AC4C-499E-B941-4B3CAEAD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677A-9868-45D9-B7F1-92AF089770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35.gif"/><Relationship Id="rId3" Type="http://schemas.openxmlformats.org/officeDocument/2006/relationships/slide" Target="slide19.xml"/><Relationship Id="rId4" Type="http://schemas.openxmlformats.org/officeDocument/2006/relationships/image" Target="../media/image35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jpeg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image" Target="../media/image17.gif"/><Relationship Id="rId10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880" y="609480"/>
            <a:ext cx="4267440" cy="2775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Monotype Corsiva"/>
              </a:rPr>
              <a:t>Lesson 2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227640" y="5888160"/>
            <a:ext cx="2376720" cy="769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572000" y="690480"/>
            <a:ext cx="71280" cy="1284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95280" y="1989000"/>
            <a:ext cx="4248000" cy="71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95280" y="692280"/>
            <a:ext cx="71280" cy="1284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395280" y="620640"/>
            <a:ext cx="4248000" cy="71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920" y="2362320"/>
            <a:ext cx="51051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Dealing With W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85920" y="954000"/>
            <a:ext cx="3600360" cy="4564080"/>
          </a:xfrm>
          <a:prstGeom prst="rect">
            <a:avLst/>
          </a:prstGeom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446720" y="2274840"/>
            <a:ext cx="3740040" cy="3797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31" name=""/>
          <p:cNvSpPr/>
          <p:nvPr/>
        </p:nvSpPr>
        <p:spPr>
          <a:xfrm>
            <a:off x="4211640" y="954000"/>
            <a:ext cx="45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Nuclear 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69120" y="5678640"/>
            <a:ext cx="21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库尔斯克”沉船核泄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6248520"/>
            <a:ext cx="27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核电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380880"/>
            <a:ext cx="9144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tep 3 Read the second part of the tex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ind out the answers to the two ques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Why is rubbish a problem in western countr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Why is rubbish becoming a problem in Chin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51460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, large areas of land must be found where the rubbish can be put; second, energy is wasted producing goods which are thrown a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952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, many lakes and rivers are polluted by the wastes from factories; second, as the wealth of the country increases, more waste will be produ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751280" y="1042920"/>
            <a:ext cx="3961080" cy="5130720"/>
          </a:xfrm>
          <a:prstGeom prst="rect">
            <a:avLst/>
          </a:prstGeom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85920" y="2079720"/>
            <a:ext cx="4095720" cy="3932280"/>
          </a:xfrm>
          <a:prstGeom prst="rect">
            <a:avLst/>
          </a:prstGeom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39" name=""/>
          <p:cNvSpPr/>
          <p:nvPr/>
        </p:nvSpPr>
        <p:spPr>
          <a:xfrm>
            <a:off x="431640" y="907920"/>
            <a:ext cx="48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ite pol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an you imagine how much waste is thrown away in China every year?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41440" y="2178000"/>
          <a:ext cx="8069040" cy="4049640"/>
        </p:xfrm>
        <a:graphic>
          <a:graphicData uri="http://schemas.openxmlformats.org/drawingml/2006/table">
            <a:tbl>
              <a:tblPr/>
              <a:tblGrid>
                <a:gridCol w="1941480"/>
                <a:gridCol w="2989080"/>
                <a:gridCol w="3138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BRIT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CH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C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7 b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7 x 22 b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Pla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0.7 million 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million 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Me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0.4 billion 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million 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Fo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o.63 million 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million 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Gl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1.05 million 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million 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The paper from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84 mill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bill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10528200" y="4659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16640" y="3249720"/>
            <a:ext cx="10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5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51640" y="37339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8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27720" y="4267080"/>
            <a:ext cx="14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3.8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62720" y="48006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23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27720" y="5334120"/>
            <a:ext cx="173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,84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2286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istening to the tape and choose the best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14479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. From Paragraph 3 we can see that the best thing to do when throwing waste into the sea is to 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3505320"/>
            <a:ext cx="73915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Go at least 5 kilometres from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Go at least 19 kilometres from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Go at least 40 kilometres from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Go as far away as possible from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D" descr=""/>
          <p:cNvPicPr/>
          <p:nvPr/>
        </p:nvPicPr>
        <p:blipFill>
          <a:blip r:embed="rId1"/>
          <a:stretch/>
        </p:blipFill>
        <p:spPr>
          <a:xfrm>
            <a:off x="7238880" y="2590920"/>
            <a:ext cx="10400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8600" y="914400"/>
            <a:ext cx="845820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. People throw dangerous waste into the deep sea NOT because of 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he very little life at the bottom of the oc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he very little movement at the bottom of the oc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he escape of the dangerous chemicals from their contain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he safety of fish at the upper level of the oce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C" descr=""/>
          <p:cNvPicPr/>
          <p:nvPr/>
        </p:nvPicPr>
        <p:blipFill>
          <a:blip r:embed="rId1"/>
          <a:stretch/>
        </p:blipFill>
        <p:spPr>
          <a:xfrm>
            <a:off x="7848720" y="1371600"/>
            <a:ext cx="9255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5800" y="1523880"/>
            <a:ext cx="807732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3. Which of the problems caused by city rubbish is mentioned in the tex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he pollution of a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he pollution of water resour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he pollution of so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he waste of ener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D" descr=""/>
          <p:cNvPicPr/>
          <p:nvPr/>
        </p:nvPicPr>
        <p:blipFill>
          <a:blip r:embed="rId1"/>
          <a:stretch/>
        </p:blipFill>
        <p:spPr>
          <a:xfrm>
            <a:off x="6861240" y="2514600"/>
            <a:ext cx="11127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33520" y="5335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Which of the following statements would you agree to about city rubbish in China to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1981080"/>
            <a:ext cx="769608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bbish is not a big problem in Ch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big cities in China don’t have such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bbish problem is going to be one of the biggest problems in Ch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ty rubbish is already one of the biggest environmental problems in Ch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D" descr=""/>
          <p:cNvPicPr/>
          <p:nvPr/>
        </p:nvPicPr>
        <p:blipFill>
          <a:blip r:embed="rId1"/>
          <a:stretch/>
        </p:blipFill>
        <p:spPr>
          <a:xfrm>
            <a:off x="7848720" y="1752480"/>
            <a:ext cx="1039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04920" y="5335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5. What conclusion may you come to from the last paragrap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1676520"/>
            <a:ext cx="82296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If China had as much rubbish as Britain, we would be in great trou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China had as much rubbish as Britain, people’s life would be greatly endangered by rubbish mounta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If China had as much rubbish as Britain, many big cities in China would likely be surrounded by or buried in rubbis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of the ab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D" descr=""/>
          <p:cNvPicPr/>
          <p:nvPr/>
        </p:nvPicPr>
        <p:blipFill>
          <a:blip r:embed="rId1"/>
          <a:stretch/>
        </p:blipFill>
        <p:spPr>
          <a:xfrm>
            <a:off x="8075520" y="1066680"/>
            <a:ext cx="10684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09480" y="380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 Which of the following is the right meaning of “treat” in the tex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828800"/>
            <a:ext cx="769608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f you treat someone in a particular way, you behave that way towards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treat something in a particular way is to deal with it that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o give someone a treat is to buy something special for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doctor treats a patient, he/she tries to make the patient well ag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B" descr=""/>
          <p:cNvPicPr/>
          <p:nvPr/>
        </p:nvPicPr>
        <p:blipFill>
          <a:blip r:embed="rId1"/>
          <a:stretch/>
        </p:blipFill>
        <p:spPr>
          <a:xfrm>
            <a:off x="6324480" y="914400"/>
            <a:ext cx="993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38240" y="17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81280" y="3124080"/>
            <a:ext cx="327672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rid of (rubbis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3048120"/>
            <a:ext cx="220968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k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6202440"/>
            <a:ext cx="175248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w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6172200"/>
            <a:ext cx="167616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871560"/>
            <a:ext cx="9144000" cy="520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1447920"/>
            <a:ext cx="9144000" cy="50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ow shall we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deal wit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the probl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man is hard to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deal wit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hat is the best way of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dealing wit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the thiev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is book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deals wit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problems of  pol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made a speech at the conference,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dealing wit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olk mus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)I don't know ________to deal with such a problem.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)I don't know ________to do with such a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5440" y="76320"/>
            <a:ext cx="7634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Language poi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. deal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>
            <a:lum bright="-24000"/>
          </a:blip>
          <a:stretch/>
        </p:blipFill>
        <p:spPr>
          <a:xfrm>
            <a:off x="0" y="6524640"/>
            <a:ext cx="8961480" cy="333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590920" y="48769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600" y="5410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00000" y="981000"/>
            <a:ext cx="295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617400"/>
            <a:ext cx="8915400" cy="77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ow to get rid of waste is a great probl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for the world today.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疑问词 ＋ 不定式”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When to start for Shangha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is not yet deci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Where to store the wast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is still a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She didn’t know what to do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注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get rid of,  deal with,  do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get rid of </a:t>
            </a: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表示“处理”，侧重“消灭；摆脱或清除”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deal with </a:t>
            </a: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和 </a:t>
            </a: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do with </a:t>
            </a: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侧重“处理”的手段、方法或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50920" y="533520"/>
            <a:ext cx="8642160" cy="68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3. get rid of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排除；摆脱；处理掉，去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to throw away something you do not want or use any mor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You must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get rid of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all your worries and have a good res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ow can I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get rid of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the pain in the le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e shall have to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get rid of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these old picture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t took me a month to get rid of my coug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had to get rid of my assistant because he was always 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609480"/>
            <a:ext cx="914400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In many countries with sea coasts, human waste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iped directly into the sea without being treat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介词短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with sea coast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ountrie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定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带有”</a:t>
            </a: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,“</a:t>
            </a: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具有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意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中国是一个历史悠久的大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China is a large country 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with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a long histo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28600" y="380880"/>
            <a:ext cx="9144000" cy="72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4. without + -ing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被动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e left the classroom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without being permitte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e walked away from home on a dark night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without being see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e was lucky; he escaped from the burning house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without being injure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o you think we’ll get a seat without having to que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6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squirrel was lucky that it just missed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 catching                  B.to be cau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. being caught           D.to c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6019920"/>
            <a:ext cx="380880" cy="533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280" y="380880"/>
            <a:ext cx="9099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. I heard the terrible sound of ____ last nigh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 door's shutt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. the door being shu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. the door's being shu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. the door being sh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4038480"/>
            <a:ext cx="914400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5. break up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驱散；打碎，拆散；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ship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was broken u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on the r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entences can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be broken u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into clauses, and clauses into phr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3276720"/>
            <a:ext cx="533520" cy="6094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380880"/>
            <a:ext cx="9144000" cy="68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. break up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驱散”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=scatter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，“打碎、拆散”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=separate or become separated into parts by breaking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Jim started to break the ice up on the frozen la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war broke up a lot of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old car was broken up for their pa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The old cars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were broken dow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for their pa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police came and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broke u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the crow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228600"/>
            <a:ext cx="9144000" cy="63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3. break dow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A) stop working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坏了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We are sorry to arrive late, but the car broke dow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B) change chemically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分解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After many years, rocks are broken down into dir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C) to become mentally or physically ill: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精神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身体崩溃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66"/>
                </a:solidFill>
                <a:latin typeface="Times New Roman"/>
              </a:rPr>
              <a:t>            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If Tim carries on working like this, he'll break down sooner or lat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She broke down after her husband died in an accident</a:t>
            </a:r>
            <a:r>
              <a:rPr b="0" lang="zh-CN" sz="30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304920"/>
            <a:ext cx="9144000" cy="64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. stop sb. (from) doing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prevent / stop … (from) doing sth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= keep …from doing st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We all tried to 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stop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him (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from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) smoking in bed, but he would still do i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protect sb/sth from /against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The city's defenses were strong enough to protect it against attack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8. be against   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违反，违背；反对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be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Lily married John. It 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was against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her mother’s wish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Are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you 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for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the decision or 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against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it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24000" y="333360"/>
            <a:ext cx="864216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9. depend on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靠 … 决定；取决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The price 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depends on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the quali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Your success 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depends on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your effor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828800" y="914400"/>
            <a:ext cx="5257800" cy="3886200"/>
            <a:chOff x="1828800" y="914400"/>
            <a:chExt cx="5257800" cy="3886200"/>
          </a:xfrm>
        </p:grpSpPr>
        <p:sp>
          <p:nvSpPr>
            <p:cNvPr id="56" name=""/>
            <p:cNvSpPr/>
            <p:nvPr/>
          </p:nvSpPr>
          <p:spPr>
            <a:xfrm>
              <a:off x="2199960" y="914400"/>
              <a:ext cx="4644360" cy="3886200"/>
            </a:xfrm>
            <a:prstGeom prst="flowChar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99960" y="914400"/>
              <a:ext cx="4644360" cy="388620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99960" y="914400"/>
              <a:ext cx="4644360" cy="3886200"/>
            </a:xfrm>
            <a:prstGeom prst="ellipse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965040" y="914400"/>
              <a:ext cx="557280" cy="388620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22000" y="957600"/>
              <a:ext cx="1300320" cy="384300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618280" y="957600"/>
              <a:ext cx="1904400" cy="384300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4522680" y="914400"/>
              <a:ext cx="603360" cy="388620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4521960" y="914400"/>
              <a:ext cx="1253880" cy="388620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4522680" y="957600"/>
              <a:ext cx="1857600" cy="379980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93520" y="1086840"/>
              <a:ext cx="1811160" cy="21564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50480" y="1518840"/>
              <a:ext cx="3344040" cy="30204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86080" y="2080080"/>
              <a:ext cx="4272840" cy="30204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2386080" y="3331440"/>
              <a:ext cx="4272840" cy="30204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850480" y="3893040"/>
              <a:ext cx="3297240" cy="30204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3547080" y="4411080"/>
              <a:ext cx="1904040" cy="17244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850480" y="2296080"/>
              <a:ext cx="1486080" cy="604440"/>
            </a:xfrm>
            <a:prstGeom prst="blockArc">
              <a:avLst>
                <a:gd name="adj1" fmla="val 10072928"/>
                <a:gd name="adj2" fmla="val 727072"/>
                <a:gd name="adj3" fmla="val 2353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754520" y="2339280"/>
              <a:ext cx="1439640" cy="6044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3686400" y="3331440"/>
              <a:ext cx="1625400" cy="7772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185动态图标" descr=""/>
            <p:cNvPicPr/>
            <p:nvPr/>
          </p:nvPicPr>
          <p:blipFill>
            <a:blip r:embed="rId1"/>
            <a:stretch/>
          </p:blipFill>
          <p:spPr>
            <a:xfrm>
              <a:off x="1828800" y="3375720"/>
              <a:ext cx="752760" cy="11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185动态图标" descr=""/>
            <p:cNvPicPr/>
            <p:nvPr/>
          </p:nvPicPr>
          <p:blipFill>
            <a:blip r:embed="rId2"/>
            <a:stretch/>
          </p:blipFill>
          <p:spPr>
            <a:xfrm>
              <a:off x="6356160" y="3850560"/>
              <a:ext cx="730440" cy="77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185动态图标" descr=""/>
            <p:cNvPicPr/>
            <p:nvPr/>
          </p:nvPicPr>
          <p:blipFill>
            <a:blip r:embed="rId3"/>
            <a:stretch/>
          </p:blipFill>
          <p:spPr>
            <a:xfrm>
              <a:off x="6287400" y="1346040"/>
              <a:ext cx="75276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187动态图标" descr=""/>
            <p:cNvPicPr/>
            <p:nvPr/>
          </p:nvPicPr>
          <p:blipFill>
            <a:blip r:embed="rId4"/>
            <a:stretch/>
          </p:blipFill>
          <p:spPr>
            <a:xfrm>
              <a:off x="2060640" y="1518840"/>
              <a:ext cx="522360" cy="48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"/>
          <p:cNvSpPr/>
          <p:nvPr/>
        </p:nvSpPr>
        <p:spPr>
          <a:xfrm>
            <a:off x="1219320" y="548640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The earth used to be happ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89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290520"/>
            <a:ext cx="9144000" cy="72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0. seek to do sth.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A) to try; to make an attem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【较正式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t was no use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seeking t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make peace between the two countri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sought t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change her mind but she ref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另：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seek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B) look for something that you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ost men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see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wealth; all men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see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happi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You should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see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advice from your teacher on this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sought an answe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to the question, but couldn't find 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80" y="4629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76040" y="1341000"/>
            <a:ext cx="526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It + be +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时间段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+ before +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从句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   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过了…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时间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才…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3598920" y="2850480"/>
            <a:ext cx="1126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                               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It was a long time before I got to sleep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                                         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It was not long before they left their village to 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their fortune in the sou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80120" y="23288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看下面的例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3284640"/>
            <a:ext cx="3529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4005360"/>
            <a:ext cx="3097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34480" y="407592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久就…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62120" y="3212280"/>
            <a:ext cx="18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很久才…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304920"/>
            <a:ext cx="9144000" cy="62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t will be many years before the chemicals start to escape from the contain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It + be / take + 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时间 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+ before ***  "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过了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*** 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以后，才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***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t was a long time before I felt asleep ag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t will take several weeks before everything returns to norm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句型：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It is not long before ***  "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不久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*** 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就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***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t was not long before they finished their task ahead of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544680"/>
            <a:ext cx="9144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be active in (doing) sth:  take an active part in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's very active in local polit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he's been active in raising money for the new church  build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28600" y="45684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ultiply the total for Britain by 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把英国的总量乘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2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2240" y="1523160"/>
            <a:ext cx="507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multiply A by B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乘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2400" y="2286000"/>
            <a:ext cx="607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Multiplied by B is / equals 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46600" y="4037760"/>
            <a:ext cx="668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ive multiplied by six is / equals thir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6720" y="3200400"/>
            <a:ext cx="353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翻译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5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乘以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6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等于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79280" y="4765680"/>
            <a:ext cx="7488360" cy="20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6200" y="4861080"/>
            <a:ext cx="14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02904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e02904"/>
                </a:solidFill>
                <a:latin typeface="Arial"/>
              </a:rPr>
              <a:t>乘以</a:t>
            </a:r>
            <a:r>
              <a:rPr b="1" lang="zh-CN" sz="3600" spc="-1" strike="noStrike">
                <a:solidFill>
                  <a:srgbClr val="e02904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7360" y="5702400"/>
            <a:ext cx="18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02904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e02904"/>
                </a:solidFill>
                <a:latin typeface="Arial"/>
              </a:rPr>
              <a:t>和</a:t>
            </a:r>
            <a:r>
              <a:rPr b="1" lang="zh-CN" sz="3600" spc="-1" strike="noStrike">
                <a:solidFill>
                  <a:srgbClr val="e02904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e02904"/>
                </a:solidFill>
                <a:latin typeface="Arial"/>
              </a:rPr>
              <a:t>相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342520" y="4807080"/>
            <a:ext cx="33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ply 5 by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76360" y="5662440"/>
            <a:ext cx="36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ply 5 and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152280"/>
            <a:ext cx="914400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Dealing with wa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Waste must be_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 so that it does no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a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life.(paragraph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When this river final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a, 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ocean. (paragraph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Human waste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rect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s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 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(paragraph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It is n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law to throw anyth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o the sea_______5 kilometers of land. (paragraph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9880" y="8683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76520" y="15238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a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23162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32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oll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62520" y="37339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ip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77120" y="3809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452592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eing  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5120" y="594360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ith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3200" y="52578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gain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380880"/>
            <a:ext cx="9144000" cy="82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They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duce waste, protect the earth, 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life in them. (paragraph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e throw-away socie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Th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ny problems.  (paragraph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This is a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blem for large cities. (paragraph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In China,rubbish,such as_____ plastic bags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xes known as “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lution”. (paragraph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111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ee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0666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c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90920" y="10666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81080" y="3276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39625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arti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57800" y="4724280"/>
            <a:ext cx="99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76720" y="597384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h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1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914400" y="3048120"/>
            <a:ext cx="4876920" cy="916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经典空叠圆简"/>
                <a:ea typeface="经典空叠圆简"/>
              </a:rPr>
              <a:t>Lesson 2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938240" y="17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6324480" y="6172200"/>
            <a:ext cx="243864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ycle, re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3824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676520" y="2666880"/>
            <a:ext cx="160020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76920" y="2895480"/>
            <a:ext cx="251460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over(fo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43000" y="6049800"/>
            <a:ext cx="205740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rubber ty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6019920"/>
            <a:ext cx="114300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2057400" y="1066680"/>
            <a:ext cx="5486040" cy="3733920"/>
            <a:chOff x="2057400" y="1066680"/>
            <a:chExt cx="5486040" cy="3733920"/>
          </a:xfrm>
        </p:grpSpPr>
        <p:sp>
          <p:nvSpPr>
            <p:cNvPr id="80" name=""/>
            <p:cNvSpPr/>
            <p:nvPr/>
          </p:nvSpPr>
          <p:spPr>
            <a:xfrm>
              <a:off x="2204280" y="1066680"/>
              <a:ext cx="4898520" cy="3733920"/>
            </a:xfrm>
            <a:prstGeom prst="flowChar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04280" y="1066680"/>
              <a:ext cx="4898520" cy="373392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04280" y="1066680"/>
              <a:ext cx="4898520" cy="3733920"/>
            </a:xfrm>
            <a:prstGeom prst="ellipse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65840" y="1066680"/>
              <a:ext cx="587520" cy="373392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282120" y="1108080"/>
              <a:ext cx="1371600" cy="369252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44920" y="1108080"/>
              <a:ext cx="2008440" cy="369252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4653720" y="1066680"/>
              <a:ext cx="636480" cy="373392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4653000" y="1066680"/>
              <a:ext cx="1322280" cy="373392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4653720" y="1108080"/>
              <a:ext cx="1959120" cy="365076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673800" y="1232640"/>
              <a:ext cx="1910160" cy="20736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90080" y="1647360"/>
              <a:ext cx="3526920" cy="29016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00120" y="2186640"/>
              <a:ext cx="4506480" cy="29016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2400120" y="3389760"/>
              <a:ext cx="4506480" cy="29016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2890080" y="3887640"/>
              <a:ext cx="3526920" cy="33192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3624840" y="4426560"/>
              <a:ext cx="2008080" cy="16596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2939040" y="2062080"/>
              <a:ext cx="1567440" cy="622080"/>
            </a:xfrm>
            <a:prstGeom prst="blockArc">
              <a:avLst>
                <a:gd name="adj1" fmla="val 10072928"/>
                <a:gd name="adj2" fmla="val 727072"/>
                <a:gd name="adj3" fmla="val 2353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4849560" y="2020680"/>
              <a:ext cx="1518480" cy="6220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722760" y="3763440"/>
              <a:ext cx="1763280" cy="746640"/>
            </a:xfrm>
            <a:prstGeom prst="blockArc">
              <a:avLst>
                <a:gd name="adj1" fmla="val 11143480"/>
                <a:gd name="adj2" fmla="val 21256520"/>
                <a:gd name="adj3" fmla="val 25634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73人物" descr=""/>
            <p:cNvPicPr/>
            <p:nvPr/>
          </p:nvPicPr>
          <p:blipFill>
            <a:blip r:embed="rId1"/>
            <a:stretch/>
          </p:blipFill>
          <p:spPr>
            <a:xfrm>
              <a:off x="2057400" y="4136760"/>
              <a:ext cx="636840" cy="5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26动态图标" descr=""/>
            <p:cNvPicPr/>
            <p:nvPr/>
          </p:nvPicPr>
          <p:blipFill>
            <a:blip r:embed="rId2"/>
            <a:stretch/>
          </p:blipFill>
          <p:spPr>
            <a:xfrm>
              <a:off x="2057400" y="3763440"/>
              <a:ext cx="53892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185动态图标" descr=""/>
            <p:cNvPicPr/>
            <p:nvPr/>
          </p:nvPicPr>
          <p:blipFill>
            <a:blip r:embed="rId3"/>
            <a:stretch/>
          </p:blipFill>
          <p:spPr>
            <a:xfrm>
              <a:off x="6858000" y="3597480"/>
              <a:ext cx="685440" cy="12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185动态图标" descr=""/>
            <p:cNvPicPr/>
            <p:nvPr/>
          </p:nvPicPr>
          <p:blipFill>
            <a:blip r:embed="rId4"/>
            <a:stretch/>
          </p:blipFill>
          <p:spPr>
            <a:xfrm>
              <a:off x="6514920" y="1440000"/>
              <a:ext cx="1028520" cy="87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"/>
          <p:cNvSpPr/>
          <p:nvPr/>
        </p:nvSpPr>
        <p:spPr>
          <a:xfrm>
            <a:off x="380880" y="4572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She is sad n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5257800"/>
            <a:ext cx="8229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y  is she sad 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80880" y="3049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Reading comprehen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106668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. Which one suits the meaning of “sort” in Paragraph 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2133720"/>
            <a:ext cx="7925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 If you sort things, you separate them into different classes, groups, or places, so that you can arrange them in a useful or sensible 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3581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. A sort is a group or class of persons or things which are alike in some 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46483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. You describe someone as a particular sort when you are describing their charac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57150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. If you are out of sorts, you feel slightly unw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A" descr=""/>
          <p:cNvPicPr/>
          <p:nvPr/>
        </p:nvPicPr>
        <p:blipFill>
          <a:blip r:embed="rId1"/>
          <a:stretch/>
        </p:blipFill>
        <p:spPr>
          <a:xfrm>
            <a:off x="7238880" y="1295280"/>
            <a:ext cx="94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914400" y="60948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2. When talking about recycling, what is NOT mention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14400" y="1600200"/>
            <a:ext cx="76201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ld newspapers    B. glass and me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. Leftover food       D. old furniture an clot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D" descr=""/>
          <p:cNvPicPr/>
          <p:nvPr/>
        </p:nvPicPr>
        <p:blipFill>
          <a:blip r:embed="rId1"/>
          <a:stretch/>
        </p:blipFill>
        <p:spPr>
          <a:xfrm>
            <a:off x="7391520" y="1066680"/>
            <a:ext cx="1039680" cy="9144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838080" y="33526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3. In which of the following cities are you likely to see separate-collection of rubbis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4495680"/>
            <a:ext cx="7620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York.            B. Pari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. Beijing                D. all of the abo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D" descr=""/>
          <p:cNvPicPr/>
          <p:nvPr/>
        </p:nvPicPr>
        <p:blipFill>
          <a:blip r:embed="rId2"/>
          <a:stretch/>
        </p:blipFill>
        <p:spPr>
          <a:xfrm>
            <a:off x="7162920" y="4114800"/>
            <a:ext cx="1039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85800" y="838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4. According to the last paragraph, 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2120" y="1752480"/>
            <a:ext cx="800100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the bigger a country is, the more rubbish it ma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.a smaller country certainly makes less rubbis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.the richer a country is, the more rubbish it ma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. China makes little rubbish because everything here is used tw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C" descr=""/>
          <p:cNvPicPr/>
          <p:nvPr/>
        </p:nvPicPr>
        <p:blipFill>
          <a:blip r:embed="rId1"/>
          <a:stretch/>
        </p:blipFill>
        <p:spPr>
          <a:xfrm>
            <a:off x="6400800" y="5105520"/>
            <a:ext cx="9255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85800" y="6858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5. Which of the following have you ever tried to do to help reduce rubbish/was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1905120"/>
            <a:ext cx="769644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take more food than necessary so as not to have leftov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e on both sides of pa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old books and newspapers to  have them recycled in facto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f the abo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D" descr=""/>
          <p:cNvPicPr/>
          <p:nvPr/>
        </p:nvPicPr>
        <p:blipFill>
          <a:blip r:embed="rId1"/>
          <a:stretch/>
        </p:blipFill>
        <p:spPr>
          <a:xfrm>
            <a:off x="5943600" y="4572000"/>
            <a:ext cx="1039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749160" y="958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0800" y="457200"/>
            <a:ext cx="310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. mountain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6440" y="1066680"/>
            <a:ext cx="281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2904"/>
                </a:solidFill>
                <a:latin typeface="Arial"/>
              </a:rPr>
              <a:t>= a mountain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41680" y="380880"/>
            <a:ext cx="20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山的，大量的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2302200" y="1744560"/>
            <a:ext cx="1098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have a mountain of work to 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untains of clothes need washing and iro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10040" y="2176560"/>
            <a:ext cx="863640" cy="0"/>
          </a:xfrm>
          <a:prstGeom prst="line">
            <a:avLst/>
          </a:prstGeom>
          <a:ln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86040" y="2610000"/>
            <a:ext cx="1224000" cy="0"/>
          </a:xfrm>
          <a:prstGeom prst="line">
            <a:avLst/>
          </a:prstGeom>
          <a:ln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76520" y="3733920"/>
            <a:ext cx="5688000" cy="1441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02904"/>
                </a:solidFill>
                <a:latin typeface="Arial"/>
              </a:rPr>
              <a:t>其后可接可数或不可数名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228600"/>
            <a:ext cx="9144000" cy="74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tep III. Fill in blanks. L 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European countries are now making an acti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terials more than they us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(paragraph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Materials are collected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again. (paragraph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In many cities in Europe rubbish is collected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(paragraph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However, n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ry can save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vironmen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(the last paragrap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14479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52480" y="14479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229600" y="14479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29200" y="26668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or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400800" y="26668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6320" y="483084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epa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29000" y="5562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in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14600" y="62485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l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52280" y="476280"/>
            <a:ext cx="9144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t one time                                make an effort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top sb/sth (from)doing            shut down---c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 against  (Opp: be for)          re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epend on                                  left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ight against                    at birth—from the time when one was bo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nvironment                              by birth---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生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2280" y="3828960"/>
            <a:ext cx="9144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t will be many year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the chemicals start to escape from the contai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is unlikely tha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the chemicals will be carried upwards into the water where fish are f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ther waste may be thrown the sea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ending o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the nature of the materials.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which depends o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th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709560"/>
            <a:ext cx="914400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defen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指“保卫”、“防御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应用范围很广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对象可以是具体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也可以是抽象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;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以行动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语言或文字替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.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辩护或答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defend oneself against enemy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防御敌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guard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指“注意观察、戒备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以免受可能的攻击或伤害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guard a coas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守卫海岸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protect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指“保护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.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以免遭受危险或伤害等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rotect the children from h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保护儿童免受伤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68580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404640"/>
            <a:ext cx="91440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more than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比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更多的；更大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 want to have a good rest more than anything el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现在最想的是好好休息一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other than---except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除了…，除…之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re's nobody here other than me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除了我这里没别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ou can't get there other than by swimm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只能靠游泳游到那边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rather than---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不是别的而是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nglish is taught in our school rather than Russi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们学校教的是英语而不是俄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>
            <a:hlinkClick r:id="rId1" action="ppaction://hlinksldjump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39204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Exerci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dam was built in time to ______the villagers from the flood.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fend     B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otect    C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pend    D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or Clarissa wanted nothing ______ to have someone to talk to .   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ather than                      B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re th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tter than                       D .other tha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0118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14600" y="25146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80" name="0118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638680" y="5181480"/>
            <a:ext cx="28584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0" y="0"/>
            <a:ext cx="9143280" cy="6629040"/>
            <a:chOff x="0" y="0"/>
            <a:chExt cx="9143280" cy="6629040"/>
          </a:xfrm>
        </p:grpSpPr>
        <p:pic>
          <p:nvPicPr>
            <p:cNvPr id="106" name="1-25" descr=""/>
            <p:cNvPicPr/>
            <p:nvPr/>
          </p:nvPicPr>
          <p:blipFill>
            <a:blip r:embed="rId1"/>
            <a:stretch/>
          </p:blipFill>
          <p:spPr>
            <a:xfrm>
              <a:off x="4733280" y="3560400"/>
              <a:ext cx="4410000" cy="306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banner02" descr=""/>
            <p:cNvPicPr/>
            <p:nvPr/>
          </p:nvPicPr>
          <p:blipFill>
            <a:blip r:embed="rId2">
              <a:lum bright="10000"/>
            </a:blip>
            <a:stretch/>
          </p:blipFill>
          <p:spPr>
            <a:xfrm>
              <a:off x="0" y="0"/>
              <a:ext cx="4733280" cy="343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wrkl" descr=""/>
            <p:cNvPicPr/>
            <p:nvPr/>
          </p:nvPicPr>
          <p:blipFill>
            <a:blip r:embed="rId3"/>
            <a:stretch/>
          </p:blipFill>
          <p:spPr>
            <a:xfrm>
              <a:off x="4733280" y="0"/>
              <a:ext cx="4410000" cy="343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78" descr=""/>
            <p:cNvPicPr/>
            <p:nvPr/>
          </p:nvPicPr>
          <p:blipFill>
            <a:blip r:embed="rId4"/>
            <a:stretch/>
          </p:blipFill>
          <p:spPr>
            <a:xfrm>
              <a:off x="0" y="3560400"/>
              <a:ext cx="4733280" cy="306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280" descr=""/>
            <p:cNvPicPr/>
            <p:nvPr/>
          </p:nvPicPr>
          <p:blipFill>
            <a:blip r:embed="rId5"/>
            <a:stretch/>
          </p:blipFill>
          <p:spPr>
            <a:xfrm>
              <a:off x="215280" y="4296960"/>
              <a:ext cx="1758600" cy="150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ao" descr=""/>
            <p:cNvPicPr/>
            <p:nvPr/>
          </p:nvPicPr>
          <p:blipFill>
            <a:blip r:embed="rId6"/>
            <a:stretch/>
          </p:blipFill>
          <p:spPr>
            <a:xfrm>
              <a:off x="3872520" y="3805560"/>
              <a:ext cx="538200" cy="196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270" descr=""/>
            <p:cNvPicPr/>
            <p:nvPr/>
          </p:nvPicPr>
          <p:blipFill>
            <a:blip r:embed="rId7"/>
            <a:stretch/>
          </p:blipFill>
          <p:spPr>
            <a:xfrm>
              <a:off x="1936080" y="5278680"/>
              <a:ext cx="860760" cy="49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270" descr=""/>
            <p:cNvPicPr/>
            <p:nvPr/>
          </p:nvPicPr>
          <p:blipFill>
            <a:blip r:embed="rId8"/>
            <a:stretch/>
          </p:blipFill>
          <p:spPr>
            <a:xfrm>
              <a:off x="2259000" y="4419360"/>
              <a:ext cx="860760" cy="49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260" descr=""/>
            <p:cNvPicPr/>
            <p:nvPr/>
          </p:nvPicPr>
          <p:blipFill>
            <a:blip r:embed="rId9"/>
            <a:stretch/>
          </p:blipFill>
          <p:spPr>
            <a:xfrm>
              <a:off x="1506240" y="3560400"/>
              <a:ext cx="860400" cy="1226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457200"/>
            <a:ext cx="9144000" cy="72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Frederick once stated, “French science does not want to have anything to do with atomic research _____for  peace.                                                             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more than                       B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rather th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other than                       D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less th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great deal of ______was done to crops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damages                B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hurt       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damage                 D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ru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0118" descr=""/>
          <p:cNvPicPr/>
          <p:nvPr/>
        </p:nvPicPr>
        <p:blipFill>
          <a:blip r:embed="rId1"/>
          <a:stretch/>
        </p:blipFill>
        <p:spPr>
          <a:xfrm>
            <a:off x="152280" y="35812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83" name="0118" descr=""/>
          <p:cNvPicPr/>
          <p:nvPr/>
        </p:nvPicPr>
        <p:blipFill>
          <a:blip r:embed="rId2"/>
          <a:stretch/>
        </p:blipFill>
        <p:spPr>
          <a:xfrm>
            <a:off x="685800" y="6477120"/>
            <a:ext cx="28584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52280" y="182520"/>
            <a:ext cx="9144000" cy="67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I sent invitations to 80 people, ______have replied.    </a:t>
            </a:r>
            <a:r>
              <a:rPr b="1" lang="zh-CN" sz="3000" spc="-1" strike="noStrike">
                <a:solidFill>
                  <a:srgbClr val="006600"/>
                </a:solidFill>
                <a:latin typeface="Times New Roman"/>
              </a:rPr>
              <a:t>          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of whom only 20 of these       B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only 20 of these who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of whom only 20                    D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only 20 who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I must remember______ John that the garden needs ______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reminding; watering            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to remind ; watering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reminding; to water             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to remind; to water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0118" descr=""/>
          <p:cNvPicPr/>
          <p:nvPr/>
        </p:nvPicPr>
        <p:blipFill>
          <a:blip r:embed="rId1"/>
          <a:stretch/>
        </p:blipFill>
        <p:spPr>
          <a:xfrm>
            <a:off x="247680" y="25909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286" name="0118" descr=""/>
          <p:cNvPicPr/>
          <p:nvPr/>
        </p:nvPicPr>
        <p:blipFill>
          <a:blip r:embed="rId2"/>
          <a:stretch/>
        </p:blipFill>
        <p:spPr>
          <a:xfrm>
            <a:off x="171360" y="5105520"/>
            <a:ext cx="28584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76320" y="304920"/>
            <a:ext cx="9144000" cy="72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8.College students are free to study______ them. 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                   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ever that interests         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ever interest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ever which interests      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ever interes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People travelling long distances frequently have to decide ______they would prefer to go by land, sea or air.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 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ich       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ow      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y     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eth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0118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89" name="0118" descr=""/>
          <p:cNvPicPr/>
          <p:nvPr/>
        </p:nvPicPr>
        <p:blipFill>
          <a:blip r:embed="rId2"/>
          <a:stretch/>
        </p:blipFill>
        <p:spPr>
          <a:xfrm>
            <a:off x="6934320" y="6324480"/>
            <a:ext cx="28548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76320" y="392040"/>
            <a:ext cx="914400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With five hundred children ______ round the table, the food disappeared ______.  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eating ; at no time        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eated ; in no ti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eated ; at no time         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eating; in no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2. Give this to ______ you think can do the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well .               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o                             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oever 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omever                  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ev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0118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292" name="0118" descr=""/>
          <p:cNvPicPr/>
          <p:nvPr/>
        </p:nvPicPr>
        <p:blipFill>
          <a:blip r:embed="rId2"/>
          <a:stretch/>
        </p:blipFill>
        <p:spPr>
          <a:xfrm>
            <a:off x="5181480" y="5410080"/>
            <a:ext cx="28584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52280" y="228600"/>
            <a:ext cx="9144000" cy="74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To get an education, ______.                                           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ne must work hard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o work hard is necessa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t is required to work hard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orking hard is need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I would have come sooner, but I ______ that you were waiting .    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idn't know         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kno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adn't known       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aven't know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0118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295" name="0118" descr=""/>
          <p:cNvPicPr/>
          <p:nvPr/>
        </p:nvPicPr>
        <p:blipFill>
          <a:blip r:embed="rId2"/>
          <a:stretch/>
        </p:blipFill>
        <p:spPr>
          <a:xfrm>
            <a:off x="685800" y="5791320"/>
            <a:ext cx="28584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76320" y="619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6320" y="619200"/>
            <a:ext cx="93726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 boy who was cleaning the shoes in the street said to       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1.    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 young man passed b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et me clean your boots. It'll     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   ______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pend you only a penny.”But the young man refused. Then  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3.    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e boy told him that he will clean his boots for nothing.       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4.    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e young man agreed, and soon a boot shining brightly.     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5.   ______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en he put the other boot on the box, and the boy refused  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6.    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ean it unless he was paid two pence for his work. The       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7.    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oung man refused to pay for anything and went away. But 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8.   ______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e well-cleaned boot made the dirty one so bad that he       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9.    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uld walk on. He turned back and gave the boy two pence. 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10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00400" y="619200"/>
            <a:ext cx="38088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077320" y="619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229600" y="619200"/>
            <a:ext cx="22860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52480" y="160956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001000" y="1152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320" y="2143080"/>
            <a:ext cx="761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077320" y="1685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275256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153280" y="22953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4952880" y="2980800"/>
            <a:ext cx="1526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05520" y="2981160"/>
            <a:ext cx="7596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077320" y="27525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76920" y="381960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077320" y="3362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76320" y="4123800"/>
            <a:ext cx="7596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320" y="4048200"/>
            <a:ext cx="15228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077320" y="3819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429000" y="4581360"/>
            <a:ext cx="3808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077320" y="4429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153280" y="4505400"/>
            <a:ext cx="38124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077320" y="4581360"/>
            <a:ext cx="609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．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62120" y="5800320"/>
            <a:ext cx="7596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5800680"/>
            <a:ext cx="1526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229600" y="54957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0" y="3068640"/>
            <a:ext cx="4788000" cy="37893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2771640" y="1484280"/>
            <a:ext cx="499608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隶书"/>
              </a:rPr>
              <a:t>Good-bye</a:t>
            </a:r>
            <a:endParaRPr b="1" lang="en-US" sz="96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819520" y="2971800"/>
            <a:ext cx="2985840" cy="3809880"/>
          </a:xfrm>
          <a:prstGeom prst="rect">
            <a:avLst/>
          </a:prstGeom>
          <a:ln w="9360">
            <a:solidFill>
              <a:srgbClr val="99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-152640"/>
            <a:ext cx="7344000" cy="33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Times New Roman"/>
              </a:rPr>
              <a:t>Step  1 Discussion</a:t>
            </a:r>
            <a:br>
              <a:rPr sz="5400"/>
            </a:b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hat is thrown away as waste at your home?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24000" y="407664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304920"/>
            <a:ext cx="9144000" cy="61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Step 2 Re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ind the answers to the two questions in 6 minu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ind out the topic sentence of Part 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w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at types of waste are mentioned in the tex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743200"/>
            <a:ext cx="8991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489276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oured into the rivers; piped into  the the sea; taken far out to sea; thrown into the sea; put into containers and thrown into the deep sea; stored on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2514600"/>
            <a:ext cx="9144000" cy="22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How to get rid of waste is a great problem for the world to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What is done to waste nowaday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2743200"/>
            <a:ext cx="8991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143000"/>
            <a:ext cx="9144000" cy="53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Poured into the rivers; piped into  the the sea; taken far out to sea; thrown into the sea; put into containers and thrown into the deep sea; stored on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 has been done for environmental protec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International organizations: Friends of the Earth, Greenpe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ome special laws have been made in Ch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76280" y="728640"/>
            <a:ext cx="3516120" cy="4861080"/>
          </a:xfrm>
          <a:prstGeom prst="rect">
            <a:avLst/>
          </a:prstGeom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527720" y="1133640"/>
            <a:ext cx="4005000" cy="4095720"/>
          </a:xfrm>
          <a:prstGeom prst="rect">
            <a:avLst/>
          </a:prstGeom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27" name=""/>
          <p:cNvSpPr/>
          <p:nvPr/>
        </p:nvSpPr>
        <p:spPr>
          <a:xfrm>
            <a:off x="657360" y="5634000"/>
            <a:ext cx="409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Air 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7360" y="5634000"/>
            <a:ext cx="43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Water 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3T14:48:31Z</dcterms:created>
  <dc:creator>Benny Lee</dc:creator>
  <dc:description/>
  <dc:language>en-US</dc:language>
  <cp:lastModifiedBy>w</cp:lastModifiedBy>
  <dcterms:modified xsi:type="dcterms:W3CDTF">2004-09-21T14:13:36Z</dcterms:modified>
  <cp:revision>118</cp:revision>
  <dc:subject/>
  <dc:title>PowerPoint 演示文稿</dc:title>
</cp:coreProperties>
</file>