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3A7-B754-43EC-BA6B-0A4C0F0C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F9D-C3F3-47E6-BCB8-1DDFBD71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FF9-8ED3-410C-8E2C-40083394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983-A9B2-43F2-AAE4-6D3776EA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89A-1C1B-488D-8625-E44C732D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95E-A2E3-40DF-B1DA-A971AFDD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942-F6EA-4EFD-9E52-0BFC2C90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7F9-4A99-4343-8360-213BCFF3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F51-D6F0-4DC8-B1F7-6EA6111A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A59-4D5F-46CF-AFA3-9D9C1F93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51B-62D3-4828-8D36-ABD9B1B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2AC-EB61-4B24-8353-BDA7F1B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8CBF-EEC7-4006-91BD-0E4F462C90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important to learn a foreign language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offered to help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ually has a lot of work to do 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at to live , but we don’t live to 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rned us not to go out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e wants to do is earn his own b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ttrib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dver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 sup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pred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25:14Z</dcterms:modified>
  <cp:revision>1</cp:revision>
  <dc:subject/>
  <dc:title>PowerPoint Presentation</dc:title>
</cp:coreProperties>
</file>