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click.wav" ContentType="audio/x-wav"/>
  <Override PartName="/ppt/media/MTO_008.WAV" ContentType="audio/x-wav"/>
  <Override PartName="/ppt/media/image23.gif" ContentType="image/gif"/>
  <Override PartName="/ppt/media/image16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gif" ContentType="image/gif"/>
  <Override PartName="/ppt/media/image17.png" ContentType="image/png"/>
  <Override PartName="/ppt/media/image14.gif" ContentType="image/gif"/>
  <Override PartName="/ppt/media/image13.png" ContentType="image/png"/>
  <Override PartName="/ppt/media/image20.gif" ContentType="image/gif"/>
  <Override PartName="/ppt/media/image18.gif" ContentType="image/gif"/>
  <Override PartName="/ppt/media/arrow.wav" ContentType="audio/x-wav"/>
  <Override PartName="/ppt/media/image27.wmf" ContentType="image/x-wmf"/>
  <Override PartName="/ppt/media/image9.png" ContentType="image/png"/>
  <Override PartName="/ppt/media/image29.gif" ContentType="image/gif"/>
  <Override PartName="/ppt/media/image34.png" ContentType="image/png"/>
  <Override PartName="/ppt/media/image26.png" ContentType="image/png"/>
  <Override PartName="/ppt/media/MTO_014.WAV" ContentType="audio/x-wav"/>
  <Override PartName="/ppt/media/MTC_032.WAV" ContentType="audio/x-wav"/>
  <Override PartName="/ppt/media/breeze.wav" ContentType="audio/x-wav"/>
  <Override PartName="/ppt/media/image30.jpeg" ContentType="image/jpeg"/>
  <Override PartName="/ppt/media/image28.wmf" ContentType="image/x-wmf"/>
  <Override PartName="/ppt/media/image3.jpeg" ContentType="image/jpeg"/>
  <Override PartName="/ppt/media/image12.gif" ContentType="image/gif"/>
  <Override PartName="/ppt/media/image32.png" ContentType="image/png"/>
  <Override PartName="/ppt/media/image1.jpeg" ContentType="image/jpeg"/>
  <Override PartName="/ppt/media/image11.png" ContentType="image/png"/>
  <Override PartName="/ppt/media/coin.wav" ContentType="audio/x-wav"/>
  <Override PartName="/ppt/media/image33.png" ContentType="image/png"/>
  <Override PartName="/ppt/media/image8.png" ContentType="image/png"/>
  <Override PartName="/ppt/media/MTP_040.WAV" ContentType="audio/x-wav"/>
  <Override PartName="/ppt/media/chimes.wav" ContentType="audio/x-wav"/>
  <Override PartName="/ppt/media/image31.wmf" ContentType="image/x-wmf"/>
  <Override PartName="/ppt/media/image7.jpeg" ContentType="image/jpeg"/>
  <Override PartName="/ppt/media/image6.jpeg" ContentType="image/jpeg"/>
  <Override PartName="/ppt/media/type.wav" ContentType="audio/x-wav"/>
  <Override PartName="/ppt/media/image25.gif" ContentType="image/gif"/>
  <Override PartName="/ppt/media/image15.gif" ContentType="image/gif"/>
  <Override PartName="/ppt/media/image5.jpeg" ContentType="image/jpeg"/>
  <Override PartName="/ppt/media/image4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1001-20AC-4F4C-8B0F-5EBDD56FAA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ice to mee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sson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C2F-E731-4EBF-9A9E-E3BB975B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DF7-8E8E-47A5-BED4-6B823C9B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099D1-3ED1-46CF-B499-6CC3F89C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13630-369E-4A49-8A3F-3C77813C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E1F7D-D454-4DBB-81D0-BAACB01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ED09D-4F6D-4C55-8D60-B552660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37B55-D13F-4DD6-8E4A-9484C76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98627-F942-4CC2-B926-C0A038EC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687E7-F857-49BB-974D-D5F1927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983C9-9B20-4830-9497-56AB4496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056D5-53AA-4B83-9046-1F004559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2BF85-B141-4678-AF0D-FB328F2B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EE9-3D51-4B1F-972F-0B838D3C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68BF2-9E40-4DE9-927E-FB4AA5D4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A6898-9710-4652-884F-5BB59850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4FF6B-C7C7-4BAE-A338-6651AB18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19FA-2A9F-4D63-8BDF-817191F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DB1DB-C1D4-4C4C-B2D3-BD47DE6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7B98A-1B1B-4582-BD63-D754811E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7D728-AD93-4E96-8140-F42BA43A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A8FB4-3276-4C2F-AB7D-5A570571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76B34-C5AD-4ED5-A84C-9B3A9D36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64A56-9827-4830-81ED-A3D0C55B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2B0-98E2-4A05-B0CB-7E124ACA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437CC-6C8F-491D-9D29-601D9B2A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5920-FEAF-44CF-9012-F261ED4B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204D1-95E4-44D9-943F-CBC5A120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A2132-A219-4FD0-914C-32B9375F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1A7F7-0150-4D3A-9726-AAAAB0F2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29A19-50BD-4EE6-8712-702843CB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69930-7B0F-4847-9611-04F05C0B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BC2A-07B3-4BCD-B9D7-49D2903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27B28-4CD3-489B-AB59-418D7E6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E32D-A5B0-4C02-B801-56276D06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3F2D-B56E-4754-8733-86A82C38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BBF02-3F76-44F2-86DF-78198140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0C0B8-53BE-4609-AD13-C86F4134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9DF3D-ED3D-42FD-B3D0-0F143F3E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6F6A-1C2F-412B-A548-28A745FF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D0F-1E7B-4233-9028-85B1A541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DC27-E43E-44BF-BB32-2BD4B79F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E09-0649-4393-9AD9-7044A743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251F-4DA5-4982-BBB3-9F39917A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9EA-6A15-445A-872D-903F076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B5A-FA34-4210-9E15-D60B86AB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A2FE-52DF-4091-9220-AD17010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75C2-0637-42D3-9EE4-990E8BF1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C51D-C5D8-47BD-9D06-A54F413E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6D89-404E-4637-BC2F-500CE9DB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4860-9B7A-43FA-A580-1CBBC385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76A7-91D9-4FCF-996F-6E787991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E555-B378-405B-A673-1BEC273D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CBA1-A093-4F13-8FBD-E305AA31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F99F-F940-437B-8231-77F5719A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D419-97A4-4F50-9B07-BC968222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9C5-D2D5-4749-B57F-CF7009C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14BC5-1B02-4265-9F40-CFE45BA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77C9-6188-4FC5-903E-2AEE48F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9977-F4C6-4938-AC8C-60CCFBED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0E2C-BC77-415D-B415-3D5C097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DA02-3F4D-4B4A-99DE-1EE14A46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0686-BA38-4BA8-BB09-F1ED98D9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8BD5-A488-4938-A972-85CEB304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549C-E56C-491A-AC02-E5FA438F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2584-4C74-4C60-BB34-1A2D93ED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BE84-DD3C-4F74-9DCF-3838FF59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E22-5AC9-4B64-A5DA-3A158274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8046-0392-471A-A947-722BDDD4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968B-05E4-44F3-AEF8-107480FD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8BBD-F101-4D85-8FD8-666158DE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DE8B1-B0A7-495E-BC91-33F9B47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DF7A-7F62-4021-A0BE-815BA220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DED5-DAD5-4A4B-9BC9-49C9AB2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7650B-6D16-48B0-8DFA-020BD49B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63EA-EF42-4FBD-9603-F8A414E7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32FC-C4EA-489F-9492-05559819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D9777-89A8-46B9-9F5A-B1AB4D52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979-705F-4F61-8A00-CCD0DFB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4B30-2E6B-4A47-9D9C-47BF555E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D650C-D144-4CCF-8448-BEF4BADA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36B3-BC7B-4624-8645-3A0319C7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6FFD-BE38-4DAD-B4A9-6142E5A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DB06-9B10-4BD7-A710-00FEFA4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AA9E-9838-448E-B3CA-A84EE022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38CF-4F2D-4EFB-B079-2722B16F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1173-EE29-412C-A88A-3F69E74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74AE-1AD1-4783-A9F7-A5550C50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A49E-166A-46E1-9C99-0F2FD855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0BE-8C1C-4F60-8057-0B6979D0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3BEB-664A-4B6A-BE9C-43ED80A7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76062-A95F-4F45-A32F-DD4A33DE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61AC3-6684-4D9B-B38E-95DB0FFC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6FB63-FA18-4637-A116-D6A3DAF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77ECA-0A90-449F-86EC-1CA9450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B0F4F-CDD4-4540-A777-0ED3E9F1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44DA-39FF-4029-A229-D7784D9E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5C705-6316-428D-A6D9-6B1DCFE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CA408-BF40-4794-B438-B5B8903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8459-0309-4B35-A29A-A1B0F18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2F4-2D42-4779-A980-5C06210F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0B295-0893-4BAA-A4A3-3CF381CE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C7140-38CF-443B-B1E7-71B14BC5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1219-CF8C-4C3F-B17C-167F1ABC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C52F-39CE-4B52-B3AE-E43B14DC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C4CA-7B6C-4C91-92F4-C021004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AA12-2418-46C7-BB39-2C5FA43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0E4C7-043E-4747-952B-8EAACFF7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AF2D-D325-410B-A117-45DD1B4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0B17-FEBD-46B2-847A-8B24A67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DD77-C2ED-4178-BDA4-A9E5EE0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F85-303C-4F72-AF09-FA5BB5F9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8A75E-9BBB-4C56-91A4-DAB32BF9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421B-43EC-4FB2-A705-FE8F9412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447E-FD1D-4960-8C45-E2D31A71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96F1-390B-4DB6-8BBF-57F9D0AD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2B46-3883-4D7D-B959-E2FCA774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3837-F7F6-42C4-8AA2-9CDEA616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2B47-7789-49E0-8D44-716CCB24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4AFFF-7605-4991-945A-902CF937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ED270-547B-497C-934B-D4F7FF6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3DF6A-BD07-436A-8122-71CFAF4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5A5-7BFD-4D6A-994F-8A55C59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6012B-5815-474D-9DBB-140322B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EB86-EBDD-40A9-A582-774A394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4371D-3EA1-4654-9C52-F4C2D69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D8AE5-2A5A-4D0E-A82D-A93DD50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02BF-7010-4E12-A75C-14584CB6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5A1C-753C-4F1B-9039-175853B9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8D548-837F-4BB7-939C-7437968B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9AD86-F3EB-4C69-9C4B-E811F3F2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FED5C-1441-4F44-9018-B0D0455A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06FB5-451B-494E-A996-A6CEA74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DAC3-B844-413F-8DCD-06A717E970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117-1F49-4982-850E-D2CA02BE344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60D-A48F-4DBB-B7BE-285AC3E1355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1DCD-47BC-4494-944C-C857B2F82F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AB50-DCC6-4ED8-B895-C1ADAB7E33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2898-1318-40A7-9E0F-93D4B36D34DC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0C81-F094-41BB-AB1B-2DC2E071BFFC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77F-64AB-48FD-B22F-CABFBC81E2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F002-138E-45DA-995A-886E56D20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ABC6-F43F-4CA8-BCB7-C21370ADC3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2AA0-7696-46C9-8A43-89760AEEBF4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audio" Target="../media/MTO_014.WAV"/><Relationship Id="rId5" Type="http://schemas.openxmlformats.org/officeDocument/2006/relationships/slideLayout" Target="../slideLayouts/slideLayout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TC_032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audio" Target="../media/MTP_040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2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7.xml"/><Relationship Id="rId9" Type="http://schemas.openxmlformats.org/officeDocument/2006/relationships/image" Target="../media/image18.gif"/><Relationship Id="rId10" Type="http://schemas.openxmlformats.org/officeDocument/2006/relationships/slide" Target="slide8.xml"/><Relationship Id="rId11" Type="http://schemas.openxmlformats.org/officeDocument/2006/relationships/image" Target="../media/image19.gif"/><Relationship Id="rId12" Type="http://schemas.openxmlformats.org/officeDocument/2006/relationships/slide" Target="slide9.xml"/><Relationship Id="rId13" Type="http://schemas.openxmlformats.org/officeDocument/2006/relationships/image" Target="../media/image20.gif"/><Relationship Id="rId14" Type="http://schemas.openxmlformats.org/officeDocument/2006/relationships/slide" Target="slide10.xml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" Target="slide6.xml"/><Relationship Id="rId4" Type="http://schemas.openxmlformats.org/officeDocument/2006/relationships/image" Target="../media/image23.gif"/><Relationship Id="rId5" Type="http://schemas.openxmlformats.org/officeDocument/2006/relationships/audio" Target="../media/MTO_008.WAV"/><Relationship Id="rId6" Type="http://schemas.openxmlformats.org/officeDocument/2006/relationships/audio" Target="../media/MTO_008.WAV"/><Relationship Id="rId7" Type="http://schemas.openxmlformats.org/officeDocument/2006/relationships/audio" Target="../media/MTO_008.WAV"/><Relationship Id="rId8" Type="http://schemas.openxmlformats.org/officeDocument/2006/relationships/audio" Target="../media/MTO_008.WAV"/><Relationship Id="rId9" Type="http://schemas.openxmlformats.org/officeDocument/2006/relationships/audio" Target="../media/MTO_008.WAV"/><Relationship Id="rId10" Type="http://schemas.openxmlformats.org/officeDocument/2006/relationships/audio" Target="../media/MTO_008.WAV"/><Relationship Id="rId11" Type="http://schemas.openxmlformats.org/officeDocument/2006/relationships/audio" Target="../media/MTO_008.WAV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MTO_008.WAV"/><Relationship Id="rId5" Type="http://schemas.openxmlformats.org/officeDocument/2006/relationships/audio" Target="../media/MTO_008.WAV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 rot="21240000">
            <a:off x="761760" y="2274840"/>
            <a:ext cx="727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ranti Solid LET"/>
              </a:rPr>
              <a:t>Nice to meet you!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ranti Solid LET"/>
              <a:ea typeface="Tiranti Soli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0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527640" cy="44654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292360" y="1628280"/>
            <a:ext cx="222084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2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974.2.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5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5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1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3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7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32000" y="47628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 </a:t>
            </a: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Listen and think</a:t>
            </a:r>
            <a:endParaRPr b="1" i="1" lang="en-US" sz="4000" spc="1" strike="noStrike">
              <a:ln cap="rnd"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119700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Highlight LET"/>
                <a:ea typeface="GungsuhChe"/>
              </a:rPr>
              <a:t>What </a:t>
            </a:r>
            <a:r>
              <a:rPr b="1" lang="en-US" sz="6000" spc="-1" strike="noStrike">
                <a:solidFill>
                  <a:srgbClr val="cc3300"/>
                </a:solidFill>
                <a:latin typeface="Highlight LET"/>
              </a:rPr>
              <a:t>happened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2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974.2.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5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1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7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874800" cy="10814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959120" y="1503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92200" y="1494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35000" y="112536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o the Capital Build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69760" y="438120"/>
            <a:ext cx="71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Highlight LET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58600" y="1628640"/>
            <a:ext cx="64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220 people were killed in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35640" y="242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11640" y="2565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25480" y="213372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happened on Feb. 4th, 197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6040" y="2708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ital Building had 25 fl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86600" y="321300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 500 people were working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88400" y="3716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broke out on the 11th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89840" y="42210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300 people were trapped by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16760" y="47242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out 70 people escaped  in the  helicop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45480" y="530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lasted about four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6732720" y="5373720"/>
            <a:ext cx="730080" cy="720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8244000" y="5373720"/>
            <a:ext cx="7300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760" y="33336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February 4th, 1974, the Capital Building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est building in Sao Paulo, was destroyed in a big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haps the fire was started by an electrical fire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 of one office o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. Soon the whol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ire. Ther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s in the building. As it had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scapes, the 300 people who were trapp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e could not escape. Many of them climbed to the f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the building. The helicopters came, but there 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vy smoke that the helicopters were no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 enough. Finally, about 70 people were_______ .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the streets, the firemen could not get clos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ecause crowds of peopl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hey reached the building they found their lad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e not lo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reach the peop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were trapp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errible fire last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our hours, and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st of the building an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220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7080" y="5734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781440" y="5372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57080" y="5012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97080" y="5012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28360" y="42915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200" y="4291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519600" y="35733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05800" y="321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461800" y="28515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0000" y="28515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o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09440" y="213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in/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080" y="21326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94160" y="1772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4360" y="177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86520" y="1411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11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280" y="1340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32000" y="333360"/>
            <a:ext cx="540072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 </a:t>
            </a: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Let's talk</a:t>
            </a:r>
            <a:endParaRPr b="1" i="1" lang="en-US" sz="5400" spc="1" strike="noStrike">
              <a:ln cap="rnd" w="9360">
                <a:solidFill>
                  <a:srgbClr val="3333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Orange LET"/>
              <a:ea typeface="Orange LET"/>
            </a:endParaRPr>
          </a:p>
        </p:txBody>
      </p:sp>
      <p:sp>
        <p:nvSpPr>
          <p:cNvPr id="590" name=""/>
          <p:cNvSpPr/>
          <p:nvPr/>
        </p:nvSpPr>
        <p:spPr>
          <a:xfrm>
            <a:off x="574560" y="1773360"/>
            <a:ext cx="76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800000"/>
                </a:solidFill>
                <a:latin typeface="Trebuchet MS"/>
              </a:rPr>
              <a:t>What do you think of Sao Paulo F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7320" y="256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2. Would you like to be in such a fi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f not, what should we do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4320" y="393372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3. If a fire broke out in your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what shoul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324000" y="4797360"/>
            <a:ext cx="3887640" cy="15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P_0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5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41080" y="620640"/>
            <a:ext cx="827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Knowing what to do in case of fire is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mportant. If a fire broke out in your home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at would you do? First, you should war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everyone in the house about the danger. Don’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be too afraid and start crying. Be calm and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act fast. Second, you and all the others shou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get out of the house. Don’t stop to take belong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ngs  with you. Once you are out of the house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stay out. Do not go back for any reason. Fin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en you are out of the house, call the fire-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fighters. Don’t try to put out the fire yourself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That can be very dangerous.</a:t>
            </a:r>
            <a:r>
              <a:rPr b="1" i="1" lang="zh-CN" sz="2800" spc="-1" strike="noStrike">
                <a:solidFill>
                  <a:srgbClr val="a9bda9"/>
                </a:solidFill>
                <a:latin typeface="Comic Sans MS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565280" cy="1897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633760" y="404640"/>
            <a:ext cx="32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 Black"/>
                <a:ea typeface="GungsuhChe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73480" y="746280"/>
            <a:ext cx="8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600" y="1989000"/>
            <a:ext cx="79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.Two hundred and twenty were kill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Sao Paulo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8240" y="1988280"/>
            <a:ext cx="73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2.The building was not finish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fire broke out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9680" y="1987920"/>
            <a:ext cx="862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3. All the offices were completely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except  those below the 11th floor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5320" y="192708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4. Only the firemen knew how the f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had started.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4600" y="198828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5. At first, it was possible for the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orkers to put out the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4960" y="1988280"/>
            <a:ext cx="801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6. Below the 11th floor people wer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o escape into the stree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6600" y="2059560"/>
            <a:ext cx="88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7. The people above the 11th floor 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rapped because there were no fire escape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1880" y="1927080"/>
            <a:ext cx="817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8. It was difficult for the firefighters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close to the building because the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rom the fire was too thick.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3680" y="2059560"/>
            <a:ext cx="78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0. Four hours after the fire started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iremen still couldn’t control i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0600" y="1987920"/>
            <a:ext cx="810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9. The  ladders the firefighters had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ith  them were not long enoug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9" dur="1" fill="hold"/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032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26920" y="177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Match the words and meaning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472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-674640" y="2637000"/>
            <a:ext cx="407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1. 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2. resc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3. roof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4. firefi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5. esc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6. lose one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7. belong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8.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24800" y="4075560"/>
            <a:ext cx="63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E. a person whose work is to put out fir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98520" y="371520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D. di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335664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. the inside top of a hous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0920" y="2996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B. to get away from a dangerou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25520" y="263592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A. the top of the outside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31280" y="450864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F. to make sb. safe from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135960" y="522936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H. the things that belong to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50920" y="2924280"/>
            <a:ext cx="1152720" cy="6490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0920" y="3284640"/>
            <a:ext cx="1152720" cy="1439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692360" y="2852280"/>
            <a:ext cx="151128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40000" y="4005360"/>
            <a:ext cx="93672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124000" y="3284640"/>
            <a:ext cx="1079640" cy="1009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987640" y="4005000"/>
            <a:ext cx="216000" cy="718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56000" y="5084640"/>
            <a:ext cx="64764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0920" y="4869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268360" y="5084280"/>
            <a:ext cx="93528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19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1125360"/>
            <a:ext cx="6480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</a:t>
            </a: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rans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he following phrases into Englis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30760" y="2852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着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17200" y="285264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关煤气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当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71760" y="3519360"/>
            <a:ext cx="56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不要紧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要是那样的话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扑灭</a:t>
            </a:r>
            <a:r>
              <a:rPr b="1" i="1" lang="zh-CN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99320" y="4221000"/>
            <a:ext cx="63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属于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8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牺牲   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9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靠近火</a:t>
            </a:r>
            <a:r>
              <a:rPr b="1" i="1" lang="zh-CN" sz="2400" spc="-1" strike="noStrike">
                <a:solidFill>
                  <a:srgbClr val="001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88200" y="486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10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火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57440" y="6397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11280" y="0"/>
            <a:ext cx="511308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Writing</a:t>
            </a:r>
            <a:endParaRPr b="1" i="1" lang="en-US" sz="44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9" name=""/>
          <p:cNvSpPr/>
          <p:nvPr/>
        </p:nvSpPr>
        <p:spPr>
          <a:xfrm>
            <a:off x="868320" y="1457280"/>
            <a:ext cx="70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rite a few sentences abou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big fire in Sao Paulo with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ords given to you:</a:t>
            </a:r>
            <a:r>
              <a:rPr b="1" lang="en-US" sz="3200" spc="-1" strike="noStrike">
                <a:solidFill>
                  <a:srgbClr val="320032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29560" y="310212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catch fire;   destr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98800" y="309420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tra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63360" y="3741840"/>
            <a:ext cx="27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heavy smo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02040" y="3741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l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10360" y="37418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resc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62360" y="438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firefigh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5680" y="4365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put out</a:t>
            </a:r>
            <a:r>
              <a:rPr b="1" i="1" lang="en-US" sz="2800" spc="-1" strike="noStrike">
                <a:solidFill>
                  <a:srgbClr val="32003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 rot="20820000">
            <a:off x="3354120" y="4707000"/>
            <a:ext cx="47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cc"/>
                </a:solidFill>
                <a:latin typeface="Tiranti Solid LET"/>
                <a:ea typeface="方正舒体"/>
              </a:rPr>
              <a:t>Home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9220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-150840" y="476280"/>
            <a:ext cx="93488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根据下面资料完成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字左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火灾报告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5856"/>
                </a:solidFill>
                <a:latin typeface="Arial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地点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华北某市一大礼堂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(hall)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事故经过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千名师生在礼堂开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因礼堂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起火造成火灾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人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难以控制火情。大火持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约两个小时，整个礼堂遭焚毁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伤亡情况：</a:t>
            </a: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六十多人在火灾中丧生，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百多人受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651640" y="1557360"/>
            <a:ext cx="1152360" cy="144360"/>
          </a:xfrm>
          <a:custGeom>
            <a:avLst/>
            <a:gdLst>
              <a:gd name="textAreaLeft" fmla="*/ 384120 w 1152360"/>
              <a:gd name="textAreaRight" fmla="*/ 987120 w 1152360"/>
              <a:gd name="textAreaTop" fmla="*/ 83160 h 144360"/>
              <a:gd name="textAreaBottom" fmla="*/ 12384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907920"/>
            <a:ext cx="976320" cy="144720"/>
          </a:xfrm>
          <a:custGeom>
            <a:avLst/>
            <a:gdLst>
              <a:gd name="textAreaLeft" fmla="*/ 0 w 976320"/>
              <a:gd name="textAreaRight" fmla="*/ 976680 w 9763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25520" y="62064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taneo BT"/>
                <a:ea typeface="바탕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9080" y="14842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taneo BT"/>
              </a:rPr>
              <a:t>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947960" y="191628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Milano LET"/>
              </a:rPr>
              <a:t>Good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56720" y="3216240"/>
            <a:ext cx="57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Thanks 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your attend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8" repeatCount="indefinite">
                                  <p:stCondLst>
                                    <p:cond delay="6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232019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58920" y="404640"/>
            <a:ext cx="32385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Lesson 62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1332000" y="2492280"/>
            <a:ext cx="604836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Sao Paulo Fire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a4e00"/>
                </a:solidFill>
                <a:latin typeface="Arial"/>
              </a:rPr>
              <a:t>Aims and dem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1. To know harm of fire to peop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are able to describe it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2. To know the importance of prev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. Vocabul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4 skills: completely, belong, belong to,       ceiling, put out, control, flat, roof, firefigh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close, get close to ,lose one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 skills: escape, fire e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55640" y="620640"/>
            <a:ext cx="784872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oors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start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last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son for the fi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destroy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k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also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743280" cy="936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859280" y="189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Sao Paulo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94880" y="6922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ebruary 4th,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03480" y="1289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Capital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77280" y="186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0920" y="2513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11th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2720" y="3141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or 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80360" y="3645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 one kn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05200" y="4797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All 25 floors of the building                                    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60000" y="5445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ore than 22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68400" y="602136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ars belonging to the people working 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4968720" cy="6524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 rot="21275400">
            <a:off x="4788000" y="0"/>
            <a:ext cx="2327040" cy="1844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6659640" y="0"/>
            <a:ext cx="2303280" cy="1341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347200" y="404640"/>
            <a:ext cx="52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38200" y="441360"/>
            <a:ext cx="719280" cy="7192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71640" y="4437000"/>
            <a:ext cx="3457440" cy="43200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       11th         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71640" y="2421000"/>
            <a:ext cx="3456000" cy="43164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       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1403280" y="486900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1403280" y="2852640"/>
            <a:ext cx="2592360" cy="15843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221080" y="429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349360"/>
            <a:ext cx="718920" cy="935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56360" y="2276640"/>
            <a:ext cx="23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27640" y="1773360"/>
            <a:ext cx="216072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0360" y="206064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Helico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88000" y="2276640"/>
            <a:ext cx="158436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0360" y="314172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12000" y="4437000"/>
            <a:ext cx="252072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irefig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84720" y="3357720"/>
            <a:ext cx="209880" cy="209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6230520" y="321300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84720" y="234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6360" y="472428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740720" y="5734080"/>
            <a:ext cx="8636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e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190600" cy="2190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549360"/>
            <a:ext cx="6266160" cy="4678200"/>
          </a:xfrm>
          <a:prstGeom prst="wedgeRoundRectCallout">
            <a:avLst>
              <a:gd name="adj1" fmla="val 49569"/>
              <a:gd name="adj2" fmla="val 61467"/>
              <a:gd name="adj3" fmla="val 16667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00000" y="836640"/>
            <a:ext cx="6224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low the 11th floor people   were able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eet. However, more than 300 people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bove the fire. The building had no 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t all! They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climb up to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e building.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87640" y="126828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 in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2520" y="22766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were   trappe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87640" y="32130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fire  esc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6237360"/>
            <a:ext cx="216000" cy="172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789080" y="3789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lat    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71640" y="1773360"/>
            <a:ext cx="7704000" cy="4248000"/>
          </a:xfrm>
          <a:prstGeom prst="wedgeRectCallout">
            <a:avLst>
              <a:gd name="adj1" fmla="val -42458"/>
              <a:gd name="adj2" fmla="val -62143"/>
            </a:avLst>
          </a:prstGeom>
          <a:solidFill>
            <a:srgbClr val="ffcc99"/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49960" cy="40482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7120" y="1720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042920" y="2205000"/>
            <a:ext cx="755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were sent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but the smoke  was t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vy for us to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we couldn’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enough to the building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hours later. At last, we hel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0 peopl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34880" y="22766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02880" y="27082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14160" y="3141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0640" y="31813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78880" y="3716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93800" y="4221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54520" y="4581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734080"/>
            <a:ext cx="21564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836640"/>
            <a:ext cx="7200720" cy="3887640"/>
          </a:xfrm>
          <a:prstGeom prst="wedgeEllipseCallout">
            <a:avLst>
              <a:gd name="adj1" fmla="val 35495"/>
              <a:gd name="adj2" fmla="val 70662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4800" y="1341360"/>
            <a:ext cx="731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ny people were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fire in the stree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couldn’t get close to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so, our ladders were no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ough to _____ the people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 tr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11840" y="1432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05800" y="1844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so  t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4160" y="33577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5157720"/>
            <a:ext cx="216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4:35:23Z</dcterms:created>
  <dc:creator>young</dc:creator>
  <dc:description/>
  <dc:language>en-US</dc:language>
  <cp:lastModifiedBy>young</cp:lastModifiedBy>
  <dcterms:modified xsi:type="dcterms:W3CDTF">2002-03-06T12:45:21Z</dcterms:modified>
  <cp:revision>23</cp:revision>
  <dc:subject/>
  <dc:title>幻灯片 1</dc:title>
</cp:coreProperties>
</file>