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27C-01F9-42FD-9E75-BC5ED1EB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255-3478-4B63-8BD4-495FD3D8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6F9-CA3B-40D1-95FF-CBE6A0DC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91C-2BD9-40B9-9E40-311F9D29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2FD0-9DAF-434D-B01C-4DB4B86C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C1CD-DBBE-41E2-98AB-5C20D657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EBBD-6635-46EE-959B-195F39EF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1486-99AA-4A21-B9FE-EED80B79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D9F4-AAEE-4232-8303-84C75544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8A42-C2E7-4F3E-A5DF-D704EB55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FFA3-0993-4658-A9D2-554F212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09A-DF85-4023-B052-EDE64224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F0F9-E69D-464B-BC0E-DF75AA8A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1053-E274-4D42-BAAD-8C9E54A8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050A-A9E4-4F48-BAFB-F54379D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C8C7-7CA7-4496-8E44-41E1FDCA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50C1-C936-4263-AB8F-DBE1A085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462-36E6-42F1-9C11-CBDC62FC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B2F-C961-4C00-92BA-E145D0B7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9BF-81FE-4073-A46D-174EFDE1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306-41CB-4596-B551-FAD62990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0E4-2AD9-4056-A6FC-0675A9E1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D1E-4FAA-43E7-8A10-B76B909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1C0-9681-4621-ACC0-C447605E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3365-FA8F-489A-A469-345AD5142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9039-F004-4C99-8A7C-AAF8105EB2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04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年高考模拟单选题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976320"/>
            <a:ext cx="845820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-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m sorry to keep you waiting.I’ll make short work of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________.I am in no hur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ake your time              B.Take it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Don’t be nervous           D.Why did you do it 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What he told us about the affairs simply doesn’t make any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value   B.sense   C.idea     D.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----Where is that old 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That old man with a pair of glasses? Oh,---his daughte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ing     B.having seen      C.being seen    D.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have to choose  between Alice and Rose.I would say Rose is _____ to be my secre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uit    B.good   C.the fit  D.the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372960"/>
            <a:ext cx="70102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like me to call a taxi for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’d like to    B.Would you pleas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Please. Thank you just the same  D.No,it will be trouble to y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.---Where__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I got caught in the traffic,or I_____here soo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id you go,had arrived       B.have you been, 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ve you been, would have been   D.were you, would 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7.--Have you ever been to Lond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_____shall I forget ____it for the 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owever,visiting      B.never,vis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ever,to visit               D.forever, to have 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762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533520"/>
            <a:ext cx="792468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. Alcott,headmaster of the school,refused to accept____ of the three suggestions  made by the Students’ Un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     B.neither    C.none     D.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.That evening ____Smiths sat before a bright fire and had___nice sup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a      B.the ,a     C.X,X  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.______most students, he was always well prepared and never came late to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For     B,As       C.Like     D.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.One more week,_______we’ll complete the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or      B.so that        C.if         D.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.--I’m going to the bookst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you are there,can you get some story boo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uring       B.While     C.Because     D.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57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590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228600"/>
            <a:ext cx="792468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tleman _______you told me yesterday proved to be  a thi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    B.whom     C.with whom    D.about wh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.--I stayed at a hotel while in New Y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h,did you? You ______with Barba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uld stay      B.could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ould stay      D.must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.--Do you think Norman would have lent me his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if you _____him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sk    B.had asked     C.will ask     D.as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.some of the passengers told the reporter their _______ in the burning 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etails   B.events     C.experiences     D.tr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.--Alice,why didn’t you come yester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____,but I had an unexpected  visi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going to  B.had    C.did     D.w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1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867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90720" y="380880"/>
            <a:ext cx="77724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five pairs ___,but I’m not sure which to bu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o be chosen       B.to choose from   C.for choosing   D.to cho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9.--You are smoking too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at home. Nobody ___ me but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s    B.saw   C.is seeing    D.has 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.--Look at this! I____ some old pictures and ____this baby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t’s a picture of you?  It’s so lo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m going through,find      B.was going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ent through,had found      D.had gone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.--You forget to feed the cat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 can’t remember       B.I don’t mind feeding her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I’ll do it now               D.Yes,I did.What about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04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952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457200"/>
            <a:ext cx="82296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52.-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m,I’ve cut my finger.It’s blee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Let me see       B.Don’t worry      C.Be careful   D.Let me have a 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3.--Who’s Jerry Copp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? I saw you shaking hands with him at the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Haven’t you met him yet    B.hadn’t you met him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.Didn’t you meet him yet     D.Don’t you meet you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4.The cupboard filled with shoes fell over and it took me half an hou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________ them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pair    B.match    C.pick     D.co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5.It was about 600 years ago ______the first clock with a face and an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s m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until B.that   C.when   D.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914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372960"/>
            <a:ext cx="7696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6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haven’t lost your ticket,have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hope 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t to have    B.to have not   C.not   D.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.Professor Li has written some short  stories,but he is ____known for his pl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re    B.the most   C.better   D.the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8.  --Mum,can I watch the live broadcast on the football match of World Cup ton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rry,dear!Twelve o’clock is ______of your age to stay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 too late hour for a boy      B.very much late an hour for the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too late an hour for a boy     D.a so late hour for a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9.I  must leave,too. I _____having tea with you,B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enjoying  B.am enjoying   C.enjoyed    D.enj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752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5029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66680" y="304920"/>
            <a:ext cx="80773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ought to have given them some ad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,but who cared what I sa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o ought you    B.So I ought  C.So I did   D.So  I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“___I live there are plenty of sheep.”said he,with pr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at   B.Whether     C.Where    D.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2.Nowhere  else ____such perfect silence _____in these mou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re is,as B.there is,like  C.is thee,like  D.is there,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.Now the machine runs at doubl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 speed     B.speed    C.the speed   D.for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.--If that is not yours,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bably Jim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else can it be     B.who else’s it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hose else can it be     D.whose else’s can i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676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90720" y="380880"/>
            <a:ext cx="73911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5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I come and talk with you when ti is ____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please.Let’s make ______ Sunday eve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nvenient to,it      B.fit for ,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comfortable to,them     D.suitable for,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 left his native village twenty years ago and has _____returned                only o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ince  B.ever    C.just   D.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.--How much do you like your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.I would have paid _____fo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Wonderful,twice as much       B.Very much, as twice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very much ,twice as much         D.wonderful,as much tim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8.The club did more harm than good to Robert,whose bad habits were ____ t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stly picked up    B.most developed C.mostly held up D.most made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838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638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0720" y="304920"/>
            <a:ext cx="78483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9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was a teapot shaped liked a China duck,out of ____mouth the tea was suppose to c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ile   B.that   C.its    D.wh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.Hillen used to be very shy but she has grown ____it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thout      B.over      C.away       D.ou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1.--Such a sudden turn in the road is too difficult for the new driver,isn’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.He’s dealt with all kinds of troublesome situations bef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it isn’t   B.Yes,it is   C.No,not yet    D.Ye4s,I think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.--______the visitors come in or wait out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how them in,pl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ve     B.Will    C.Shall      D.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3.The court hears about 120 cases a year,visitors are welcome to see a cas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rgued      B.to be argued    C.be arguing     D.being arg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5791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304920"/>
            <a:ext cx="73152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4._______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l state of this health,it may take him a while to recover from the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Given    B.To given     C.Giving     D.Having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.Do speak loudly while _____yourself understood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listening to make     B.listened to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listened to make         D.list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--It is ____ that he has been to Lond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s,he doesn’t travel abroad a 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 second time  B.many times  C.twice   D.for only thre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7.--Have  you had any letters from hi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,I haven’t,but my wife _____ him regula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s heard from     B.has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d heard from    D.had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28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895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0"/>
            <a:ext cx="82296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ouncement was made,job hunters began crow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After than less a day     B.Less than a day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For less than a day        D.Less than after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After several tests,we decided to take on Jenny,_____we believed was the best choice ever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o  B.whom   C.which     D.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It was about 600 years ____ the first clock with a face and an hour hand wa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at     B.until    C.before    D.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----You must have been driving at 100 mil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No,I didn’t need______ that,I  wasn’t in a  H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oing   B.having  does   C.to do  D. to hav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19320" y="228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0"/>
            <a:ext cx="81532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---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____ the editor at the air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No,he______ away before my arr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ave… met; has driven   B.Had…met:was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Did…. Meet:had been driven   D.Have…met:had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She liked the dictionary so much that she would like to take it______i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at  B.how much   C.whatever  D.no matter how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He is believed ______in at his office on his way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ropping   B.to hav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aving dropped   D.to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The artist tried his best to paint what he saw with his___as well as with his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rain   B.mind   C.head   D.so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28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600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83818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I do for you,s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,thanks.I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just look around  B.have 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am just looking around   D.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I ____each of the students immediately work out a practical plan for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pect   B.wish  C.hope  D.sugg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As is known to all,Taiwan is _______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e China’s first largest    B.China’s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e first China’s largest    D.the Chinese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You may go out___your homework i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cept B.unless  C.until   D.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838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2514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562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380880"/>
            <a:ext cx="784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_____you think is right _____difficulties you may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at;however B.that,whatever C.whatever,however D.what,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---she didn’t take her medicine last night,did sh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but I wish she couldn’t  B.Yes,I wish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No,but I wish she had     D.No, but I wish she dr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----Has  the train arriv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No,it will be late_____half an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t          B.for      C.in       D.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0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819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457200"/>
            <a:ext cx="75438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get me wrong.I’m just jo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,I won’t  B Oh, you are quit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at’s nothing   D.Of course,I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-- You could have asked Mr.Richerels for help.He is kind-he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a whole da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uld be wasted     B.will waste      C.had been waste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as 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--Shall we go swim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,I’ll just go and get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o change    B.to be changed     C.,changed    D.ch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838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94360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80880"/>
            <a:ext cx="8534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young man work h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in the least._____could be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body:lazier    B.Nobody else: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Nobody:less hard working   D.Nobody else: 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.Don’t get that ink on your shirt,for it______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n’t wash out     B.wasn’t wash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won’t be washing out       D.hasn’t wash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.---_____you got to know my telephone nu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Through  a friend of y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ow was it    B.Was it how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ow was it that    D.How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886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533520"/>
            <a:ext cx="82296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6.--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does Mr Brown come fr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not sure,But her English______Austral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sounds  B.listens   C.feels    D.sugg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---I think I’ll just have coffee for a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_______.The coffee and sugar are in the cup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hange it,please     B.Coffee would be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Help yourself          D.So 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.---How much vinegar did you put in the sal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sorry to say,_______.I for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no  B.nothing   C.no one  D.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.-----I suggest going to the cinema ton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Great! Please stay at home then.I’ll____ you at 6:3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all for    B.wait for    C.search for   D. Look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90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228600"/>
            <a:ext cx="82296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you tell me how you usually go to scho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.If it is fine,I _____ to my sch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walk   B.walk    C.will go on foot   D.would go on f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.Jim,_____the window quickly.______ the wind b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shut: What    B.is shutting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shuts:What            D.shut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.Dick,it’s_____bad manners to blow your nose at ____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the B.the,a   C.X,X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.He thought this painting of little ______and let me have3 it for only 15 dol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price  B.cost  C.expense    D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.I’m not sure what time I’ll arrive,maybe half past six or a quarter to seven._____,I’ll be there as earl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how   B.However   C.Thus    D.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33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1371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41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36:39Z</dcterms:created>
  <dc:creator>0002</dc:creator>
  <dc:description/>
  <dc:language>en-US</dc:language>
  <cp:lastModifiedBy>LONG</cp:lastModifiedBy>
  <dcterms:modified xsi:type="dcterms:W3CDTF">2004-06-24T11:45:51Z</dcterms:modified>
  <cp:revision>31</cp:revision>
  <dc:subject/>
  <dc:title>没有幻灯片标题</dc:title>
</cp:coreProperties>
</file>