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26.gif" ContentType="image/gif"/>
  <Override PartName="/ppt/media/image19.jpeg" ContentType="image/jpeg"/>
  <Override PartName="/ppt/media/image2.gif" ContentType="image/gif"/>
  <Override PartName="/ppt/media/image24.jpeg" ContentType="image/jpeg"/>
  <Override PartName="/ppt/media/image30.jpeg" ContentType="image/jpeg"/>
  <Override PartName="/ppt/media/image12.gif" ContentType="image/gif"/>
  <Override PartName="/ppt/media/image8.gif" ContentType="image/gif"/>
  <Override PartName="/ppt/media/image18.jpeg" ContentType="image/jpeg"/>
  <Override PartName="/ppt/media/image36.png" ContentType="image/png"/>
  <Override PartName="/ppt/media/image9.gif" ContentType="image/gif"/>
  <Override PartName="/ppt/media/image10.gif" ContentType="image/gif"/>
  <Override PartName="/ppt/media/image31.png" ContentType="image/png"/>
  <Override PartName="/ppt/media/image3.gif" ContentType="image/gif"/>
  <Override PartName="/ppt/media/image7.gif" ContentType="image/gif"/>
  <Override PartName="/ppt/media/image32.jpeg" ContentType="image/jpeg"/>
  <Override PartName="/ppt/media/image13.jpeg" ContentType="image/jpeg"/>
  <Override PartName="/ppt/media/image33.png" ContentType="image/png"/>
  <Override PartName="/ppt/media/image11.gif" ContentType="image/gif"/>
  <Override PartName="/ppt/media/image34.gif" ContentType="image/gif"/>
  <Override PartName="/ppt/media/image4.gif" ContentType="image/gif"/>
  <Override PartName="/ppt/media/image1.jpeg" ContentType="image/jpeg"/>
  <Override PartName="/ppt/media/image22.jpeg" ContentType="image/jpeg"/>
  <Override PartName="/ppt/media/image27.gif" ContentType="image/gif"/>
  <Override PartName="/ppt/media/image5.png" ContentType="image/png"/>
  <Override PartName="/ppt/media/image25.gif" ContentType="image/gif"/>
  <Override PartName="/ppt/media/image28.png" ContentType="image/png"/>
  <Override PartName="/ppt/media/image35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21.jpeg" ContentType="image/jpeg"/>
  <Override PartName="/ppt/media/image29.png" ContentType="image/png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6941-570C-453D-A643-0AE9616D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BFB-2488-4AD8-A77F-1E0667FC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FAE-62BB-494E-BBE1-EE9D8CF6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D4AD-EEE0-47DC-8CC7-FA1F3D67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BB4-A24F-40D4-85DF-09A7CB1C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920-1CB1-48C2-90DF-D1FF86DD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938-9C1A-4D36-A6C1-2DFCF9B6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B64-2E4E-4583-962B-71E010F2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56EA-B07F-4E8A-B996-C060A472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667-7E0D-41D6-AFA4-661053FC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A31-2AAA-487B-BAE6-9D3F1339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4BE-ACF4-45FA-B95E-21AD2573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9E18-A25C-4702-8606-C4A1C52B25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5.gif"/><Relationship Id="rId3" Type="http://schemas.openxmlformats.org/officeDocument/2006/relationships/slide" Target="slide19.xml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609480"/>
            <a:ext cx="4267440" cy="2775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Monotype Corsiva"/>
              </a:rPr>
              <a:t>Lesson 2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5888160"/>
            <a:ext cx="2376720" cy="76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0" y="690480"/>
            <a:ext cx="71280" cy="1284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95280" y="1989000"/>
            <a:ext cx="4248000" cy="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95280" y="692280"/>
            <a:ext cx="71280" cy="1284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95280" y="620640"/>
            <a:ext cx="4248000" cy="7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2362320"/>
            <a:ext cx="51051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Dealing With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5920" y="954000"/>
            <a:ext cx="3600360" cy="456408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46720" y="2274840"/>
            <a:ext cx="3740040" cy="379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31" name=""/>
          <p:cNvSpPr/>
          <p:nvPr/>
        </p:nvSpPr>
        <p:spPr>
          <a:xfrm>
            <a:off x="4211640" y="954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uclea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69120" y="567864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库尔斯克”沉船核泄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6248520"/>
            <a:ext cx="27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核电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38088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ep 3 Read the second part of the tex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ind out the answers to the two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y is rubbish a problem in western count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y is rubbish becoming a problem in Chi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51460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, large areas of land must be found where the rubbish can be put; second, energy is wasted producing goods which are thrown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952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, many lakes and rivers are polluted by the wastes from factories; second, as the wealth of the country increases, more waste will be produ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51280" y="1042920"/>
            <a:ext cx="3961080" cy="513072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5920" y="2079720"/>
            <a:ext cx="4095720" cy="393228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431640" y="907920"/>
            <a:ext cx="48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te 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an you imagine how much waste is thrown away in China every year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41440" y="2178000"/>
          <a:ext cx="8069040" cy="4049640"/>
        </p:xfrm>
        <a:graphic>
          <a:graphicData uri="http://schemas.openxmlformats.org/drawingml/2006/table">
            <a:tbl>
              <a:tblPr/>
              <a:tblGrid>
                <a:gridCol w="1941480"/>
                <a:gridCol w="2989080"/>
                <a:gridCol w="31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BRI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CH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7 b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7 x 22 b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Pla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0.7 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e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0.4 b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o.63 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1.05 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The paper from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84 mill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bill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0528200" y="4659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16640" y="324972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5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51640" y="37339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8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27720" y="426708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3.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48006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3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27720" y="533412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,8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22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stening to the tape and choose the best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 From Paragraph 3 we can see that the best thing to do when throwing waste into the sea is to 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505320"/>
            <a:ext cx="73915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t least 5 kilometres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t least 19 kilometres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t least 40 kilometres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s far away as possible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" descr=""/>
          <p:cNvPicPr/>
          <p:nvPr/>
        </p:nvPicPr>
        <p:blipFill>
          <a:blip r:embed="rId1"/>
          <a:stretch/>
        </p:blipFill>
        <p:spPr>
          <a:xfrm>
            <a:off x="7238880" y="2590920"/>
            <a:ext cx="10400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914400"/>
            <a:ext cx="84582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. People throw dangerous waste into the deep sea NOT because of 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very little life at the bottom of the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very little movement at the bottom of the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escape of the dangerous chemicals from their conta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safety of fish at the upper level of the oc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C" descr=""/>
          <p:cNvPicPr/>
          <p:nvPr/>
        </p:nvPicPr>
        <p:blipFill>
          <a:blip r:embed="rId1"/>
          <a:stretch/>
        </p:blipFill>
        <p:spPr>
          <a:xfrm>
            <a:off x="7848720" y="1371600"/>
            <a:ext cx="925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1523880"/>
            <a:ext cx="80773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. Which of the problems caused by city rubbish is mentioned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pollution of 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pollution of water re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pollution of s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waste of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D" descr=""/>
          <p:cNvPicPr/>
          <p:nvPr/>
        </p:nvPicPr>
        <p:blipFill>
          <a:blip r:embed="rId1"/>
          <a:stretch/>
        </p:blipFill>
        <p:spPr>
          <a:xfrm>
            <a:off x="6861240" y="2514600"/>
            <a:ext cx="1112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5335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Which of the following statements would you agree to about city rubbish in China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981080"/>
            <a:ext cx="7696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bbish is not a big problem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big cities in China don’t have such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bbish problem is going to be one of the biggest problems in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y rubbish is already one of the biggest environmental problems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D" descr=""/>
          <p:cNvPicPr/>
          <p:nvPr/>
        </p:nvPicPr>
        <p:blipFill>
          <a:blip r:embed="rId1"/>
          <a:stretch/>
        </p:blipFill>
        <p:spPr>
          <a:xfrm>
            <a:off x="7848720" y="1752480"/>
            <a:ext cx="103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5335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. What conclusion may you come to from the last paragra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676520"/>
            <a:ext cx="82296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f China had as much rubbish as Britain, we would be in great trou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China had as much rubbish as Britain, people’s life would be greatly endangered by rubbish mount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f China had as much rubbish as Britain, many big cities in China would likely be surrounded by or buried in rubb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of the ab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D" descr=""/>
          <p:cNvPicPr/>
          <p:nvPr/>
        </p:nvPicPr>
        <p:blipFill>
          <a:blip r:embed="rId1"/>
          <a:stretch/>
        </p:blipFill>
        <p:spPr>
          <a:xfrm>
            <a:off x="8075520" y="1066680"/>
            <a:ext cx="1068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380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Which of the following is the right meaning of “treat”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828800"/>
            <a:ext cx="76960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f you treat someone in a particular way, you behave that way towards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reat something in a particular way is to deal with it tha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o give someone a treat is to buy something special for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doctor treats a patient, he/she tries to make the patient well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" descr=""/>
          <p:cNvPicPr/>
          <p:nvPr/>
        </p:nvPicPr>
        <p:blipFill>
          <a:blip r:embed="rId1"/>
          <a:stretch/>
        </p:blipFill>
        <p:spPr>
          <a:xfrm>
            <a:off x="6324480" y="914400"/>
            <a:ext cx="993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382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81280" y="3124080"/>
            <a:ext cx="327672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rid of (rubb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048120"/>
            <a:ext cx="22096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202440"/>
            <a:ext cx="17524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6172200"/>
            <a:ext cx="167616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871560"/>
            <a:ext cx="9144000" cy="520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447920"/>
            <a:ext cx="9144000" cy="50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shall we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man is hard to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hat is the best way of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ing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thie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book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s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problems of  pol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made a speech at the conference,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ing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olk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)I don't know ________to deal with such a problem.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)I don't know ________to do with such a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5440" y="76320"/>
            <a:ext cx="7634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anguage po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. deal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0" y="6524640"/>
            <a:ext cx="8961480" cy="333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90920" y="48769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5410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00000" y="98100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617400"/>
            <a:ext cx="8915400" cy="77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ow to get rid of waste is a great probl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or the world today.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疑问词 ＋ 不定式”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When to start for Shangha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s not yet deci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Where to store the was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s still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She didn’t know what to do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et rid of,  deal with,  do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get rid of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表示“处理”，侧重“消灭；摆脱或清除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deal with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和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do with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侧重“处理”的手段、方法或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533520"/>
            <a:ext cx="8642160" cy="68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 get rid of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排除；摆脱；处理掉，去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to throw away something you do not want or use any mo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must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et ri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ll your worries and have a good re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can I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et ri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pain in the le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shall have to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et ri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se old pictur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took me a month to get rid of my c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had to get rid of my assistant because he was alway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60948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n many countries with sea coasts, human waste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iped directly into the sea without being tre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介词短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ith sea coast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定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带有”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,“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具有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意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国是一个历史悠久的大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China is a large country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with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a long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380880"/>
            <a:ext cx="9144000" cy="72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. without + -ing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被动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 left the classroom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ithout being permitt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 walked away from home on a dark night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ithout being se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 was lucky; he escaped from the burning hous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ithout being injur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o you think we’ll get a seat without having to que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squirrel was lucky that it just missed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catching                  B.to be ca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 being caught           D.to c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6019920"/>
            <a:ext cx="380880" cy="533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280" y="380880"/>
            <a:ext cx="9099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 I heard the terrible sound of ____ last nigh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door's shut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the door being shu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the door's being sh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 the door being sh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038480"/>
            <a:ext cx="91440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. break up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驱散；打碎，拆散；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ship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as broken 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on the r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ntences ca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e broken 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nto clauses, and clauses into phr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76720"/>
            <a:ext cx="533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380880"/>
            <a:ext cx="9144000" cy="68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break up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驱散”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scatter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，“打碎、拆散”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separate or become separated into parts by break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im started to break the ice up on the frozen l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war broke up a lot of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old car was broken up for their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The old cars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ere broken dow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for their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police came and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roke 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he crow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28600"/>
            <a:ext cx="9144000" cy="63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3. break dow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) stop working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坏了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We are sorry to arrive late, but the car broke dow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B) change chemically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After many years, rocks are broken down into dir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) to become mentally or physically ill: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精神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身体崩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If Tim carries on working like this, he'll break down sooner or lat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She broke down after her husband died in an accident</a:t>
            </a: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304920"/>
            <a:ext cx="9144000" cy="64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. stop sb. (from) doing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prevent / stop … (from) doing sth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= keep …from doing s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We all tried to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sto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him (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from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) smoking in bed, but he would still do i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protect sb/sth from /against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The city's defenses were strong enough to protect it against attac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8. be against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违反，违背；反对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Lily married John. It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was agains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her mother’s wish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the decision or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agains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i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4000" y="333360"/>
            <a:ext cx="864216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9. depend on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靠 … 决定；取决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The price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depends on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the qual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Your success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depends on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your effo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828800" y="914400"/>
            <a:ext cx="5257800" cy="3886200"/>
            <a:chOff x="1828800" y="914400"/>
            <a:chExt cx="5257800" cy="3886200"/>
          </a:xfrm>
        </p:grpSpPr>
        <p:sp>
          <p:nvSpPr>
            <p:cNvPr id="56" name=""/>
            <p:cNvSpPr/>
            <p:nvPr/>
          </p:nvSpPr>
          <p:spPr>
            <a:xfrm>
              <a:off x="2199960" y="914400"/>
              <a:ext cx="4644360" cy="388620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99960" y="914400"/>
              <a:ext cx="4644360" cy="388620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99960" y="914400"/>
              <a:ext cx="4644360" cy="38862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65040" y="914400"/>
              <a:ext cx="557280" cy="38862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22000" y="957600"/>
              <a:ext cx="1300320" cy="38430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18280" y="957600"/>
              <a:ext cx="1904400" cy="38430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22680" y="914400"/>
              <a:ext cx="603360" cy="38862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521960" y="914400"/>
              <a:ext cx="1253880" cy="38862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22680" y="957600"/>
              <a:ext cx="1857600" cy="37998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93520" y="1086840"/>
              <a:ext cx="1811160" cy="2156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0480" y="1518840"/>
              <a:ext cx="33440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86080" y="2080080"/>
              <a:ext cx="42728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386080" y="3331440"/>
              <a:ext cx="42728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850480" y="3893040"/>
              <a:ext cx="32972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547080" y="4411080"/>
              <a:ext cx="1904040" cy="1724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50480" y="2296080"/>
              <a:ext cx="1486080" cy="604440"/>
            </a:xfrm>
            <a:prstGeom prst="blockArc">
              <a:avLst>
                <a:gd name="adj1" fmla="val 10072928"/>
                <a:gd name="adj2" fmla="val 727072"/>
                <a:gd name="adj3" fmla="val 2353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54520" y="2339280"/>
              <a:ext cx="1439640" cy="6044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686400" y="3331440"/>
              <a:ext cx="1625400" cy="77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185动态图标" descr=""/>
            <p:cNvPicPr/>
            <p:nvPr/>
          </p:nvPicPr>
          <p:blipFill>
            <a:blip r:embed="rId1"/>
            <a:stretch/>
          </p:blipFill>
          <p:spPr>
            <a:xfrm>
              <a:off x="1828800" y="3375720"/>
              <a:ext cx="75276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185动态图标" descr=""/>
            <p:cNvPicPr/>
            <p:nvPr/>
          </p:nvPicPr>
          <p:blipFill>
            <a:blip r:embed="rId2"/>
            <a:stretch/>
          </p:blipFill>
          <p:spPr>
            <a:xfrm>
              <a:off x="6356160" y="3850560"/>
              <a:ext cx="730440" cy="77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185动态图标" descr=""/>
            <p:cNvPicPr/>
            <p:nvPr/>
          </p:nvPicPr>
          <p:blipFill>
            <a:blip r:embed="rId3"/>
            <a:stretch/>
          </p:blipFill>
          <p:spPr>
            <a:xfrm>
              <a:off x="6287400" y="1346040"/>
              <a:ext cx="7527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187动态图标" descr=""/>
            <p:cNvPicPr/>
            <p:nvPr/>
          </p:nvPicPr>
          <p:blipFill>
            <a:blip r:embed="rId4"/>
            <a:stretch/>
          </p:blipFill>
          <p:spPr>
            <a:xfrm>
              <a:off x="2060640" y="1518840"/>
              <a:ext cx="522360" cy="4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1219320" y="54864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he earth used to be happ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290520"/>
            <a:ext cx="9144000" cy="72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. seek to do sth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) to try; to make an attem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【较正式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was no us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ing 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make peace between the two countr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ought 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change her mind but she ref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另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seek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) look for something that you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st me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wealth; all me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happ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ou should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advice from your teacher on thi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ought an answ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o the question, but couldn't find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80" y="4629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76040" y="1341000"/>
            <a:ext cx="526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It + be +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间段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+ before +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从句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过了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才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3598920" y="2850480"/>
            <a:ext cx="1126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t was a long time before I got to slee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t was not long before they left their village to 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heir fortune in the sou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0120" y="23288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看下面的例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3284640"/>
            <a:ext cx="3529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005360"/>
            <a:ext cx="309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34480" y="407592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久就…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62120" y="321228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很久才…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91440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ill be many years before the chemicals start to escape from the conta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t + be / take +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时间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+ before ***  "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过了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以后，才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as a long time before I felt asleep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ill take several weeks before everything returns to norm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句型：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t is not long before ***  "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不久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就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as not long before they finished their task ahead of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54468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e active in (doing) sth:  take an active part in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's very active in local poli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's been active in raising money for the new church  buil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45684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ultiply the total for Britain by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把英国的总量乘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240" y="1523160"/>
            <a:ext cx="507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ultiply A by B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乘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2400" y="2286000"/>
            <a:ext cx="60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ultiplied by B is / equals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6600" y="4037760"/>
            <a:ext cx="668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ve multiplied by six is / equals thi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6720" y="3200400"/>
            <a:ext cx="35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翻译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5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乘以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6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等于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4765680"/>
            <a:ext cx="7488360" cy="20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6200" y="4861080"/>
            <a:ext cx="14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乘以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7360" y="5702400"/>
            <a:ext cx="18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相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42520" y="4807080"/>
            <a:ext cx="33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y 5 by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6360" y="566244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y 5 and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5228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aling with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Waste must be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 so that it does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life.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When this river fin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a,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ocean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Human wast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rect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 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aragraph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It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law to throw anyt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sea_______5 kilometers of land. (paragraph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868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1523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23162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ll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733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i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4525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ing  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5943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ith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525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gai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380880"/>
            <a:ext cx="9144000" cy="82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The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waste, protect the earth, 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life in them. (paragraph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throw-away socie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T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y problems. 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This is 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lem for large cities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In China,rubbish,such as_____ plastic bag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xes known as 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lution”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111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066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c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962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ar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472428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597384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14400" y="3048120"/>
            <a:ext cx="4876920" cy="91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经典空叠圆简"/>
                <a:ea typeface="经典空叠圆简"/>
              </a:rPr>
              <a:t>Lesson 2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9382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324480" y="6172200"/>
            <a:ext cx="243864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ycle, 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3824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676520" y="2666880"/>
            <a:ext cx="16002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2895480"/>
            <a:ext cx="25146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over(f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6049800"/>
            <a:ext cx="20574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ubber ty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6019920"/>
            <a:ext cx="11430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2057400" y="1066680"/>
            <a:ext cx="5486040" cy="3733920"/>
            <a:chOff x="2057400" y="1066680"/>
            <a:chExt cx="5486040" cy="3733920"/>
          </a:xfrm>
        </p:grpSpPr>
        <p:sp>
          <p:nvSpPr>
            <p:cNvPr id="80" name=""/>
            <p:cNvSpPr/>
            <p:nvPr/>
          </p:nvSpPr>
          <p:spPr>
            <a:xfrm>
              <a:off x="2204280" y="1066680"/>
              <a:ext cx="4898520" cy="373392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4280" y="1066680"/>
              <a:ext cx="4898520" cy="37339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4280" y="1066680"/>
              <a:ext cx="4898520" cy="373392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65840" y="1066680"/>
              <a:ext cx="587520" cy="37339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82120" y="1108080"/>
              <a:ext cx="1371600" cy="36925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44920" y="1108080"/>
              <a:ext cx="2008440" cy="36925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653720" y="1066680"/>
              <a:ext cx="636480" cy="37339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653000" y="1066680"/>
              <a:ext cx="1322280" cy="37339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653720" y="1108080"/>
              <a:ext cx="1959120" cy="365076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73800" y="1232640"/>
              <a:ext cx="1910160" cy="2073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90080" y="1647360"/>
              <a:ext cx="3526920" cy="2901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00120" y="2186640"/>
              <a:ext cx="4506480" cy="2901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400120" y="3389760"/>
              <a:ext cx="4506480" cy="2901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890080" y="3887640"/>
              <a:ext cx="3526920" cy="33192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624840" y="4426560"/>
              <a:ext cx="2008080" cy="1659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939040" y="2062080"/>
              <a:ext cx="1567440" cy="622080"/>
            </a:xfrm>
            <a:prstGeom prst="blockArc">
              <a:avLst>
                <a:gd name="adj1" fmla="val 10072928"/>
                <a:gd name="adj2" fmla="val 727072"/>
                <a:gd name="adj3" fmla="val 2353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849560" y="2020680"/>
              <a:ext cx="1518480" cy="622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22760" y="3763440"/>
              <a:ext cx="1763280" cy="746640"/>
            </a:xfrm>
            <a:prstGeom prst="blockArc">
              <a:avLst>
                <a:gd name="adj1" fmla="val 11143480"/>
                <a:gd name="adj2" fmla="val 21256520"/>
                <a:gd name="adj3" fmla="val 2563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73人物" descr=""/>
            <p:cNvPicPr/>
            <p:nvPr/>
          </p:nvPicPr>
          <p:blipFill>
            <a:blip r:embed="rId1"/>
            <a:stretch/>
          </p:blipFill>
          <p:spPr>
            <a:xfrm>
              <a:off x="2057400" y="4136760"/>
              <a:ext cx="63684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26动态图标" descr=""/>
            <p:cNvPicPr/>
            <p:nvPr/>
          </p:nvPicPr>
          <p:blipFill>
            <a:blip r:embed="rId2"/>
            <a:stretch/>
          </p:blipFill>
          <p:spPr>
            <a:xfrm>
              <a:off x="2057400" y="3763440"/>
              <a:ext cx="53892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185动态图标" descr=""/>
            <p:cNvPicPr/>
            <p:nvPr/>
          </p:nvPicPr>
          <p:blipFill>
            <a:blip r:embed="rId3"/>
            <a:stretch/>
          </p:blipFill>
          <p:spPr>
            <a:xfrm>
              <a:off x="6858000" y="3597480"/>
              <a:ext cx="685440" cy="12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185动态图标" descr=""/>
            <p:cNvPicPr/>
            <p:nvPr/>
          </p:nvPicPr>
          <p:blipFill>
            <a:blip r:embed="rId4"/>
            <a:stretch/>
          </p:blipFill>
          <p:spPr>
            <a:xfrm>
              <a:off x="6514920" y="1440000"/>
              <a:ext cx="1028520" cy="87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8088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he is sad 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25780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y  is she sad 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3049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ading compreh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06668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. Which one suits the meaning of “sort” in Paragraph 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213372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If you sort things, you separate them into different classes, groups, or places, so that you can arrange them in a useful or sensible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3581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 A sort is a group or class of persons or things which are alike in some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4648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 You describe someone as a particular sort when you are describing their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57150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. If you are out of sorts, you feel slightly un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A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94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1440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. When talking about recycling, what is NOT mentio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1600200"/>
            <a:ext cx="7620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d newspapers    B. glass and me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 Leftover food       D. old furniture an clot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D" descr=""/>
          <p:cNvPicPr/>
          <p:nvPr/>
        </p:nvPicPr>
        <p:blipFill>
          <a:blip r:embed="rId1"/>
          <a:stretch/>
        </p:blipFill>
        <p:spPr>
          <a:xfrm>
            <a:off x="7391520" y="1066680"/>
            <a:ext cx="1039680" cy="914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38080" y="33526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. In which of the following cities are you likely to see separate-collection of rubb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44956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York.            B. Par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 Beijing                D. all of the ab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D" descr=""/>
          <p:cNvPicPr/>
          <p:nvPr/>
        </p:nvPicPr>
        <p:blipFill>
          <a:blip r:embed="rId2"/>
          <a:stretch/>
        </p:blipFill>
        <p:spPr>
          <a:xfrm>
            <a:off x="7162920" y="4114800"/>
            <a:ext cx="103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838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. According to the last paragraph,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1752480"/>
            <a:ext cx="8001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the bigger a country is, the more rubbish it m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a smaller country certainly makes less rubb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the richer a country is, the more rubbish it m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. China makes little rubbish because everything here is used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C" descr=""/>
          <p:cNvPicPr/>
          <p:nvPr/>
        </p:nvPicPr>
        <p:blipFill>
          <a:blip r:embed="rId1"/>
          <a:stretch/>
        </p:blipFill>
        <p:spPr>
          <a:xfrm>
            <a:off x="6400800" y="5105520"/>
            <a:ext cx="925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6858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5. Which of the following have you ever tried to do to help reduce rubbish/was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1905120"/>
            <a:ext cx="769644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take more food than necessary so as not to have leftov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on both sides of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old books and newspapers to  have them recycled in fac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D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103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49160" y="95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0800" y="457200"/>
            <a:ext cx="31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 mountain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6440" y="106668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2904"/>
                </a:solidFill>
                <a:latin typeface="Arial"/>
              </a:rPr>
              <a:t>= a mountai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41680" y="38088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山的，大量的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2302200" y="1744560"/>
            <a:ext cx="109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have a mountain of work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untains of clothes need washing and iro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10040" y="2176560"/>
            <a:ext cx="86364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86040" y="2610000"/>
            <a:ext cx="122400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3733920"/>
            <a:ext cx="5688000" cy="1441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2904"/>
                </a:solidFill>
                <a:latin typeface="Arial"/>
              </a:rPr>
              <a:t>其后可接可数或不可数名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22860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ep III. Fill in blanks. L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European countries are now making an act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erials more than they us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Materials are collected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gain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In many cities in Europe rubbish is collecte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However, n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y can sav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the last paragrap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1447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14479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29600" y="14479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2666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2666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320" y="48308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5562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6248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2280" y="47628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t one time                                make an effor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op sb/sth (from)doing            shut down---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gainst  (Opp: be for)          re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epend on                                  left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ight against                    at birth—from the time when one was 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vironment                              by birth--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生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3828960"/>
            <a:ext cx="9144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 will be many year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 chemicals start to escape from the contai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unlikely tha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 chemicals will be carried upwards into the water where fish ar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ther waste may be thrown the sea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ing 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 nature of the materials.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which depends 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709560"/>
            <a:ext cx="91440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defen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“保卫”、“防御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应用范围很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象可以是具体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也可以是抽象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行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语言或文字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辩护或答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defend oneself against enemy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防御敌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guard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“注意观察、戒备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免受可能的攻击或伤害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uard a coas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守卫海岸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protect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“保护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免遭受危险或伤害等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rotect the children from h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护儿童免受伤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6858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04640"/>
            <a:ext cx="9144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more than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比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更多的；更大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want to have a good rest more than anything el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现在最想的是好好休息一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ther than---except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除了…，除…之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's nobody here other than me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了我这里没别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ou can't get there other than by swimm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只能靠游泳游到那边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rather than---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是别的而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glish is taught in our school rather than Russi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学校教的是英语而不是俄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9204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am was built in time to ______the villagers from the flood.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fend     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tect    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pend    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or Clarissa wanted nothing ______ to have someone to talk to .   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ather than                      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re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tter than                       D .other tha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011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14600" y="25146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0" name="011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38680" y="51814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0"/>
            <a:ext cx="9143280" cy="6629040"/>
            <a:chOff x="0" y="0"/>
            <a:chExt cx="9143280" cy="6629040"/>
          </a:xfrm>
        </p:grpSpPr>
        <p:pic>
          <p:nvPicPr>
            <p:cNvPr id="106" name="1-25" descr=""/>
            <p:cNvPicPr/>
            <p:nvPr/>
          </p:nvPicPr>
          <p:blipFill>
            <a:blip r:embed="rId1"/>
            <a:stretch/>
          </p:blipFill>
          <p:spPr>
            <a:xfrm>
              <a:off x="4733280" y="3560400"/>
              <a:ext cx="441000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banner02" descr=""/>
            <p:cNvPicPr/>
            <p:nvPr/>
          </p:nvPicPr>
          <p:blipFill>
            <a:blip r:embed="rId2">
              <a:lum bright="10000"/>
            </a:blip>
            <a:stretch/>
          </p:blipFill>
          <p:spPr>
            <a:xfrm>
              <a:off x="0" y="0"/>
              <a:ext cx="4733280" cy="34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wrkl" descr=""/>
            <p:cNvPicPr/>
            <p:nvPr/>
          </p:nvPicPr>
          <p:blipFill>
            <a:blip r:embed="rId3"/>
            <a:stretch/>
          </p:blipFill>
          <p:spPr>
            <a:xfrm>
              <a:off x="4733280" y="0"/>
              <a:ext cx="4410000" cy="34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78" descr=""/>
            <p:cNvPicPr/>
            <p:nvPr/>
          </p:nvPicPr>
          <p:blipFill>
            <a:blip r:embed="rId4"/>
            <a:stretch/>
          </p:blipFill>
          <p:spPr>
            <a:xfrm>
              <a:off x="0" y="3560400"/>
              <a:ext cx="473328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280" descr=""/>
            <p:cNvPicPr/>
            <p:nvPr/>
          </p:nvPicPr>
          <p:blipFill>
            <a:blip r:embed="rId5"/>
            <a:stretch/>
          </p:blipFill>
          <p:spPr>
            <a:xfrm>
              <a:off x="215280" y="4296960"/>
              <a:ext cx="1758600" cy="15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ao" descr=""/>
            <p:cNvPicPr/>
            <p:nvPr/>
          </p:nvPicPr>
          <p:blipFill>
            <a:blip r:embed="rId6"/>
            <a:stretch/>
          </p:blipFill>
          <p:spPr>
            <a:xfrm>
              <a:off x="3872520" y="3805560"/>
              <a:ext cx="538200" cy="19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270" descr=""/>
            <p:cNvPicPr/>
            <p:nvPr/>
          </p:nvPicPr>
          <p:blipFill>
            <a:blip r:embed="rId7"/>
            <a:stretch/>
          </p:blipFill>
          <p:spPr>
            <a:xfrm>
              <a:off x="1936080" y="5278680"/>
              <a:ext cx="86076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270" descr=""/>
            <p:cNvPicPr/>
            <p:nvPr/>
          </p:nvPicPr>
          <p:blipFill>
            <a:blip r:embed="rId8"/>
            <a:stretch/>
          </p:blipFill>
          <p:spPr>
            <a:xfrm>
              <a:off x="2259000" y="4419360"/>
              <a:ext cx="86076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260" descr=""/>
            <p:cNvPicPr/>
            <p:nvPr/>
          </p:nvPicPr>
          <p:blipFill>
            <a:blip r:embed="rId9"/>
            <a:stretch/>
          </p:blipFill>
          <p:spPr>
            <a:xfrm>
              <a:off x="1506240" y="3560400"/>
              <a:ext cx="860400" cy="122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457200"/>
            <a:ext cx="9144000" cy="72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Frederick once stated, “French science does not want to have anything to do with atomic research _____for  peace.                   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ore than                       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rather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other than                       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ess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deal of ______was done to crop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amages                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urt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amage                 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ru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0118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3" name="0118" descr=""/>
          <p:cNvPicPr/>
          <p:nvPr/>
        </p:nvPicPr>
        <p:blipFill>
          <a:blip r:embed="rId2"/>
          <a:stretch/>
        </p:blipFill>
        <p:spPr>
          <a:xfrm>
            <a:off x="685800" y="64771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2280" y="182520"/>
            <a:ext cx="9144000" cy="67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I sent invitations to 80 people, ______have replied.    </a:t>
            </a:r>
            <a:r>
              <a:rPr b="1" lang="zh-CN" sz="3000" spc="-1" strike="noStrike">
                <a:solidFill>
                  <a:srgbClr val="006600"/>
                </a:solidFill>
                <a:latin typeface="Times New Roman"/>
              </a:rPr>
              <a:t>         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f whom only 20 of these       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nly 20 of these wh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f whom only 20                    D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nly 20 wh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I must remember______ John that the garden needs __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reminding; watering           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to remind ; watering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reminding; to water            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to remind; to wat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0118" descr=""/>
          <p:cNvPicPr/>
          <p:nvPr/>
        </p:nvPicPr>
        <p:blipFill>
          <a:blip r:embed="rId1"/>
          <a:stretch/>
        </p:blipFill>
        <p:spPr>
          <a:xfrm>
            <a:off x="247680" y="25909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86" name="0118" descr=""/>
          <p:cNvPicPr/>
          <p:nvPr/>
        </p:nvPicPr>
        <p:blipFill>
          <a:blip r:embed="rId2"/>
          <a:stretch/>
        </p:blipFill>
        <p:spPr>
          <a:xfrm>
            <a:off x="171360" y="51055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6320" y="304920"/>
            <a:ext cx="9144000" cy="72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8.College students are free to study______ them. 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that interests  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interes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which interests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intere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eople travelling long distances frequently have to decide ______they would prefer to go by land, sea or air.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ich       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ow      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y     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e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0118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9" name="0118" descr=""/>
          <p:cNvPicPr/>
          <p:nvPr/>
        </p:nvPicPr>
        <p:blipFill>
          <a:blip r:embed="rId2"/>
          <a:stretch/>
        </p:blipFill>
        <p:spPr>
          <a:xfrm>
            <a:off x="6934320" y="6324480"/>
            <a:ext cx="2854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76320" y="392040"/>
            <a:ext cx="9144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ith five hundred children ______ round the table, the food disappeared ______. 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ing ; at no time        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ed ; in no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ed ; at no time         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ing; in no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2. Give this to ______ you think can do th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ell .        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                       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ever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mever                  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0118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92" name="0118" descr=""/>
          <p:cNvPicPr/>
          <p:nvPr/>
        </p:nvPicPr>
        <p:blipFill>
          <a:blip r:embed="rId2"/>
          <a:stretch/>
        </p:blipFill>
        <p:spPr>
          <a:xfrm>
            <a:off x="5181480" y="54100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22860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o get an education, ______. 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e must work hard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work hard is necessa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is required to work hard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rking hard is need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 would have come sooner, but I ______ that you were waiting .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idn't know         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dn't known       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ven't kn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0118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95" name="0118" descr=""/>
          <p:cNvPicPr/>
          <p:nvPr/>
        </p:nvPicPr>
        <p:blipFill>
          <a:blip r:embed="rId2"/>
          <a:stretch/>
        </p:blipFill>
        <p:spPr>
          <a:xfrm>
            <a:off x="685800" y="57913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6320" y="619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320" y="619200"/>
            <a:ext cx="93726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boy who was cleaning the shoes in the street said to   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young man passed b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t me clean your boots. It'll     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   ______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end you only a penny.”But the young man refused. Then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3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boy told him that he will clean his boots for nothing.     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4.    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young man agreed, and soon a boot shining brightly.   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5.   ______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n he put the other boot on the box, and the boy refused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n it unless he was paid two pence for his work. The      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7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oung man refused to pay for anything and went away. But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8.   ______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well-cleaned boot made the dirty one so bad that he     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9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ld walk on. He turned back and gave the boy two pence.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00400" y="619200"/>
            <a:ext cx="38088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077320" y="61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29600" y="619200"/>
            <a:ext cx="22860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160956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1152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320" y="214308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77320" y="168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275256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153280" y="2295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952880" y="298080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298116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77320" y="2752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920" y="38196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77320" y="3362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6320" y="412380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320" y="40482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77320" y="3819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29000" y="4581360"/>
            <a:ext cx="3808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77320" y="4429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153280" y="4505400"/>
            <a:ext cx="38124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077320" y="4581360"/>
            <a:ext cx="609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．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62120" y="580032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580068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29600" y="54957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4788000" cy="3789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2771640" y="1484280"/>
            <a:ext cx="49960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隶书"/>
              </a:rPr>
              <a:t>Good-bye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2985840" cy="380988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734400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Step  1 Discussion</a:t>
            </a:r>
            <a:br>
              <a:rPr sz="5400"/>
            </a:b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at is thrown away as waste at your home?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407664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9144000" cy="61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Step 2 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 the answers to the two questions in 6 min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ind out the topic sentence of Part 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at types of waste are mentioned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743200"/>
            <a:ext cx="899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48927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ured into the rivers; piped into  the the sea; taken far out to sea; thrown into the sea; put into containers and thrown into the deep sea; stored on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2514600"/>
            <a:ext cx="914400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w to get rid of waste is a great problem for the world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What is done to waste nowaday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743200"/>
            <a:ext cx="899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43000"/>
            <a:ext cx="91440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Poured into the rivers; piped into  the the sea; taken far out to sea; thrown into the sea; put into containers and thrown into the deep sea; stored on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as been done for environmental protec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International organizations: Friends of the Earth, Green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me special laws have been made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6280" y="728640"/>
            <a:ext cx="3516120" cy="486108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27720" y="1133640"/>
            <a:ext cx="4005000" cy="409572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27" name=""/>
          <p:cNvSpPr/>
          <p:nvPr/>
        </p:nvSpPr>
        <p:spPr>
          <a:xfrm>
            <a:off x="657360" y="5634000"/>
            <a:ext cx="409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7360" y="563400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Wate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14:48:31Z</dcterms:created>
  <dc:creator>Benny Lee</dc:creator>
  <dc:description/>
  <dc:language>en-US</dc:language>
  <cp:lastModifiedBy>w</cp:lastModifiedBy>
  <dcterms:modified xsi:type="dcterms:W3CDTF">2004-09-21T14:13:36Z</dcterms:modified>
  <cp:revision>118</cp:revision>
  <dc:subject/>
  <dc:title>PowerPoint 演示文稿</dc:title>
</cp:coreProperties>
</file>