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1042920" y="54936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Unit 6 Mainly revi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132000" y="170028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Lesson  2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remi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remind sb.to do sth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t is going to rain. Please remind me to take umbrella when I go out l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remind sb. of s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should remind him of his mann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remind sb. tha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teacher reminds us that the exam was only weeks aw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ock p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顾名思义是由礁石围成的小水池，是因为退潮时，一些海水留在岩石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seaweed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海草；海藻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可以是可数或不可数名词，这里因为海藻的种类很多，所以用复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05120" y="6248520"/>
            <a:ext cx="53316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7171ed"/>
                </a:solidFill>
                <a:latin typeface="Times New Roman"/>
              </a:rPr>
              <a:t>make a note </a:t>
            </a:r>
            <a:r>
              <a:rPr b="1" lang="en-US" sz="3200" spc="-1" strike="noStrike">
                <a:solidFill>
                  <a:srgbClr val="f34b0f"/>
                </a:solidFill>
                <a:latin typeface="Times New Roman"/>
              </a:rPr>
              <a:t>where it’s f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rite down in your noteboo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7171ed"/>
                </a:solidFill>
                <a:latin typeface="Times New Roman"/>
              </a:rPr>
              <a:t>make notes, tak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7171ed"/>
                </a:solidFill>
                <a:latin typeface="Times New Roman"/>
              </a:rPr>
              <a:t>Make a note of the titles of the bo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71ed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7171ed"/>
                </a:solidFill>
                <a:latin typeface="Times New Roman"/>
              </a:rPr>
              <a:t>Make a ma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34b0f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f34b0f"/>
                </a:solidFill>
                <a:latin typeface="Times New Roman"/>
              </a:rPr>
              <a:t> you have a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7171ed"/>
                </a:solidFill>
                <a:latin typeface="Times New Roman"/>
              </a:rPr>
              <a:t>I can’t find the boo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34b0f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34b0f"/>
                </a:solidFill>
                <a:latin typeface="Times New Roman"/>
              </a:rPr>
              <a:t>I lef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34b0f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f34b0f"/>
                </a:solidFill>
                <a:latin typeface="Times New Roman"/>
              </a:rPr>
              <a:t> there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34b0f"/>
                </a:solidFill>
                <a:latin typeface="Times New Roman"/>
              </a:rPr>
              <a:t>a  will</a:t>
            </a:r>
            <a:r>
              <a:rPr b="0" lang="en-US" sz="3200" spc="-1" strike="noStrike">
                <a:solidFill>
                  <a:srgbClr val="7171ed"/>
                </a:solidFill>
                <a:latin typeface="Times New Roman"/>
              </a:rPr>
              <a:t>, there is a w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34b0f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f34b0f"/>
                </a:solidFill>
                <a:latin typeface="Times New Roman"/>
              </a:rPr>
              <a:t> there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34b0f"/>
                </a:solidFill>
                <a:latin typeface="Times New Roman"/>
              </a:rPr>
              <a:t>smo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7171ed"/>
                </a:solidFill>
                <a:latin typeface="Times New Roman"/>
              </a:rPr>
              <a:t>, there is f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. You should make it a rule to leave things ______ you can find them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when      B. where       C. then          D.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71e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6248520"/>
            <a:ext cx="4572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fter the war, a new school building was put up ______ there had once been a thea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at        B. when       C. which        D. w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34320" y="1981080"/>
            <a:ext cx="6094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971800"/>
            <a:ext cx="9144000" cy="48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o a drawing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4d69c1"/>
                </a:solidFill>
                <a:latin typeface="Times New Roman"/>
              </a:rPr>
              <a:t>draw what you have found in your exercise boo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69c1"/>
                </a:solidFill>
                <a:latin typeface="Times New Roman"/>
              </a:rPr>
              <a:t>9.</a:t>
            </a:r>
            <a:r>
              <a:rPr b="0" lang="zh-CN" sz="3200" spc="-1" strike="noStrike">
                <a:solidFill>
                  <a:srgbClr val="f34b0f"/>
                </a:solidFill>
                <a:latin typeface="Times New Roman"/>
              </a:rPr>
              <a:t>look +adj    link 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town always looks dirtier on Sunday mornings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It looks as if + claus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) It looks as if there will be a sto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 It looks as if it isn’t clean enough to bathe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60020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看起来他们不是很高兴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看起来你们相处得很好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8195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looks as if they are unhap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464832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looks as if you are getting on well with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533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 get rid of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lear away ;give u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vt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摆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去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4038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not eas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 get rid of a bad hab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133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ubbish gives off a terrible smell.We mu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et rid of i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257800"/>
            <a:ext cx="7315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 can’t get rid of his heada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93726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0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it isn't clean enough to bathe 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= it is too dirty to bathe her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The book isn't easy enough for him to r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seems + that-claus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表示猜测或判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个句型比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looks as if + cl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所表示的猜测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更显的有一点把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seems that everything is ready for the trav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seems as if/that…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但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looks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that…(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错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No matter how much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you want to bathe,it just isn’t saf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=However much</a:t>
            </a:r>
            <a:r>
              <a:rPr b="1" lang="zh-CN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you want to bathe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13. no matter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 +who, what, when, where, how , et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引导让步状语从句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however,whatever,wherever,et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引导让步状语从句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名词性从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No matter how bright you are,you have to work har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No matter when you come, you will receive a warm welco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No matter what she says,I won’t believe h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=I won’t believe</a:t>
            </a:r>
            <a:r>
              <a:rPr b="0" lang="zh-CN" sz="3000" spc="-1" strike="noStrike">
                <a:solidFill>
                  <a:srgbClr val="4d69c1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ff3300"/>
                </a:solidFill>
                <a:latin typeface="Times New Roman"/>
              </a:rPr>
              <a:t>whatever she say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-380880"/>
            <a:ext cx="9144000" cy="723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No matter where you go, I’ll go with yo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4d69c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69c1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Wherever you go ,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’ll go with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4. Suppose v. / think / gues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suppose he has gone to the country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et us suppose that the news is tr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be supposed to do…= should do…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要求…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veryone is supposed to wear a seat belt in the 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’re supposed to </a:t>
            </a:r>
            <a:r>
              <a:rPr b="0" lang="zh-CN" sz="3200" spc="-1" strike="noStrike">
                <a:solidFill>
                  <a:srgbClr val="7171ed"/>
                </a:solidFill>
                <a:latin typeface="Times New Roman"/>
              </a:rPr>
              <a:t>have finish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homework last night, but none of you d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You should </a:t>
            </a:r>
            <a:r>
              <a:rPr b="0" lang="zh-CN" sz="3200" spc="-1" strike="noStrike">
                <a:solidFill>
                  <a:srgbClr val="7171ed"/>
                </a:solidFill>
                <a:latin typeface="Times New Roman"/>
              </a:rPr>
              <a:t>have finish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homework last nigh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be expected to 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professor was expected to come to our school and give us a le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820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5  Workbook exerci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2860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omework:   1. Ex 1 of the work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Exercises for V-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838080"/>
            <a:ext cx="510516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(in front of the bo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3124080"/>
            <a:ext cx="32767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rid of (rubb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3048120"/>
            <a:ext cx="2209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202440"/>
            <a:ext cx="17524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6172200"/>
            <a:ext cx="167616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6172200"/>
            <a:ext cx="24386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ycle, 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3824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76520" y="2666880"/>
            <a:ext cx="16002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2895480"/>
            <a:ext cx="25146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over(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6049800"/>
            <a:ext cx="20574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ubber ty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6019920"/>
            <a:ext cx="1143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ep 1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400040"/>
            <a:ext cx="83818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Can you tell me the names of 2 large ocea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What is the name of the sea between Europe and Afri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How does sea water stay cl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What can you do in the s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esson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OCR A Extended"/>
              </a:rPr>
              <a:t>Step 2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Talk about the picture of L.21</a:t>
            </a:r>
            <a:r>
              <a:rPr b="1" lang="zh-CN" sz="3600" spc="-1" strike="noStrike">
                <a:solidFill>
                  <a:srgbClr val="ff3300"/>
                </a:solidFill>
                <a:latin typeface="OCR A Extended"/>
              </a:rPr>
              <a:t> :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o are they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re are the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at can you see in the pictu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465120"/>
            <a:ext cx="91440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tep 3 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did the dialogue take pla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did they want to do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Why couldn’t they have a sw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How did the sea become pollu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8367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n the sea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9034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ook for seaweeds,fish,plants,all living things;have a swim;have lu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351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 water was very di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71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eople in the town piped waste into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wr8" descr=""/>
          <p:cNvPicPr/>
          <p:nvPr/>
        </p:nvPicPr>
        <p:blipFill>
          <a:blip r:embed="rId1"/>
          <a:stretch/>
        </p:blipFill>
        <p:spPr>
          <a:xfrm>
            <a:off x="6781680" y="457200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tep 4 practising the dialogue in pairs or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tep 5 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34b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4b0f"/>
                </a:solidFill>
                <a:latin typeface="Times New Roman"/>
              </a:rPr>
              <a:t>par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这句中不是“聚会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代表“（进行某种活动的）一伙人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7171ed"/>
                </a:solidFill>
                <a:latin typeface="Times New Roman"/>
              </a:rPr>
              <a:t>a school party: a group of pupils</a:t>
            </a:r>
            <a:r>
              <a:rPr b="1" lang="zh-CN" sz="3200" spc="-1" strike="noStrike">
                <a:solidFill>
                  <a:srgbClr val="7171ed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搜寻小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7171ed"/>
                </a:solidFill>
                <a:latin typeface="Times New Roman"/>
              </a:rPr>
              <a:t>search par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earch party has been sent out to bring back the injured work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英语中怎么来吸引大家的注意呢</a:t>
            </a:r>
            <a:r>
              <a:rPr b="1" lang="zh-CN" sz="3200" spc="-1" strike="noStrike">
                <a:solidFill>
                  <a:srgbClr val="7171ed"/>
                </a:solidFill>
                <a:latin typeface="Times New Roman"/>
              </a:rPr>
              <a:t>"OK,everyone.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怎样请大家安静下来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7171ed"/>
                </a:solidFill>
                <a:latin typeface="Times New Roman"/>
              </a:rPr>
              <a:t>Less noise,please.= </a:t>
            </a:r>
            <a:r>
              <a:rPr b="0" lang="zh-CN" sz="3200" spc="-1" strike="noStrike">
                <a:solidFill>
                  <a:srgbClr val="7171ed"/>
                </a:solidFill>
                <a:latin typeface="Times New Roman"/>
              </a:rPr>
              <a:t>Please make less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71ed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7171ed"/>
                </a:solidFill>
                <a:latin typeface="Times New Roman"/>
              </a:rPr>
              <a:t>=  "No noise,please.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34b0f"/>
                </a:solidFill>
                <a:latin typeface="Times New Roman"/>
              </a:rPr>
              <a:t>gather around</a:t>
            </a:r>
            <a:r>
              <a:rPr b="0" lang="zh-CN" sz="3200" spc="-1" strike="noStrike">
                <a:solidFill>
                  <a:srgbClr val="f34b0f"/>
                </a:solidFill>
                <a:latin typeface="Times New Roman"/>
              </a:rPr>
              <a:t> : </a:t>
            </a:r>
            <a:r>
              <a:rPr b="1" lang="zh-CN" sz="3200" spc="-1" strike="noStrike">
                <a:solidFill>
                  <a:srgbClr val="7171ed"/>
                </a:solidFill>
                <a:latin typeface="Times New Roman"/>
              </a:rPr>
              <a:t>come closer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vi.</a:t>
            </a:r>
            <a:r>
              <a:rPr b="1" lang="zh-CN" sz="3200" spc="-1" strike="noStrike">
                <a:solidFill>
                  <a:srgbClr val="7171ed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71ed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7171ed"/>
                </a:solidFill>
                <a:latin typeface="Times New Roman"/>
              </a:rPr>
              <a:t>round up…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gather        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集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聚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ogether     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adv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共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合起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ltogether   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adv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完全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总而言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4800600"/>
            <a:ext cx="381240" cy="1447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66960"/>
            <a:ext cx="9144000" cy="47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34b0f"/>
                </a:solidFill>
                <a:latin typeface="Times New Roman"/>
              </a:rPr>
              <a:t>searc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rch + n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“搜查、搜身”的意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rch fo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ook fo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较相近，是“寻找……”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police searched the room for the thie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rch a criminal: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搜罪犯的身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search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罗燕玲</dc:creator>
  <dc:description/>
  <dc:language>en-US</dc:language>
  <cp:lastModifiedBy>w</cp:lastModifiedBy>
  <dcterms:modified xsi:type="dcterms:W3CDTF">2004-09-17T15:20:18Z</dcterms:modified>
  <cp:revision>62</cp:revision>
  <dc:subject/>
  <dc:title>PowerPoint 演示文稿</dc:title>
</cp:coreProperties>
</file>