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click.wav" ContentType="audio/x-wav"/>
  <Override PartName="/ppt/media/MTO_008.WAV" ContentType="audio/x-wav"/>
  <Override PartName="/ppt/media/image23.gif" ContentType="image/gif"/>
  <Override PartName="/ppt/media/image16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0.jpeg" ContentType="image/jpeg"/>
  <Override PartName="/ppt/media/image19.gif" ContentType="image/gif"/>
  <Override PartName="/ppt/media/image17.png" ContentType="image/png"/>
  <Override PartName="/ppt/media/image14.gif" ContentType="image/gif"/>
  <Override PartName="/ppt/media/image13.png" ContentType="image/png"/>
  <Override PartName="/ppt/media/image20.gif" ContentType="image/gif"/>
  <Override PartName="/ppt/media/image18.gif" ContentType="image/gif"/>
  <Override PartName="/ppt/media/arrow.wav" ContentType="audio/x-wav"/>
  <Override PartName="/ppt/media/image27.wmf" ContentType="image/x-wmf"/>
  <Override PartName="/ppt/media/image9.png" ContentType="image/png"/>
  <Override PartName="/ppt/media/image29.gif" ContentType="image/gif"/>
  <Override PartName="/ppt/media/image34.png" ContentType="image/png"/>
  <Override PartName="/ppt/media/image26.png" ContentType="image/png"/>
  <Override PartName="/ppt/media/MTO_014.WAV" ContentType="audio/x-wav"/>
  <Override PartName="/ppt/media/MTC_032.WAV" ContentType="audio/x-wav"/>
  <Override PartName="/ppt/media/breeze.wav" ContentType="audio/x-wav"/>
  <Override PartName="/ppt/media/image30.jpeg" ContentType="image/jpeg"/>
  <Override PartName="/ppt/media/image28.wmf" ContentType="image/x-wmf"/>
  <Override PartName="/ppt/media/image3.jpeg" ContentType="image/jpeg"/>
  <Override PartName="/ppt/media/image12.gif" ContentType="image/gif"/>
  <Override PartName="/ppt/media/image32.png" ContentType="image/png"/>
  <Override PartName="/ppt/media/image1.jpeg" ContentType="image/jpeg"/>
  <Override PartName="/ppt/media/image11.png" ContentType="image/png"/>
  <Override PartName="/ppt/media/coin.wav" ContentType="audio/x-wav"/>
  <Override PartName="/ppt/media/image33.png" ContentType="image/png"/>
  <Override PartName="/ppt/media/image8.png" ContentType="image/png"/>
  <Override PartName="/ppt/media/MTP_040.WAV" ContentType="audio/x-wav"/>
  <Override PartName="/ppt/media/chimes.wav" ContentType="audio/x-wav"/>
  <Override PartName="/ppt/media/image31.wmf" ContentType="image/x-wmf"/>
  <Override PartName="/ppt/media/image7.jpeg" ContentType="image/jpeg"/>
  <Override PartName="/ppt/media/image6.jpeg" ContentType="image/jpeg"/>
  <Override PartName="/ppt/media/type.wav" ContentType="audio/x-wav"/>
  <Override PartName="/ppt/media/image25.gif" ContentType="image/gif"/>
  <Override PartName="/ppt/media/image15.gif" ContentType="image/gif"/>
  <Override PartName="/ppt/media/image5.jpeg" ContentType="image/jpeg"/>
  <Override PartName="/ppt/media/image4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0492-713A-46BD-AF3C-2C67502366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ice to meet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sson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022-5655-40E2-87DB-92259C74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704-BF05-4AC1-85FD-CA60F49B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64049-5724-497F-B87F-49B3DCE2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F4276-E7F1-4CBB-97E6-50185619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55FF2-C622-4B3C-8D91-3E30775D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C4914-5454-4F6E-9FD1-13CCDDF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AFA81-BD4A-42C9-9525-624CBC8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58895-04F6-4DF8-9E87-B370D650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1201B-324B-4C17-B386-4AA0FAF0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D6F62-8D12-46E9-A75A-80610F12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75345-06EF-4456-B02B-C42712BD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68C5E-F471-42FE-8D9E-9B2BD8E8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B4E-89C3-4B41-9084-F94FFC72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054BC-45AB-44D0-A9B6-CD170BA0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34FF9-9123-4C50-8A2B-EE365F59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FE0B9-4E90-4339-B2AA-962BCF00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5400E-9595-4048-8624-1EF6A326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5A456-1489-4D4D-9EB3-CCE1600D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44975-D092-4C3A-B5FB-DF09B6E4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BC1AC-4DB5-4C9D-B85A-360F2367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BB683-DDDA-4163-85A8-FFD9C8D1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C13A1-1558-4016-B060-D47B8710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C6FC0-4DAC-4E59-AFDD-2ED747D4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C2E-F92E-404B-9BC4-6B785181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07FB6-B4BC-4DC9-8F23-B3E68CC2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265CD-D20D-463D-A517-EF9946A3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1FA30-87A0-44AA-9AF5-4A0CCE8A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A7C96-0F09-468F-9FDE-1FDD9F80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D3FD0-90C1-4AEC-8B50-89AFC9AD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08BB7-DBEA-45CE-8AC2-D1ABA2E0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ACE04-B423-4EEE-B154-FAD3E116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0BAE7-9A60-4F19-B801-EF1F929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2D758-1013-4788-ABA7-BECDCBD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98C49-FD2F-479F-9DF0-B1FE8F6D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112B-A16D-40D0-8674-B1F0C523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C81EF-C4A0-4608-BA2E-90C1DBFE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FB596-CB0E-4186-A826-A9D088D3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F2412-CA29-4E55-AC4A-0072B48C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3CFB-BB0B-465A-83A5-D027165F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AC1D-11E0-442E-BE1D-17DE1524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2C33-45F9-4B5D-91BF-3FA2ECF9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4C3B-E702-4B01-BCC0-B87697CF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AFF0-B785-4327-A0A0-C6101CE5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A083-0DE5-42EF-A6E0-85C12BA6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106-B7D3-4F18-BC57-17178E34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3F5C-42C0-4176-B637-EFD6B1AD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FD85-178B-4087-829F-530BE5C7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28DC-B97A-4EF6-B1E0-2D90547F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309E-9724-4FD5-8632-F0E9A866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E083-7010-417F-9232-4B316B91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4094-6A78-46F1-B15D-377ED4D3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223B-5CC5-4429-833F-8649DB9C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2F1FA-1D56-47FF-94B3-9D146814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0725-8189-4FF0-971E-D0BE030D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E9BF-A58F-45BD-BDA9-46FBBCA5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395-D3B1-4F7D-A1AA-DD5DE7F5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1FE4-80C9-4205-B855-D476D984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903C-A029-4455-BC41-8B0C651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36A9-F4C1-4693-8565-60B8A2A2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00D6-0E48-46FD-A385-6419C92D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777E-DB3D-401E-8F01-62690DF2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5974-D889-4070-AC4E-BBC5B78B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D3D4-E4E9-45E9-B1A5-916E2CAF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9608-89E5-4A50-AF79-1F0671ED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D857-536B-4AF1-81B7-03FEAE11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8878-95D5-4A1E-9F2F-C640D29F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D3D-FB4E-4774-A1CC-FDBD6E25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2B16-44E8-4DE6-BC11-2059DF0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BE3C-37AE-4C5C-9257-90916E53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4D196-9D13-4AD3-8A35-96803666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9EB3-7804-490C-B63F-B94244E3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F2F4-0333-457E-878B-E836241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E036-143F-4F51-AE15-A46A3ECA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D70F-56B8-4B4B-AA20-20C51A1F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6565D-131C-4848-AD67-E6B69FB6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0C03-CD49-4431-983E-709DEF0A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A3641-E403-4A3D-BEF6-6252E8C5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5A3-C4E5-4BF2-8F20-9B6832EA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554B3-27DF-4333-A27C-A60EDCEF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DCE81-43FF-4759-9A50-C37BFDB4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95FCA-E90B-45C2-9F0F-FC4BBCED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9A6A6-F606-4E56-BB06-C96BCB2E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EB355-FB19-43CE-AEDC-0D01E9EC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0071A-5373-4500-B176-9C788F1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1972-9190-4450-9147-CD13871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1617E-23EE-4F17-BB76-EC6294C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062E-0FDE-4F5C-BE95-2CCFADD0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A9BFA-8CEC-41BE-BB14-D95F49BD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20E-5CDE-4944-B1A2-B3F95A00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266CD-2A55-463F-9568-621B46FF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23928-2260-469A-A6F1-54873F30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94313-0678-4CF3-8368-4DF2B397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C829E-5C7E-4D99-ACB5-57B78C08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79676-53D7-40A1-97AD-50AA3B61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5E50-62C8-444B-BD71-E164D706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2E483-BBF7-414A-A3CD-A5AD9966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3423D-0A39-4306-8FF1-4D635D81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19F27-3148-4E5C-87A2-0E37AED5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913BB-F232-4963-8019-8A1340FC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71C-240E-49BB-B654-3BB7E782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0F6EF-FF43-4253-A9A5-D86CBE0D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1A24E-3364-4C39-AFBC-D4EA3885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4CE5-4257-403F-A5C8-CB60D867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6AB5E-B4A5-467A-BF46-E5DE64EA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54753-9406-4FC0-B683-8A1D1E67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B89D2-879D-439F-8B5C-FE69EE2E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CF1FD-AA89-43EE-A0EF-EDCCA8EA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2BD56-8633-4753-834B-310DBBAF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68404-E35F-43D3-ACB6-92A5DB4C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E70EF-3DF7-4567-95B5-3DB9467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D88-E55A-4102-A733-EFED8BC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D1202-6858-4F74-93E9-DAB3CAB1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96FED-05BC-4BAF-94A8-66B90EDB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A47DB-7C32-4C10-A49B-0FD9046D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56720-6BE5-44FD-AF94-CC1C5ECD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A2D7E-04DD-4D1E-BFBB-E566E1F2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6FEB2-0011-4180-ACDE-9058A64F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8870-A545-48F6-8BE6-C2C82988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543C9-0767-41EC-A6DF-BB410472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FC9A1-2A51-4A06-B445-F3DE05CC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BCF9C-D2D3-49DF-A857-56DB6DFA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823-44DB-4DBD-8BEC-06C440EE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5EC94-4AEF-42C0-9DD5-89B39469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4A567-8EF6-4CF5-8908-96EA1231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A6DD9-6FD8-4610-83EF-2F8ACC28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6C7E5-D9B1-43D1-B6C7-2C4B9F6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272ED-4E17-40CB-9A16-ECF898E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6C128-B893-4AAF-8CEF-42BC1EC2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0083D-BD54-4092-B3E9-E301A85F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5BDC3-1E38-4329-91EC-8D069D74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1D565-99C3-49A6-94CF-96715BE8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CD0EC-89F8-4AB4-9DA0-188090EE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AABE-BBCC-40BB-9D63-84AAF0832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55D0-9331-4361-8B22-9AF70063AD3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275F-F066-4D36-8FDC-05EAF854449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AA85-EB59-453A-B30A-C3584BC5F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84BF-1267-4D92-924B-DD66461953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E7F2-503A-4960-9EF1-28DB52921151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9F29-4AB9-4029-9BE9-7733E7618386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283B-9107-4CFB-AB1F-D8A20766A4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44EB-1B4F-43B3-AB55-129FC1DB9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866E-8374-43B5-B4F3-84B1C51E20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4C27-A434-48AC-BA95-54127084713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audio" Target="../media/MTO_014.WAV"/><Relationship Id="rId5" Type="http://schemas.openxmlformats.org/officeDocument/2006/relationships/slideLayout" Target="../slideLayouts/slideLayout6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6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TC_032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audio" Target="../media/MTP_040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2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" Target="slide7.xml"/><Relationship Id="rId9" Type="http://schemas.openxmlformats.org/officeDocument/2006/relationships/image" Target="../media/image18.gif"/><Relationship Id="rId10" Type="http://schemas.openxmlformats.org/officeDocument/2006/relationships/slide" Target="slide8.xml"/><Relationship Id="rId11" Type="http://schemas.openxmlformats.org/officeDocument/2006/relationships/image" Target="../media/image19.gif"/><Relationship Id="rId12" Type="http://schemas.openxmlformats.org/officeDocument/2006/relationships/slide" Target="slide9.xml"/><Relationship Id="rId13" Type="http://schemas.openxmlformats.org/officeDocument/2006/relationships/image" Target="../media/image20.gif"/><Relationship Id="rId14" Type="http://schemas.openxmlformats.org/officeDocument/2006/relationships/slide" Target="slide10.xml"/><Relationship Id="rId15" Type="http://schemas.openxmlformats.org/officeDocument/2006/relationships/image" Target="../media/image21.gif"/><Relationship Id="rId1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6.xml"/><Relationship Id="rId3" Type="http://schemas.openxmlformats.org/officeDocument/2006/relationships/image" Target="../media/image23.gi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" Target="slide6.xml"/><Relationship Id="rId4" Type="http://schemas.openxmlformats.org/officeDocument/2006/relationships/image" Target="../media/image23.gif"/><Relationship Id="rId5" Type="http://schemas.openxmlformats.org/officeDocument/2006/relationships/audio" Target="../media/MTO_008.WAV"/><Relationship Id="rId6" Type="http://schemas.openxmlformats.org/officeDocument/2006/relationships/audio" Target="../media/MTO_008.WAV"/><Relationship Id="rId7" Type="http://schemas.openxmlformats.org/officeDocument/2006/relationships/audio" Target="../media/MTO_008.WAV"/><Relationship Id="rId8" Type="http://schemas.openxmlformats.org/officeDocument/2006/relationships/audio" Target="../media/MTO_008.WAV"/><Relationship Id="rId9" Type="http://schemas.openxmlformats.org/officeDocument/2006/relationships/audio" Target="../media/MTO_008.WAV"/><Relationship Id="rId10" Type="http://schemas.openxmlformats.org/officeDocument/2006/relationships/audio" Target="../media/MTO_008.WAV"/><Relationship Id="rId11" Type="http://schemas.openxmlformats.org/officeDocument/2006/relationships/audio" Target="../media/MTO_008.WAV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6.xml"/><Relationship Id="rId3" Type="http://schemas.openxmlformats.org/officeDocument/2006/relationships/image" Target="../media/image23.gif"/><Relationship Id="rId4" Type="http://schemas.openxmlformats.org/officeDocument/2006/relationships/audio" Target="../media/MTO_008.WAV"/><Relationship Id="rId5" Type="http://schemas.openxmlformats.org/officeDocument/2006/relationships/audio" Target="../media/MTO_008.WAV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 rot="21240000">
            <a:off x="761760" y="2274840"/>
            <a:ext cx="7272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ranti Solid LET"/>
              </a:rPr>
              <a:t>Nice to meet you!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ranti Solid LET"/>
              <a:ea typeface="Tiranti Solid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30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527640" cy="44654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292360" y="1628280"/>
            <a:ext cx="222084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2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974.2.4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5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50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1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30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7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4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32000" y="476280"/>
            <a:ext cx="57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cap="rnd"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 LET"/>
              </a:rPr>
              <a:t> </a:t>
            </a:r>
            <a:r>
              <a:rPr b="1" i="1" lang="en-US" sz="4000" spc="1" strike="noStrike">
                <a:ln cap="rnd"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 LET"/>
              </a:rPr>
              <a:t>Listen and think</a:t>
            </a:r>
            <a:endParaRPr b="1" i="1" lang="en-US" sz="4000" spc="1" strike="noStrike">
              <a:ln cap="rnd"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380360" y="3284640"/>
            <a:ext cx="119700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6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Highlight LET"/>
                <a:ea typeface="GungsuhChe"/>
              </a:rPr>
              <a:t>What </a:t>
            </a:r>
            <a:r>
              <a:rPr b="1" lang="en-US" sz="6000" spc="-1" strike="noStrike">
                <a:solidFill>
                  <a:srgbClr val="cc3300"/>
                </a:solidFill>
                <a:latin typeface="Highlight LET"/>
              </a:rPr>
              <a:t>happened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2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974.2.4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50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1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7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874800" cy="10814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959120" y="1503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92200" y="14940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35000" y="112536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to the Capital Buildi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69760" y="438120"/>
            <a:ext cx="71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Highlight LET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58600" y="1628640"/>
            <a:ext cx="64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han 220 people were killed in the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35640" y="242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11640" y="25653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25480" y="213372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happened on Feb. 4th, 197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6040" y="27082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ital Building had 25 flo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37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86600" y="3213000"/>
            <a:ext cx="68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 500 people were working in the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88400" y="3716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broke out on the 11th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89840" y="4221000"/>
            <a:ext cx="69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han 300 people were trapped by the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16760" y="47242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out 70 people escaped  in the  helicop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545480" y="53006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lasted about four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7524720" y="537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6732720" y="5373720"/>
            <a:ext cx="730080" cy="720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8244000" y="5373720"/>
            <a:ext cx="7300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6760" y="333360"/>
            <a:ext cx="89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February 4th, 1974, the Capital Building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est building in Sao Paulo, was destroyed in a big f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haps the fire was started by an electrical fire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 of one office o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oor. Soon the whol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ire. There we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oors in the building. As it had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scapes, the 300 people who were trapp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e could not escape. Many of them climbed to the f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the building. The helicopters came, but there wa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vy smoke that the helicopters were no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se enough. Finally, about 70 people were_______ .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the streets, the firemen could not get close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ecause crowds of people we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f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they reached the building they found their lad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e not lo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reach the peop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were trapp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terrible fire last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our hours, and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st of the building an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ver 220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17080" y="57340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781440" y="5372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57080" y="5012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97080" y="50122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28360" y="42915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w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200" y="4291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519600" y="35733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05800" y="321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461800" y="28515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0000" y="28515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ro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309440" y="213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in/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080" y="21326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94160" y="1772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84360" y="177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86520" y="14119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11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1280" y="1340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332000" y="333360"/>
            <a:ext cx="540072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cap="rnd" w="9360">
                  <a:solidFill>
                    <a:srgbClr val="3333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range LET"/>
              </a:rPr>
              <a:t> </a:t>
            </a:r>
            <a:r>
              <a:rPr b="1" i="1" lang="en-US" sz="5400" spc="1" strike="noStrike">
                <a:ln cap="rnd" w="9360">
                  <a:solidFill>
                    <a:srgbClr val="3333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range LET"/>
              </a:rPr>
              <a:t>Let's talk</a:t>
            </a:r>
            <a:endParaRPr b="1" i="1" lang="en-US" sz="5400" spc="1" strike="noStrike">
              <a:ln cap="rnd" w="9360">
                <a:solidFill>
                  <a:srgbClr val="3333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Orange LET"/>
              <a:ea typeface="Orange LET"/>
            </a:endParaRPr>
          </a:p>
        </p:txBody>
      </p:sp>
      <p:sp>
        <p:nvSpPr>
          <p:cNvPr id="590" name=""/>
          <p:cNvSpPr/>
          <p:nvPr/>
        </p:nvSpPr>
        <p:spPr>
          <a:xfrm>
            <a:off x="574560" y="1773360"/>
            <a:ext cx="76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800000"/>
                </a:solidFill>
                <a:latin typeface="Trebuchet MS"/>
              </a:rPr>
              <a:t>What do you think of Sao Paulo F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7320" y="2565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2. Would you like to be in such a fi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f not, what should we do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4320" y="393372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3. If a fire broke out in your h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what should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324000" y="4797360"/>
            <a:ext cx="3887640" cy="15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P_04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5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41080" y="620640"/>
            <a:ext cx="827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Knowing what to do in case of fire is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important. If a fire broke out in your home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what would you do? First, you should warn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everyone in the house about the danger. Don’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be too afraid and start crying. Be calm and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act fast. Second, you and all the others shou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get out of the house. Don’t stop to take belong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ings  with you. Once you are out of the house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stay out. Do not go back for any reason. Fin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when you are out of the house, call the fire-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fighters. Don’t try to put out the fire yourself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That can be very dangerous.</a:t>
            </a:r>
            <a:r>
              <a:rPr b="1" i="1" lang="zh-CN" sz="2800" spc="-1" strike="noStrike">
                <a:solidFill>
                  <a:srgbClr val="a9bda9"/>
                </a:solidFill>
                <a:latin typeface="Comic Sans MS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1565280" cy="1897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2633760" y="404640"/>
            <a:ext cx="32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 Black"/>
                <a:ea typeface="GungsuhChe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173480" y="746280"/>
            <a:ext cx="8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8600" y="1989000"/>
            <a:ext cx="797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.Two hundred and twenty were kill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he Sao Paulo Fire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8240" y="1988280"/>
            <a:ext cx="73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2.The building was not finishe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he fire broke out.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9680" y="1987920"/>
            <a:ext cx="862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3. All the offices were completely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except  those below the 11th floor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5320" y="1927080"/>
            <a:ext cx="747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4. Only the firemen knew how the f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had started.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4600" y="198828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5. At first, it was possible for the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workers to put out the fire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4960" y="1988280"/>
            <a:ext cx="801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6. Below the 11th floor people were 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o escape into the street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6600" y="2059560"/>
            <a:ext cx="88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7. The people above the 11th floor w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rapped because there were no fire escapes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1880" y="1927080"/>
            <a:ext cx="817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8. It was difficult for the firefighters 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close to the building because the sm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from the fire was too thick.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3680" y="2059560"/>
            <a:ext cx="788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0. Four hours after the fire started,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firemen still couldn’t control it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0600" y="1987920"/>
            <a:ext cx="810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9. The  ladders the firefighters had ta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with  them were not long enough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0" dur="1" fill="hold"/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52880" y="765000"/>
            <a:ext cx="31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Comic Sans MS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0328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26920" y="1773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Match the words and meanings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8472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-674640" y="2637000"/>
            <a:ext cx="407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1. 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2. resc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3. roof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4. firefi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5. esc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6. lose one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7. belong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8.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124800" y="4075560"/>
            <a:ext cx="63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E. a person whose work is to put out fir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98520" y="371520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D. di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3356640"/>
            <a:ext cx="56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. the inside top of a hous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30920" y="2996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B. to get away from a dangerou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25520" y="263592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A. the top of the outside of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31280" y="450864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F. to make sb. safe from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135960" y="522936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H. the things that belong to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50920" y="2924280"/>
            <a:ext cx="1152720" cy="6490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50920" y="3284640"/>
            <a:ext cx="1152720" cy="1439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692360" y="2852280"/>
            <a:ext cx="1511280" cy="792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40000" y="4005360"/>
            <a:ext cx="93672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124000" y="3284640"/>
            <a:ext cx="1079640" cy="1009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987640" y="4005000"/>
            <a:ext cx="216000" cy="718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56000" y="5084640"/>
            <a:ext cx="64764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30920" y="48690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268360" y="5084280"/>
            <a:ext cx="93528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352880" y="765000"/>
            <a:ext cx="31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Comic Sans MS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7640" y="19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1280" y="1125360"/>
            <a:ext cx="6480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      </a:t>
            </a: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Trans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the following phrases into English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30760" y="2852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着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17200" y="2852640"/>
            <a:ext cx="33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关煤气 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当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71760" y="3519360"/>
            <a:ext cx="56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不要紧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要是那样的话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6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扑灭</a:t>
            </a:r>
            <a:r>
              <a:rPr b="1" i="1" lang="zh-CN" sz="24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99320" y="4221000"/>
            <a:ext cx="63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7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属于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8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牺牲    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9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靠近火</a:t>
            </a:r>
            <a:r>
              <a:rPr b="1" i="1" lang="zh-CN" sz="2400" spc="-1" strike="noStrike">
                <a:solidFill>
                  <a:srgbClr val="001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88200" y="486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10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火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657440" y="6397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11280" y="0"/>
            <a:ext cx="511308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cap="rnd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Writing</a:t>
            </a:r>
            <a:endParaRPr b="1" i="1" lang="en-US" sz="4400" spc="1" strike="noStrike">
              <a:ln cap="rnd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39" name=""/>
          <p:cNvSpPr/>
          <p:nvPr/>
        </p:nvSpPr>
        <p:spPr>
          <a:xfrm>
            <a:off x="868320" y="1457280"/>
            <a:ext cx="706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Write a few sentences abou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big fire in Sao Paulo with th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words given to you:</a:t>
            </a:r>
            <a:r>
              <a:rPr b="1" lang="en-US" sz="3200" spc="-1" strike="noStrike">
                <a:solidFill>
                  <a:srgbClr val="320032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29560" y="310212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catch fire;   destr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98800" y="3094200"/>
            <a:ext cx="11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tra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63360" y="3741840"/>
            <a:ext cx="27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heavy smo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02040" y="374184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l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10360" y="374184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resc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062360" y="438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firefight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5680" y="4365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put out</a:t>
            </a:r>
            <a:r>
              <a:rPr b="1" i="1" lang="en-US" sz="2800" spc="-1" strike="noStrike">
                <a:solidFill>
                  <a:srgbClr val="320032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 rot="20820000">
            <a:off x="3354120" y="4707000"/>
            <a:ext cx="47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00cc"/>
                </a:solidFill>
                <a:latin typeface="Tiranti Solid LET"/>
                <a:ea typeface="方正舒体"/>
              </a:rPr>
              <a:t>Home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39220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-150840" y="476280"/>
            <a:ext cx="93488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根据下面资料完成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字左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火灾报告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5856"/>
                </a:solidFill>
                <a:latin typeface="Arial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时间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地点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华北某市一大礼堂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(hall)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事故经过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一千名师生在礼堂开会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因礼堂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起火造成火灾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人多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难以控制火情。大火持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约两个小时，整个礼堂遭焚毁。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伤亡情况：</a:t>
            </a: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六十多人在火灾中丧生，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一百多人受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5651640" y="1557360"/>
            <a:ext cx="1152360" cy="144360"/>
          </a:xfrm>
          <a:custGeom>
            <a:avLst/>
            <a:gdLst>
              <a:gd name="textAreaLeft" fmla="*/ 384120 w 1152360"/>
              <a:gd name="textAreaRight" fmla="*/ 987120 w 1152360"/>
              <a:gd name="textAreaTop" fmla="*/ 83160 h 144360"/>
              <a:gd name="textAreaBottom" fmla="*/ 12384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907920"/>
            <a:ext cx="976320" cy="144720"/>
          </a:xfrm>
          <a:custGeom>
            <a:avLst/>
            <a:gdLst>
              <a:gd name="textAreaLeft" fmla="*/ 0 w 976320"/>
              <a:gd name="textAreaRight" fmla="*/ 976680 w 9763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25520" y="62064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taneo BT"/>
                <a:ea typeface="바탕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29080" y="14842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taneo BT"/>
              </a:rPr>
              <a:t>ce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947960" y="191628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cc"/>
                </a:solidFill>
                <a:latin typeface="Milano LET"/>
              </a:rPr>
              <a:t>Goodby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56720" y="3216240"/>
            <a:ext cx="57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ilano LET"/>
              </a:rPr>
              <a:t>Thanks  f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ilano LET"/>
              </a:rPr>
              <a:t>your attend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8" repeatCount="indefinite">
                                  <p:stCondLst>
                                    <p:cond delay="6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232019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258920" y="404640"/>
            <a:ext cx="32385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icrosoft Sans Serif"/>
              </a:rPr>
              <a:t>Lesson 62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1332000" y="2492280"/>
            <a:ext cx="604836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icrosoft Sans Serif"/>
              </a:rPr>
              <a:t>Sao Paulo Fire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a4e00"/>
                </a:solidFill>
                <a:latin typeface="Arial"/>
              </a:rPr>
              <a:t>Aims and dema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1. To know harm of fire to peopl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are able to describe it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2. To know the importance of prev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3. Vocabul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4 skills: completely, belong, belong to,       ceiling, put out, control, flat, roof, firefigh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close, get close to ,lose one’s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3 skills: escape, fire esc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55640" y="620640"/>
            <a:ext cx="784872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 of the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loors of the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e start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e laste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son for the fi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___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destroy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k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also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743280" cy="9367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859280" y="189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Verdana"/>
              </a:rPr>
              <a:t>Sao Paulo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94880" y="6922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ebruary 4th,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03480" y="12891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Capital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77280" y="186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40920" y="2513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11th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72720" y="3141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or 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80360" y="3645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No one kn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05200" y="479736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All 25 floors of the building                                    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60000" y="54450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More than 220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68400" y="602136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Cars belonging to the people working 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4968720" cy="6524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 rot="21275400">
            <a:off x="4788000" y="0"/>
            <a:ext cx="2327040" cy="1844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6659640" y="0"/>
            <a:ext cx="2303280" cy="13413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347200" y="404640"/>
            <a:ext cx="52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s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38200" y="441360"/>
            <a:ext cx="719280" cy="7192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71640" y="4437000"/>
            <a:ext cx="3457440" cy="43200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        11th         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71640" y="2421000"/>
            <a:ext cx="3456000" cy="43164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       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1403280" y="486900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7"/>
          <a:stretch/>
        </p:blipFill>
        <p:spPr>
          <a:xfrm>
            <a:off x="1403280" y="2852640"/>
            <a:ext cx="2592360" cy="15843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5221080" y="429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2349360"/>
            <a:ext cx="718920" cy="935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125280 h 935280"/>
              <a:gd name="textAreaBottom" fmla="*/ 8100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56360" y="2276640"/>
            <a:ext cx="23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227640" y="1773360"/>
            <a:ext cx="2160720" cy="57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40360" y="2060640"/>
            <a:ext cx="259236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Helico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88000" y="2276640"/>
            <a:ext cx="158436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0360" y="3141720"/>
            <a:ext cx="259236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12000" y="4437000"/>
            <a:ext cx="252072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irefigh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084720" y="3357720"/>
            <a:ext cx="209880" cy="2095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6230520" y="321300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84720" y="234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156360" y="472428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740720" y="5734080"/>
            <a:ext cx="8636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e6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2190600" cy="2190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549360"/>
            <a:ext cx="6266160" cy="4678200"/>
          </a:xfrm>
          <a:prstGeom prst="wedgeRoundRectCallout">
            <a:avLst>
              <a:gd name="adj1" fmla="val 49569"/>
              <a:gd name="adj2" fmla="val 61467"/>
              <a:gd name="adj3" fmla="val 16667"/>
            </a:avLst>
          </a:prstGeom>
          <a:solidFill>
            <a:srgbClr val="ffcc99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63640" y="119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00000" y="836640"/>
            <a:ext cx="6224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low the 11th floor people   were able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eet. However, more than 300 people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bove the fire. The building had no 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t all! They h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climb up to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e building.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87640" y="126828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scape  int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42520" y="227664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were   trappe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87640" y="32130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fire  esc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6237360"/>
            <a:ext cx="216000" cy="172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789080" y="378936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lat     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971640" y="1773360"/>
            <a:ext cx="7704000" cy="4248000"/>
          </a:xfrm>
          <a:prstGeom prst="wedgeRectCallout">
            <a:avLst>
              <a:gd name="adj1" fmla="val -42458"/>
              <a:gd name="adj2" fmla="val -62143"/>
            </a:avLst>
          </a:prstGeom>
          <a:solidFill>
            <a:srgbClr val="ffcc99"/>
          </a:solidFill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49960" cy="40482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7120" y="1720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042920" y="2205000"/>
            <a:ext cx="755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were sent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but the smoke  was t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avy for us to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we couldn’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enough to the building un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hours later. At last, we hel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0 peopl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34880" y="227664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02880" y="270828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14160" y="31417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50640" y="31813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78880" y="37162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93800" y="422100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54520" y="45813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scap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734080"/>
            <a:ext cx="21564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24000" y="836640"/>
            <a:ext cx="7200720" cy="3887640"/>
          </a:xfrm>
          <a:prstGeom prst="wedgeEllipseCallout">
            <a:avLst>
              <a:gd name="adj1" fmla="val 35495"/>
              <a:gd name="adj2" fmla="val 70662"/>
            </a:avLst>
          </a:prstGeom>
          <a:solidFill>
            <a:srgbClr val="ffcc99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4800" y="1341360"/>
            <a:ext cx="731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ny people were wa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fire in the stree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couldn’t get close to the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so, our ladders were not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ough to _____ the people 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 tr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11840" y="1432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05800" y="18446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so  tha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74160" y="33577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56360" y="5157720"/>
            <a:ext cx="216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14:35:23Z</dcterms:created>
  <dc:creator>young</dc:creator>
  <dc:description/>
  <dc:language>en-US</dc:language>
  <cp:lastModifiedBy>young</cp:lastModifiedBy>
  <dcterms:modified xsi:type="dcterms:W3CDTF">2002-03-06T12:45:21Z</dcterms:modified>
  <cp:revision>23</cp:revision>
  <dc:subject/>
  <dc:title>幻灯片 1</dc:title>
</cp:coreProperties>
</file>