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click.wav" ContentType="audio/x-wav"/>
  <Override PartName="/ppt/media/MTO_008.WAV" ContentType="audio/x-wav"/>
  <Override PartName="/ppt/media/image23.gif" ContentType="image/gif"/>
  <Override PartName="/ppt/media/image16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gif" ContentType="image/gif"/>
  <Override PartName="/ppt/media/image17.png" ContentType="image/png"/>
  <Override PartName="/ppt/media/image14.gif" ContentType="image/gif"/>
  <Override PartName="/ppt/media/image13.png" ContentType="image/png"/>
  <Override PartName="/ppt/media/image20.gif" ContentType="image/gif"/>
  <Override PartName="/ppt/media/image18.gif" ContentType="image/gif"/>
  <Override PartName="/ppt/media/arrow.wav" ContentType="audio/x-wav"/>
  <Override PartName="/ppt/media/image27.wmf" ContentType="image/x-wmf"/>
  <Override PartName="/ppt/media/image9.png" ContentType="image/png"/>
  <Override PartName="/ppt/media/image29.gif" ContentType="image/gif"/>
  <Override PartName="/ppt/media/image34.png" ContentType="image/png"/>
  <Override PartName="/ppt/media/image26.png" ContentType="image/png"/>
  <Override PartName="/ppt/media/MTO_014.WAV" ContentType="audio/x-wav"/>
  <Override PartName="/ppt/media/MTC_032.WAV" ContentType="audio/x-wav"/>
  <Override PartName="/ppt/media/breeze.wav" ContentType="audio/x-wav"/>
  <Override PartName="/ppt/media/image30.jpeg" ContentType="image/jpeg"/>
  <Override PartName="/ppt/media/image28.wmf" ContentType="image/x-wmf"/>
  <Override PartName="/ppt/media/image3.jpeg" ContentType="image/jpeg"/>
  <Override PartName="/ppt/media/image12.gif" ContentType="image/gif"/>
  <Override PartName="/ppt/media/image32.png" ContentType="image/png"/>
  <Override PartName="/ppt/media/image1.jpeg" ContentType="image/jpeg"/>
  <Override PartName="/ppt/media/image11.png" ContentType="image/png"/>
  <Override PartName="/ppt/media/coin.wav" ContentType="audio/x-wav"/>
  <Override PartName="/ppt/media/image33.png" ContentType="image/png"/>
  <Override PartName="/ppt/media/image8.png" ContentType="image/png"/>
  <Override PartName="/ppt/media/MTP_040.WAV" ContentType="audio/x-wav"/>
  <Override PartName="/ppt/media/chimes.wav" ContentType="audio/x-wav"/>
  <Override PartName="/ppt/media/image31.wmf" ContentType="image/x-wmf"/>
  <Override PartName="/ppt/media/image7.jpeg" ContentType="image/jpeg"/>
  <Override PartName="/ppt/media/image6.jpeg" ContentType="image/jpeg"/>
  <Override PartName="/ppt/media/type.wav" ContentType="audio/x-wav"/>
  <Override PartName="/ppt/media/image25.gif" ContentType="image/gif"/>
  <Override PartName="/ppt/media/image15.gif" ContentType="image/gif"/>
  <Override PartName="/ppt/media/image5.jpeg" ContentType="image/jpeg"/>
  <Override PartName="/ppt/media/image4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CBCE-FBB9-4A1E-B57A-7E42F8129A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ice to meet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sson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EBC-FC7A-4B1E-AA46-40A91316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F1A-3132-44FE-A3D4-E0A2E38E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1474D-1D5E-4886-817F-15F155E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ADA9C-F069-4A72-8CCE-33EAB72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6AA3B-3EBA-4663-940E-5BC43223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4B2C5-75FD-4DC1-BE2E-2F28771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2F3E9-4A83-4287-87FD-F7B9BA5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27A1C-D769-4413-8045-1EED05A5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2B56F-3B81-4DC4-AF93-3C36F160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B4041-F71B-464F-8C6D-D68BD5AA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CF6A1-3CB0-4999-9BEC-6481A0C2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3D6FB-9EBD-4371-A0CC-2EF78713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9EF-04BA-4C70-A18C-788FDE01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0AE80-933F-4C9A-84DA-69364315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7D40E-DDF9-439E-8E7D-3478C047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D1C24-3808-4B72-9A94-3F664C2B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E075E-5A03-4E88-9EDC-C098C43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E9AF0-3DCE-4F08-8DC8-2D8A06CF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23540-5FE0-4A6B-BED8-9979B0DE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E8283-46D5-4FDC-86E1-5DDEDB5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73EAD-BC96-416F-8AA7-CA5768E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5686C-2657-4568-AB85-09E0A64B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B5853-5540-4E25-AC10-A7AA354E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894-0F75-4468-8107-DA5ECCCD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91CC7-389F-4AF5-B490-8694EDFF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DBF11-7A06-48A9-B636-6D684240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FFAA3-5DC4-41B6-8F55-3FBC7ACB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8A030-9FCC-4D8A-8CBA-7937AE41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9A4B-DE3A-4CC6-89A0-C72A72C1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8075E-22D1-4532-9D20-209BE989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F7CBA-B380-4583-B07B-7F5E2859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0B62E-4AEB-4DE3-8165-95C86E33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79540-D8BA-4FCA-9C18-7EA5A47B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3B7DE-6BE5-45CF-842E-7243AE07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52CE-C0AC-4E46-A49C-C937ACDF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4F8AC-0402-4B32-B0B0-734CC247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A397B-1DBE-40D2-B581-05E8BDB0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B3F1D-4FE9-4049-9A7D-5DF8A5CC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F006-0E8A-43B5-9C12-3B99B38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0AAB-736E-42BE-9C99-B6407F70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E983-0257-4C28-92C0-0388932D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144A-5C53-4564-971A-334BD3DE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A74D-BE2C-4A4A-9A2B-D32F3950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7609-658B-47E5-A3B0-C1F8F1E5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D43-99A4-42C1-BA48-90DF8071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F122-3C50-4F48-BB0A-45BC2FD5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E519-71CB-4452-901A-66E5A78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CDBD-84AC-440F-A429-A983714A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AE1C-DA3E-4C75-A5D6-E393B999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8CE-EB28-408F-B98D-2EB5556E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4AF3-C9AB-494D-8E07-ECF541E4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C0BC-338B-4EC8-8781-47910112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96E3-4FE6-4854-ACE4-F896B719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7617-08D7-4094-882C-C85066C8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6AE62-1ECE-4B22-AC06-EB5D896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EE7-614F-46B2-B2CD-A65E3135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F400-A6AD-4ECC-A17B-355DC2FA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A162-5204-4065-ADCB-E8BA36A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AEF8-4C7E-46B3-B754-1B377F5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70EA-6DBE-46C6-BFC2-D62507E0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91DF-8FCE-4461-BFD2-306813C4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ABDE-4CB0-45D2-9541-3749A406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483E-A1C9-404B-88D9-095BD8B6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02465-6105-4884-970C-E332F063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47DB-7EB0-4B6B-A141-7B03A5BE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B3B9-84BD-48E3-9EEF-DDE00D3D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F91-F86D-4A76-B160-6BC10D69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87AF-B136-4712-A20D-BE39E7F6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893A-3904-4DE2-A8BA-65D350F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5764-29A3-4D4A-AD46-F113EA42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7A10-6769-4179-B38A-F21413B9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D7EE-2D90-4F8E-B411-721C06E8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62EF-8174-4F71-80B8-BCFECD9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DFA6E-03B5-4064-9193-20993BB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8AA9B-DB68-4CE0-8148-211AC25F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7FCC-75FD-448F-AA21-163D5B1F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2D83-7FFF-48E2-878C-A36D96C0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89E-904B-4ABF-ACEE-9EEC909B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552C-3CF1-42F4-9A0F-00E1793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D53EF-2BB4-4C9C-BF94-2175F7A6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C83F-5218-4C34-95E3-276E2C4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862B8-122B-4993-BAD4-DA6B44E0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219E2-4B28-4AC7-B1E0-DE4E8912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FE18B-2B77-4B89-A45C-A55B870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F8133-5E92-423E-B88A-D63BF10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9143-F954-44BD-B8CA-3C43BE39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1823D-0A28-4C9A-B0F3-4EF7BC3E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7ACC-F8BC-4DF0-B1BB-EFF2E82B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C90-244E-4DF8-BCF4-A0E96694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66F7-B7DC-4BB8-AC8F-261EEB00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45448-CF1E-4006-9C60-0CD7E585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4301-4C22-4C6E-80D7-838AC5FF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D3F34-05D0-4A83-BE6C-1FB6A4BE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F9F2-28A8-4B4D-A64B-CF937346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E1DE-4887-4936-8C15-016EDE13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39263-89E2-486D-BB99-F99E3B2E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713B-5973-4DC0-A6D6-0731144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C3B3B-9E5B-49C9-B3EC-16E5340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65B42-28CC-4E2D-ADA9-AA82821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C1B-A0D7-436B-9E48-775F0C15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BCD0-313A-442D-9F38-BF380024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C5FE-2A3F-472A-9CD8-465E7260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6A68-21D3-4383-8C7C-932E1B9C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E3940-0CBC-4E05-92DD-E40D7385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0C868-D144-40FE-839C-DAE4E20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9F799-5C1A-4C3E-BB49-B6A75FD2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12DF5-7798-4312-B81A-D2E79EF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A8527-1367-4983-ACAF-3B95117B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1BA3A-C1B3-47CD-B2D5-3765F657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7CDC5-D9F9-44E2-87D4-2D739469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6FB-5594-409C-8B11-7E5672C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DDF2-C114-4988-B30B-7EC19D12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E33AA-8176-4243-B9C8-EED3B21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B3984-765E-4F3A-B915-C97F5F8A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A55BE-02D4-45EA-B596-DAF8C264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D15A5-09D8-4C52-A6F1-47D53180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E3EB-A065-4BD1-BFDB-D6D96ED5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FC6C0-E043-4AFF-BD61-46D90485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844B-7125-4F24-B49B-F26E8FD6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D863E-868B-470D-B82B-7A5BC24C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7CB70-D8E6-4CB0-B6FD-9683773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D38-A4A5-4BA3-ADF2-1F0AAB56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601A6-D98D-486F-83B7-AA173F70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F33D9-29FB-4301-B52B-B36B1C0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BEF87-30DD-4CD8-ACA3-AC95BC7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BAB3-3011-4330-9C00-4BC3176A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AD6EE-58AB-4DB6-AEC3-3875E8F1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0A02B-9939-43CF-9528-6E060980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0EF42-6C11-4362-96B3-0DDB2CE7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DE76A-6762-4BC8-9485-C668E3D0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13863-61CA-47F3-BE24-B44F8E46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13D16-9893-4A5F-8EC3-55BE0460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DFFF-9EB9-4C7E-B4C0-C84E4C3456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2E5-4E99-4201-848E-E39642DABBE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7858-213B-4619-A649-666DFCD6169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7A40-0F21-4826-B6C6-B9C2A67F4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D992-11E9-4AA0-A3A3-6548014D22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DAB3-70C3-439D-9609-4E02445B06C2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E581-6A3B-4DF3-B9CD-1EB9FEBD7E69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603-B9C9-465A-A2B6-AB8CEE081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55DA-C0C5-4732-920E-7E5665217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2965-FF14-4F72-9C7C-711A95C2858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A253-5D2F-4584-BF4D-3F36F7E96A1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audio" Target="../media/MTO_014.WAV"/><Relationship Id="rId5" Type="http://schemas.openxmlformats.org/officeDocument/2006/relationships/slideLayout" Target="../slideLayouts/slideLayout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TC_032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audio" Target="../media/MTP_040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2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7.xml"/><Relationship Id="rId9" Type="http://schemas.openxmlformats.org/officeDocument/2006/relationships/image" Target="../media/image18.gif"/><Relationship Id="rId10" Type="http://schemas.openxmlformats.org/officeDocument/2006/relationships/slide" Target="slide8.xml"/><Relationship Id="rId11" Type="http://schemas.openxmlformats.org/officeDocument/2006/relationships/image" Target="../media/image19.gif"/><Relationship Id="rId12" Type="http://schemas.openxmlformats.org/officeDocument/2006/relationships/slide" Target="slide9.xml"/><Relationship Id="rId13" Type="http://schemas.openxmlformats.org/officeDocument/2006/relationships/image" Target="../media/image20.gif"/><Relationship Id="rId14" Type="http://schemas.openxmlformats.org/officeDocument/2006/relationships/slide" Target="slide10.xml"/><Relationship Id="rId15" Type="http://schemas.openxmlformats.org/officeDocument/2006/relationships/image" Target="../media/image21.gif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" Target="slide6.xml"/><Relationship Id="rId4" Type="http://schemas.openxmlformats.org/officeDocument/2006/relationships/image" Target="../media/image23.gif"/><Relationship Id="rId5" Type="http://schemas.openxmlformats.org/officeDocument/2006/relationships/audio" Target="../media/MTO_008.WAV"/><Relationship Id="rId6" Type="http://schemas.openxmlformats.org/officeDocument/2006/relationships/audio" Target="../media/MTO_008.WAV"/><Relationship Id="rId7" Type="http://schemas.openxmlformats.org/officeDocument/2006/relationships/audio" Target="../media/MTO_008.WAV"/><Relationship Id="rId8" Type="http://schemas.openxmlformats.org/officeDocument/2006/relationships/audio" Target="../media/MTO_008.WAV"/><Relationship Id="rId9" Type="http://schemas.openxmlformats.org/officeDocument/2006/relationships/audio" Target="../media/MTO_008.WAV"/><Relationship Id="rId10" Type="http://schemas.openxmlformats.org/officeDocument/2006/relationships/audio" Target="../media/MTO_008.WAV"/><Relationship Id="rId11" Type="http://schemas.openxmlformats.org/officeDocument/2006/relationships/audio" Target="../media/MTO_008.WAV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MTO_008.WAV"/><Relationship Id="rId5" Type="http://schemas.openxmlformats.org/officeDocument/2006/relationships/audio" Target="../media/MTO_008.WAV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 rot="21240000">
            <a:off x="761760" y="2274840"/>
            <a:ext cx="7272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ranti Solid LET"/>
              </a:rPr>
              <a:t>Nice to meet you!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ranti Solid LET"/>
              <a:ea typeface="Tiranti Solid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0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527640" cy="44654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292360" y="1628280"/>
            <a:ext cx="222084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2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974.2.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5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5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1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3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7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32000" y="476280"/>
            <a:ext cx="57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 </a:t>
            </a: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Listen and think</a:t>
            </a:r>
            <a:endParaRPr b="1" i="1" lang="en-US" sz="4000" spc="1" strike="noStrike">
              <a:ln cap="rnd"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119700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Highlight LET"/>
                <a:ea typeface="GungsuhChe"/>
              </a:rPr>
              <a:t>What </a:t>
            </a:r>
            <a:r>
              <a:rPr b="1" lang="en-US" sz="6000" spc="-1" strike="noStrike">
                <a:solidFill>
                  <a:srgbClr val="cc3300"/>
                </a:solidFill>
                <a:latin typeface="Highlight LET"/>
              </a:rPr>
              <a:t>happened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2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974.2.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5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1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7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874800" cy="10814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959120" y="1503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92200" y="1494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35000" y="112536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o the Capital Build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69760" y="438120"/>
            <a:ext cx="71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Highlight LET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58600" y="1628640"/>
            <a:ext cx="64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220 people were killed in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35640" y="242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11640" y="2565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25480" y="213372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happened on Feb. 4th, 197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6040" y="2708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ital Building had 25 flo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86600" y="3213000"/>
            <a:ext cx="68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 500 people were working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88400" y="3716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broke out on the 11th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89840" y="42210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300 people were trapped by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16760" y="47242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out 70 people escaped  in the  helicop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45480" y="530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lasted about four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752472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6732720" y="5373720"/>
            <a:ext cx="730080" cy="720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8244000" y="5373720"/>
            <a:ext cx="7300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760" y="33336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February 4th, 1974, the Capital Building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est building in Sao Paulo, was destroyed in a big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haps the fire was started by an electrical fire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 of one office o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. Soon the whol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ire. Ther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s in the building. As it had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scapes, the 300 people who were trapp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e could not escape. Many of them climbed to the f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the building. The helicopters came, but there 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vy smoke that the helicopters were no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 enough. Finally, about 70 people were_______ .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the streets, the firemen could not get close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ecause crowds of peopl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hey reached the building they found their lad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e not lo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reach the peop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were trapp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terrible fire last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our hours, and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st of the building an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220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17080" y="5734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781440" y="5372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57080" y="5012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97080" y="5012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28360" y="42915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200" y="4291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519600" y="35733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05800" y="321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461800" y="28515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0000" y="28515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o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09440" y="213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in/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080" y="21326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94160" y="1772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84360" y="177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86520" y="14119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11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1280" y="1340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332000" y="333360"/>
            <a:ext cx="540072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 </a:t>
            </a: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Let's talk</a:t>
            </a:r>
            <a:endParaRPr b="1" i="1" lang="en-US" sz="5400" spc="1" strike="noStrike">
              <a:ln cap="rnd" w="9360">
                <a:solidFill>
                  <a:srgbClr val="3333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Orange LET"/>
              <a:ea typeface="Orange LET"/>
            </a:endParaRPr>
          </a:p>
        </p:txBody>
      </p:sp>
      <p:sp>
        <p:nvSpPr>
          <p:cNvPr id="590" name=""/>
          <p:cNvSpPr/>
          <p:nvPr/>
        </p:nvSpPr>
        <p:spPr>
          <a:xfrm>
            <a:off x="574560" y="1773360"/>
            <a:ext cx="76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800000"/>
                </a:solidFill>
                <a:latin typeface="Trebuchet MS"/>
              </a:rPr>
              <a:t>What do you think of Sao Paulo F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7320" y="256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2. Would you like to be in such a fi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f not, what should we do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4320" y="393372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3. If a fire broke out in your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what shoul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324000" y="4797360"/>
            <a:ext cx="3887640" cy="15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P_04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5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41080" y="620640"/>
            <a:ext cx="827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Knowing what to do in case of fire is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mportant. If a fire broke out in your home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at would you do? First, you should war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everyone in the house about the danger. Don’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be too afraid and start crying. Be calm and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act fast. Second, you and all the others shou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get out of the house. Don’t stop to take belong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ngs  with you. Once you are out of the house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stay out. Do not go back for any reason. Fin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en you are out of the house, call the fire-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fighters. Don’t try to put out the fire yourself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That can be very dangerous.</a:t>
            </a:r>
            <a:r>
              <a:rPr b="1" i="1" lang="zh-CN" sz="2800" spc="-1" strike="noStrike">
                <a:solidFill>
                  <a:srgbClr val="a9bda9"/>
                </a:solidFill>
                <a:latin typeface="Comic Sans MS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565280" cy="1897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633760" y="404640"/>
            <a:ext cx="32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 Black"/>
                <a:ea typeface="GungsuhChe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173480" y="746280"/>
            <a:ext cx="8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8600" y="1989000"/>
            <a:ext cx="79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.Two hundred and twenty were kill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Sao Paulo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8240" y="1988280"/>
            <a:ext cx="73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2.The building was not finishe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fire broke out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9680" y="1987920"/>
            <a:ext cx="862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3. All the offices were completely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except  those below the 11th floor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5320" y="192708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4. Only the firemen knew how the f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had started.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4600" y="198828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5. At first, it was possible for the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orkers to put out the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4960" y="1988280"/>
            <a:ext cx="801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6. Below the 11th floor people wer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o escape into the stree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6600" y="2059560"/>
            <a:ext cx="88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7. The people above the 11th floor w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rapped because there were no fire escape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1880" y="1927080"/>
            <a:ext cx="817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8. It was difficult for the firefighters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close to the building because the sm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rom the fire was too thick.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3680" y="2059560"/>
            <a:ext cx="78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0. Four hours after the fire started,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iremen still couldn’t control i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0600" y="1987920"/>
            <a:ext cx="810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9. The  ladders the firefighters had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ith  them were not long enoug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7" dur="1" fill="hold"/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0328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26920" y="177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Match the words and meaning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8472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-674640" y="2637000"/>
            <a:ext cx="407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1. 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2. resc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3. roof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4. firefi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5. esc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6. lose one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7. belong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8.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124800" y="4075560"/>
            <a:ext cx="63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E. a person whose work is to put out fir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98520" y="371520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D. di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3356640"/>
            <a:ext cx="56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. the inside top of a hous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30920" y="2996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B. to get away from a dangerou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25520" y="263592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A. the top of the outside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31280" y="450864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F. to make sb. safe from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135960" y="522936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H. the things that belong to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50920" y="2924280"/>
            <a:ext cx="1152720" cy="6490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50920" y="3284640"/>
            <a:ext cx="1152720" cy="1439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692360" y="2852280"/>
            <a:ext cx="151128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40000" y="4005360"/>
            <a:ext cx="93672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124000" y="3284640"/>
            <a:ext cx="1079640" cy="1009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987640" y="4005000"/>
            <a:ext cx="216000" cy="718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56000" y="5084640"/>
            <a:ext cx="64764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0920" y="48690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268360" y="5084280"/>
            <a:ext cx="93528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19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280" y="1125360"/>
            <a:ext cx="6480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</a:t>
            </a: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rans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he following phrases into Englis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30760" y="2852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着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17200" y="2852640"/>
            <a:ext cx="33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关煤气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当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71760" y="3519360"/>
            <a:ext cx="56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不要紧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要是那样的话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扑灭</a:t>
            </a:r>
            <a:r>
              <a:rPr b="1" i="1" lang="zh-CN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99320" y="4221000"/>
            <a:ext cx="63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7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属于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8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牺牲   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9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靠近火</a:t>
            </a:r>
            <a:r>
              <a:rPr b="1" i="1" lang="zh-CN" sz="2400" spc="-1" strike="noStrike">
                <a:solidFill>
                  <a:srgbClr val="001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88200" y="486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10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火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657440" y="6397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11280" y="0"/>
            <a:ext cx="511308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cap="rnd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Writing</a:t>
            </a:r>
            <a:endParaRPr b="1" i="1" lang="en-US" sz="4400" spc="1" strike="noStrike">
              <a:ln cap="rnd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9" name=""/>
          <p:cNvSpPr/>
          <p:nvPr/>
        </p:nvSpPr>
        <p:spPr>
          <a:xfrm>
            <a:off x="868320" y="1457280"/>
            <a:ext cx="70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rite a few sentences abou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big fire in Sao Paulo with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ords given to you:</a:t>
            </a:r>
            <a:r>
              <a:rPr b="1" lang="en-US" sz="3200" spc="-1" strike="noStrike">
                <a:solidFill>
                  <a:srgbClr val="320032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29560" y="310212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catch fire;   destr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98800" y="309420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tra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63360" y="3741840"/>
            <a:ext cx="27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heavy smo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02040" y="37418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l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10360" y="37418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resc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62360" y="438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firefigh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5680" y="4365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put out</a:t>
            </a:r>
            <a:r>
              <a:rPr b="1" i="1" lang="en-US" sz="2800" spc="-1" strike="noStrike">
                <a:solidFill>
                  <a:srgbClr val="32003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 rot="20820000">
            <a:off x="3354120" y="4707000"/>
            <a:ext cx="47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00cc"/>
                </a:solidFill>
                <a:latin typeface="Tiranti Solid LET"/>
                <a:ea typeface="方正舒体"/>
              </a:rPr>
              <a:t>Home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39220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-150840" y="476280"/>
            <a:ext cx="93488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根据下面资料完成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字左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火灾报告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5856"/>
                </a:solidFill>
                <a:latin typeface="Arial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地点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华北某市一大礼堂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(hall)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事故经过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千名师生在礼堂开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因礼堂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起火造成火灾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人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难以控制火情。大火持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约两个小时，整个礼堂遭焚毁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伤亡情况：</a:t>
            </a: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六十多人在火灾中丧生，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百多人受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651640" y="1557360"/>
            <a:ext cx="1152360" cy="144360"/>
          </a:xfrm>
          <a:custGeom>
            <a:avLst/>
            <a:gdLst>
              <a:gd name="textAreaLeft" fmla="*/ 384120 w 1152360"/>
              <a:gd name="textAreaRight" fmla="*/ 987120 w 1152360"/>
              <a:gd name="textAreaTop" fmla="*/ 83160 h 144360"/>
              <a:gd name="textAreaBottom" fmla="*/ 12384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907920"/>
            <a:ext cx="976320" cy="144720"/>
          </a:xfrm>
          <a:custGeom>
            <a:avLst/>
            <a:gdLst>
              <a:gd name="textAreaLeft" fmla="*/ 0 w 976320"/>
              <a:gd name="textAreaRight" fmla="*/ 976680 w 9763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25520" y="62064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taneo BT"/>
                <a:ea typeface="바탕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9080" y="14842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taneo BT"/>
              </a:rPr>
              <a:t>ce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947960" y="191628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Milano LET"/>
              </a:rPr>
              <a:t>Good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56720" y="3216240"/>
            <a:ext cx="57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Thanks 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your attend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 repeatCount="indefinite">
                                  <p:stCondLst>
                                    <p:cond delay="6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232019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58920" y="404640"/>
            <a:ext cx="32385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Lesson 62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1332000" y="2492280"/>
            <a:ext cx="604836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Sao Paulo Fire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a4e00"/>
                </a:solidFill>
                <a:latin typeface="Arial"/>
              </a:rPr>
              <a:t>Aims and dem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1. To know harm of fire to peop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are able to describe it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2. To know the importance of prev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. Vocabul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4 skills: completely, belong, belong to,       ceiling, put out, control, flat, roof, firefigh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close, get close to ,lose one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 skills: escape, fire e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55640" y="620640"/>
            <a:ext cx="784872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loors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start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laste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son for the fi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destroy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k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also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743280" cy="9367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859280" y="189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Sao Paulo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94880" y="6922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ebruary 4th,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03480" y="1289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Capital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77280" y="186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0920" y="2513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11th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72720" y="3141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or 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80360" y="3645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No one kn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05200" y="47973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All 25 floors of the building                                    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60000" y="5445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More than 22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68400" y="602136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ars belonging to the people working 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4968720" cy="6524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 rot="21275400">
            <a:off x="4788000" y="0"/>
            <a:ext cx="2327040" cy="1844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6659640" y="0"/>
            <a:ext cx="2303280" cy="1341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347200" y="404640"/>
            <a:ext cx="52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38200" y="441360"/>
            <a:ext cx="719280" cy="7192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71640" y="4437000"/>
            <a:ext cx="3457440" cy="43200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       11th         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71640" y="2421000"/>
            <a:ext cx="3456000" cy="43164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       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1403280" y="486900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1403280" y="2852640"/>
            <a:ext cx="2592360" cy="15843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221080" y="429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349360"/>
            <a:ext cx="718920" cy="935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56360" y="2276640"/>
            <a:ext cx="23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27640" y="1773360"/>
            <a:ext cx="2160720" cy="57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0360" y="206064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Helico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88000" y="2276640"/>
            <a:ext cx="158436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0360" y="314172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12000" y="4437000"/>
            <a:ext cx="252072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irefigh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84720" y="3357720"/>
            <a:ext cx="209880" cy="209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6230520" y="321300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84720" y="234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56360" y="472428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740720" y="5734080"/>
            <a:ext cx="8636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e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190600" cy="2190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549360"/>
            <a:ext cx="6266160" cy="4678200"/>
          </a:xfrm>
          <a:prstGeom prst="wedgeRoundRectCallout">
            <a:avLst>
              <a:gd name="adj1" fmla="val 49569"/>
              <a:gd name="adj2" fmla="val 61467"/>
              <a:gd name="adj3" fmla="val 16667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6364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00000" y="836640"/>
            <a:ext cx="6224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low the 11th floor people   were able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eet. However, more than 300 people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bove the fire. The building had no 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t all! They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climb up to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e building.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87640" y="126828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 in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2520" y="22766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were   trappe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87640" y="32130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fire  esc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6237360"/>
            <a:ext cx="216000" cy="172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789080" y="37893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lat    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71640" y="1773360"/>
            <a:ext cx="7704000" cy="4248000"/>
          </a:xfrm>
          <a:prstGeom prst="wedgeRectCallout">
            <a:avLst>
              <a:gd name="adj1" fmla="val -42458"/>
              <a:gd name="adj2" fmla="val -62143"/>
            </a:avLst>
          </a:prstGeom>
          <a:solidFill>
            <a:srgbClr val="ffcc99"/>
          </a:solidFill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49960" cy="40482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7120" y="1720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042920" y="2205000"/>
            <a:ext cx="755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were sent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but the smoke  was t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avy for us to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we couldn’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enough to the building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hours later. At last, we hel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0 peopl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34880" y="227664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02880" y="27082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14160" y="3141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0640" y="31813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78880" y="37162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93800" y="4221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54520" y="4581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734080"/>
            <a:ext cx="21564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24000" y="836640"/>
            <a:ext cx="7200720" cy="3887640"/>
          </a:xfrm>
          <a:prstGeom prst="wedgeEllipseCallout">
            <a:avLst>
              <a:gd name="adj1" fmla="val 35495"/>
              <a:gd name="adj2" fmla="val 70662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4800" y="1341360"/>
            <a:ext cx="731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ny people were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fire in the stree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couldn’t get close to the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so, our ladders were no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ough to _____ the people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 tr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11840" y="1432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05800" y="1844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so  t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4160" y="33577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5157720"/>
            <a:ext cx="216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4:35:23Z</dcterms:created>
  <dc:creator>young</dc:creator>
  <dc:description/>
  <dc:language>en-US</dc:language>
  <cp:lastModifiedBy>young</cp:lastModifiedBy>
  <dcterms:modified xsi:type="dcterms:W3CDTF">2002-03-06T12:45:21Z</dcterms:modified>
  <cp:revision>23</cp:revision>
  <dc:subject/>
  <dc:title>幻灯片 1</dc:title>
</cp:coreProperties>
</file>