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2BC-C608-4D4C-834E-0EE8B887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119-4285-4165-8306-101E3F91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A4-2D5B-4E84-96E5-BD01B5DF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27C-5785-4A2F-93B8-1ECBE27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508-FE91-4A44-8AB1-1BA5A9F5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3DE-F06B-47E8-9551-54816F0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B18-1075-4C58-AF14-2F876BE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294-E2E3-4C67-B6E7-98B7DDBE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66E-81F2-4397-86F9-3B7FDA39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8EF-7070-477B-B1D6-82EEC65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187-553E-4A4B-8C52-3F6129D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A55-7361-4DC4-8017-BE11FE8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CD0E-AB95-47B5-972D-57FD8AEB5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important to learn a foreign language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offered to help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ually has a lot of work to do 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at to live , but we don’t live to 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rned us not to go out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e wants to do is earn his own b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ttrib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dver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 sup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pre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25:14Z</dcterms:modified>
  <cp:revision>1</cp:revision>
  <dc:subject/>
  <dc:title>PowerPoint Presentation</dc:title>
</cp:coreProperties>
</file>