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27780-9184-4E2B-AC06-2B3D159E8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13A3D-A1C5-444D-8074-4E44CE92D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A0513-BC19-4542-A353-C3A5435E3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6CED1-B1BE-4092-93BA-3E44C430E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A00FA-6969-44D0-A5B5-E958BC323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8994B-CAFB-40E2-A69B-C72F21A25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05149-DB51-470D-8A1C-98305EE54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B0D30-6445-4E29-8CC8-BF8F71C9C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59FB9-0235-4194-8CF8-AF1A51580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E7D36-723F-45C9-9D9E-B5B88B91C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D8C2F-8B73-4485-B626-B3EF3262E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13D59-24BC-4295-98DA-7CA5AAA4B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F0D34-E363-41E7-A2E8-35727A8EB73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ff3300"/>
                </a:solidFill>
                <a:latin typeface="Times New Roman"/>
              </a:rPr>
              <a:t>Unit 18 Office equipmen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46280" y="1143000"/>
            <a:ext cx="521496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Telepho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Comput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Print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Scann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6600"/>
                </a:solidFill>
                <a:latin typeface="Times New Roman"/>
              </a:rPr>
              <a:t>Fax machin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6600"/>
                </a:solidFill>
                <a:latin typeface="Times New Roman"/>
              </a:rPr>
              <a:t>Photocopi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6600"/>
                </a:solidFill>
                <a:latin typeface="Times New Roman"/>
              </a:rPr>
              <a:t>Answering machin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6600"/>
                </a:solidFill>
                <a:latin typeface="Times New Roman"/>
              </a:rPr>
              <a:t>Word processo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title"/>
          </p:nvPr>
        </p:nvSpPr>
        <p:spPr>
          <a:xfrm>
            <a:off x="761760" y="838080"/>
            <a:ext cx="7848360" cy="472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00"/>
                </a:solidFill>
                <a:latin typeface="Times New Roman"/>
              </a:rPr>
              <a:t>            </a:t>
            </a:r>
            <a:r>
              <a:rPr b="1" i="1" lang="en-US" sz="6600" spc="-1" strike="noStrike">
                <a:solidFill>
                  <a:srgbClr val="ff3300"/>
                </a:solidFill>
                <a:latin typeface="Times New Roman"/>
              </a:rPr>
              <a:t>Oral competition</a:t>
            </a:r>
            <a:br>
              <a:rPr sz="6600"/>
            </a:b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Suppose you are a secretary in an office. Would you please introduce the modern equipments to the visitor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3300"/>
                </a:solidFill>
                <a:latin typeface="Times New Roman"/>
              </a:rPr>
              <a:t>Homework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1. Read the text aloud after clas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2. Make sentences with the key phrase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3. Write a short passage about how to sell one of the four modern equipments as  a bagma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ff3300"/>
                </a:solidFill>
                <a:latin typeface="Times New Roman"/>
              </a:rPr>
              <a:t>Thank you!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sun1" descr=""/>
          <p:cNvPicPr/>
          <p:nvPr/>
        </p:nvPicPr>
        <p:blipFill>
          <a:blip r:embed="rId1"/>
          <a:stretch/>
        </p:blipFill>
        <p:spPr>
          <a:xfrm>
            <a:off x="762120" y="1752480"/>
            <a:ext cx="77724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228600" y="380880"/>
          <a:ext cx="8610480" cy="5736960"/>
        </p:xfrm>
        <a:graphic>
          <a:graphicData uri="http://schemas.openxmlformats.org/drawingml/2006/table">
            <a:tbl>
              <a:tblPr/>
              <a:tblGrid>
                <a:gridCol w="3276720"/>
                <a:gridCol w="5333760"/>
              </a:tblGrid>
              <a:tr h="9972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4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The fax machine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94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000" spc="-1" strike="noStrike">
                          <a:solidFill>
                            <a:srgbClr val="a50021"/>
                          </a:solidFill>
                          <a:latin typeface="Times New Roman"/>
                        </a:rPr>
                        <a:t>How to work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5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000" spc="-1" strike="noStrike">
                          <a:solidFill>
                            <a:srgbClr val="a50021"/>
                          </a:solidFill>
                          <a:latin typeface="Times New Roman"/>
                        </a:rPr>
                        <a:t>Advantages &amp; disadvantages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" name=""/>
          <p:cNvSpPr/>
          <p:nvPr/>
        </p:nvSpPr>
        <p:spPr>
          <a:xfrm>
            <a:off x="3886200" y="160020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3300"/>
                </a:solidFill>
                <a:latin typeface="Times New Roman"/>
              </a:rPr>
              <a:t>the machine “reads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505320" y="2057400"/>
            <a:ext cx="533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changes … into electronic sign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489120" y="2657520"/>
            <a:ext cx="540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3300"/>
                </a:solidFill>
                <a:latin typeface="Times New Roman"/>
              </a:rPr>
              <a:t>sends signals down a telephone 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59400" y="3301920"/>
            <a:ext cx="278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3300"/>
                </a:solidFill>
                <a:latin typeface="Times New Roman"/>
              </a:rPr>
              <a:t>much quick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641760" y="4038480"/>
            <a:ext cx="4960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3300"/>
                </a:solidFill>
                <a:latin typeface="Times New Roman"/>
              </a:rPr>
              <a:t>more expensive than pos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81280" y="4844880"/>
            <a:ext cx="556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3300"/>
                </a:solidFill>
                <a:latin typeface="Times New Roman"/>
              </a:rPr>
              <a:t>a fax can be read by anyo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228600" y="457200"/>
          <a:ext cx="8534520" cy="6132600"/>
        </p:xfrm>
        <a:graphic>
          <a:graphicData uri="http://schemas.openxmlformats.org/drawingml/2006/table">
            <a:tbl>
              <a:tblPr/>
              <a:tblGrid>
                <a:gridCol w="2362320"/>
                <a:gridCol w="6172200"/>
              </a:tblGrid>
              <a:tr h="7642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4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The photocopier</a:t>
                      </a:r>
                      <a:r>
                        <a:rPr b="1" i="1" lang="en-US" sz="32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	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40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000" spc="-1" strike="noStrike">
                          <a:solidFill>
                            <a:srgbClr val="a50021"/>
                          </a:solidFill>
                          <a:latin typeface="Times New Roman"/>
                        </a:rPr>
                        <a:t>How to work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7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a50021"/>
                          </a:solidFill>
                          <a:latin typeface="Times New Roman"/>
                        </a:rPr>
                        <a:t>Advantages &amp; disadvantag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" name=""/>
          <p:cNvSpPr/>
          <p:nvPr/>
        </p:nvSpPr>
        <p:spPr>
          <a:xfrm>
            <a:off x="2666880" y="1523880"/>
            <a:ext cx="6019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3300"/>
                </a:solidFill>
                <a:latin typeface="Times New Roman"/>
              </a:rPr>
              <a:t>using a mirror, a roller &amp; special black pow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3267000"/>
            <a:ext cx="655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3300"/>
                </a:solidFill>
                <a:latin typeface="Times New Roman"/>
              </a:rPr>
              <a:t>Make bigger or smaller, lighter or dark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3300"/>
                </a:solidFill>
                <a:latin typeface="Times New Roman"/>
              </a:rPr>
              <a:t>and copy onto both sides of the pap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644200" y="4210200"/>
            <a:ext cx="6081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3300"/>
                </a:solidFill>
                <a:latin typeface="Times New Roman"/>
              </a:rPr>
              <a:t>copy a long report and sort and p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3300"/>
                </a:solidFill>
                <a:latin typeface="Times New Roman"/>
              </a:rPr>
              <a:t>the copies togeth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804040" y="5407200"/>
            <a:ext cx="5391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3300"/>
                </a:solidFill>
                <a:latin typeface="Times New Roman"/>
              </a:rPr>
              <a:t>can produce color cop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152280" y="304920"/>
          <a:ext cx="8686800" cy="6896160"/>
        </p:xfrm>
        <a:graphic>
          <a:graphicData uri="http://schemas.openxmlformats.org/drawingml/2006/table">
            <a:tbl>
              <a:tblPr/>
              <a:tblGrid>
                <a:gridCol w="2286000"/>
                <a:gridCol w="6400800"/>
              </a:tblGrid>
              <a:tr h="784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4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The word processor</a:t>
                      </a:r>
                      <a:r>
                        <a:rPr b="1" i="1" lang="en-US" sz="32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	</a:t>
                      </a:r>
                      <a:r>
                        <a:rPr b="1" i="1" lang="en-US" sz="32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	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92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000" spc="-1" strike="noStrike">
                          <a:solidFill>
                            <a:srgbClr val="a50021"/>
                          </a:solidFill>
                          <a:latin typeface="Times New Roman"/>
                        </a:rPr>
                        <a:t>How to work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19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a50021"/>
                          </a:solidFill>
                          <a:latin typeface="Times New Roman"/>
                        </a:rPr>
                        <a:t>Advantages &amp; disadvantag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" name=""/>
          <p:cNvSpPr/>
          <p:nvPr/>
        </p:nvSpPr>
        <p:spPr>
          <a:xfrm>
            <a:off x="2438280" y="1044720"/>
            <a:ext cx="6400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3300"/>
                </a:solidFill>
                <a:latin typeface="Times New Roman"/>
              </a:rPr>
              <a:t>combines a typewriter keyboard,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3300"/>
                </a:solidFill>
                <a:latin typeface="Times New Roman"/>
              </a:rPr>
              <a:t>a printer and a comput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424240" y="2254320"/>
            <a:ext cx="6555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3300"/>
                </a:solidFill>
                <a:latin typeface="Times New Roman"/>
              </a:rPr>
              <a:t>the writing appears on a screen &amp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3300"/>
                </a:solidFill>
                <a:latin typeface="Times New Roman"/>
              </a:rPr>
              <a:t>is recorded onto a computer dis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576520" y="3549600"/>
            <a:ext cx="6352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3300"/>
                </a:solidFill>
                <a:latin typeface="Times New Roman"/>
              </a:rPr>
              <a:t>you make any changes you wish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3300"/>
                </a:solidFill>
                <a:latin typeface="Times New Roman"/>
              </a:rPr>
              <a:t>check it and print 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503440" y="4952880"/>
            <a:ext cx="6640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3300"/>
                </a:solidFill>
                <a:latin typeface="Times New Roman"/>
              </a:rPr>
              <a:t>instead of spending five hours typing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3300"/>
                </a:solidFill>
                <a:latin typeface="Times New Roman"/>
              </a:rPr>
              <a:t>the report again, print it in one min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152280" y="304920"/>
          <a:ext cx="8686800" cy="6354720"/>
        </p:xfrm>
        <a:graphic>
          <a:graphicData uri="http://schemas.openxmlformats.org/drawingml/2006/table">
            <a:tbl>
              <a:tblPr/>
              <a:tblGrid>
                <a:gridCol w="2362320"/>
                <a:gridCol w="6324480"/>
              </a:tblGrid>
              <a:tr h="1000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The answering machine</a:t>
                      </a:r>
                      <a:r>
                        <a:rPr b="1" i="1" lang="en-US" sz="44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	</a:t>
                      </a:r>
                      <a:r>
                        <a:rPr b="1" i="1" lang="en-US" sz="32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	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2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000" spc="-1" strike="noStrike">
                          <a:solidFill>
                            <a:srgbClr val="a50021"/>
                          </a:solidFill>
                          <a:latin typeface="Times New Roman"/>
                        </a:rPr>
                        <a:t>How to work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5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a50021"/>
                          </a:solidFill>
                          <a:latin typeface="Times New Roman"/>
                        </a:rPr>
                        <a:t>Advantages &amp; disadvantag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2" name=""/>
          <p:cNvSpPr/>
          <p:nvPr/>
        </p:nvSpPr>
        <p:spPr>
          <a:xfrm>
            <a:off x="2577600" y="1949400"/>
            <a:ext cx="624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3300"/>
                </a:solidFill>
                <a:latin typeface="Times New Roman"/>
              </a:rPr>
              <a:t>leave the answering machine 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02360" y="2482920"/>
            <a:ext cx="637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3300"/>
                </a:solidFill>
                <a:latin typeface="Times New Roman"/>
              </a:rPr>
              <a:t>people who call you up can leav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cc3300"/>
                </a:solidFill>
                <a:latin typeface="Times New Roman"/>
              </a:rPr>
              <a:t>a messag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727360" y="3952800"/>
            <a:ext cx="5838840" cy="15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3300"/>
                </a:solidFill>
                <a:latin typeface="Times New Roman"/>
              </a:rPr>
              <a:t>the following morning or after th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3300"/>
                </a:solidFill>
                <a:latin typeface="Times New Roman"/>
              </a:rPr>
              <a:t>holiday, you can listen to the mess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3300"/>
                </a:solidFill>
                <a:latin typeface="Times New Roman"/>
              </a:rPr>
              <a:t>and take any necessary ac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804760" y="5559480"/>
            <a:ext cx="412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3300"/>
                </a:solidFill>
                <a:latin typeface="Times New Roman"/>
              </a:rPr>
              <a:t>“</a:t>
            </a:r>
            <a:r>
              <a:rPr b="1" i="1" lang="en-US" sz="4000" spc="-1" strike="noStrike">
                <a:solidFill>
                  <a:srgbClr val="cc3300"/>
                </a:solidFill>
                <a:latin typeface="Times New Roman"/>
              </a:rPr>
              <a:t>information line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498760" y="1371600"/>
            <a:ext cx="626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3300"/>
                </a:solidFill>
                <a:latin typeface="Times New Roman"/>
              </a:rPr>
              <a:t>a telephone with a tape record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00"/>
                </a:solidFill>
                <a:latin typeface="Times New Roman"/>
              </a:rPr>
              <a:t>Discuss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9900"/>
                </a:solidFill>
                <a:latin typeface="Times New Roman"/>
              </a:rPr>
              <a:t>1. When should you find out how to work the office equipmen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9900"/>
                </a:solidFill>
                <a:latin typeface="Times New Roman"/>
              </a:rPr>
              <a:t>2. What does “be rushed off one’s feet” mea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9900"/>
                </a:solidFill>
                <a:latin typeface="Times New Roman"/>
              </a:rPr>
              <a:t>3. Why is it not surprising that Japan has more fax machines than any other country in the worl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9900"/>
                </a:solidFill>
                <a:latin typeface="Times New Roman"/>
              </a:rPr>
              <a:t>4. If you were the Head Teacher of a school, which of the machines would be useful to have? In what ways could they be use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00"/>
                </a:solidFill>
                <a:latin typeface="Times New Roman"/>
              </a:rPr>
              <a:t>Fill in the blanks with the proper word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-360" y="1066680"/>
            <a:ext cx="88390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ff00"/>
                </a:solidFill>
                <a:latin typeface="Times New Roman"/>
              </a:rPr>
              <a:t>1. The __________is a type of machine which is use to make copies from newspapers, books or repor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ff00"/>
                </a:solidFill>
                <a:latin typeface="Times New Roman"/>
              </a:rPr>
              <a:t>2. The fax machine is used to ________ including words, pictures, designs and map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ff00"/>
                </a:solidFill>
                <a:latin typeface="Times New Roman"/>
              </a:rPr>
              <a:t>3. The word processor is a kind of machine which is used to __________ , save them for future use and make changes if necessar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ff00"/>
                </a:solidFill>
                <a:latin typeface="Times New Roman"/>
              </a:rPr>
              <a:t>4. The answering machine is used to __________ messages when the receiver is abs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506960" y="1009800"/>
            <a:ext cx="217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photocopi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469480" y="2533680"/>
            <a:ext cx="263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send mass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123000" y="4114800"/>
            <a:ext cx="236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type mater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537960" y="5172120"/>
            <a:ext cx="263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record teleph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0" y="0"/>
            <a:ext cx="876312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1. On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你一旦显出害怕的样子，狗就会来咬你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我们每周回家一次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他父亲曾在一家汽车厂工作过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2. rather … th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这些鞋子穿起来很舒服，但并不漂亮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我喜欢游泳，而不喜欢溜冰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我决定写信而不打电话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3. Rush somebody off his fe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今天我们办公室里真忙，我是忙得不可开交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4. Make a chan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我们对旅行计划作了一些修改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5. Take a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在那种情况下，你应该立即采取行动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380880" y="304560"/>
            <a:ext cx="876312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Once you show any fear, the dog will attack yo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We go home once a wee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His father once worked in a car factor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These shoes are comfortable rather than prett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I love swimming rather than skat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I decide to write rather than (to) telephon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We were so busy in the office today. I was rushed off my fee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We have made some changes in our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 plan for trave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In that situation, you should take immediate ac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6T12:08:51Z</dcterms:created>
  <dc:creator>xu</dc:creator>
  <dc:description/>
  <dc:language>en-US</dc:language>
  <cp:lastModifiedBy>xu</cp:lastModifiedBy>
  <dcterms:modified xsi:type="dcterms:W3CDTF">2001-11-06T15:29:04Z</dcterms:modified>
  <cp:revision>6</cp:revision>
  <dc:subject/>
  <dc:title>Office equipment</dc:title>
</cp:coreProperties>
</file>