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13.jpeg" ContentType="image/jpeg"/>
  <Override PartName="/ppt/media/image2.gif" ContentType="image/gif"/>
  <Override PartName="/ppt/media/image5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9BB-042F-4627-940F-D07D2AFB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D80-445D-4236-80AF-56AB84DA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7D4-FD96-48D0-82F3-4808E090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247-75CF-43E0-B569-0EF161A9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24CC-5C6A-4E76-B543-ECBD7114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FAB-2522-4B51-91D3-2315DD16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B384-E1AC-4340-A6D6-85BA73F1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33B-3FA2-459F-AA4A-D7EF982D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89C-4297-48C5-B0CD-85DE14CE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7DD-51AE-40C4-A467-77EAA187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63D-DAD1-4D83-8ECD-6612D097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C50-D75C-443D-B91C-4A7A15DC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72D7-5D7F-42AC-BA9F-DC3D6B2FEE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无标题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2924280" cy="2971800"/>
          </a:xfrm>
          <a:prstGeom prst="rect">
            <a:avLst/>
          </a:prstGeom>
          <a:ln w="0">
            <a:noFill/>
          </a:ln>
        </p:spPr>
      </p:pic>
      <p:pic>
        <p:nvPicPr>
          <p:cNvPr id="42" name="vvv" descr=""/>
          <p:cNvPicPr/>
          <p:nvPr/>
        </p:nvPicPr>
        <p:blipFill>
          <a:blip r:embed="rId2"/>
          <a:stretch/>
        </p:blipFill>
        <p:spPr>
          <a:xfrm>
            <a:off x="1676520" y="-304920"/>
            <a:ext cx="4754520" cy="3840120"/>
          </a:xfrm>
          <a:prstGeom prst="rect">
            <a:avLst/>
          </a:prstGeom>
          <a:ln w="0">
            <a:noFill/>
          </a:ln>
        </p:spPr>
      </p:pic>
      <p:pic>
        <p:nvPicPr>
          <p:cNvPr id="43" name="ppp" descr=""/>
          <p:cNvPicPr/>
          <p:nvPr/>
        </p:nvPicPr>
        <p:blipFill>
          <a:blip r:embed="rId3"/>
          <a:stretch/>
        </p:blipFill>
        <p:spPr>
          <a:xfrm>
            <a:off x="2362320" y="1143000"/>
            <a:ext cx="3657600" cy="2666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0960" y="611496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Chiller"/>
              </a:rPr>
              <a:t>By Tian Fengch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未命名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88620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13960" y="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Verdana"/>
              </a:rPr>
              <a:t>Who i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962520" cy="5257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21566400">
            <a:off x="1981080" y="5943600"/>
            <a:ext cx="62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Verdana"/>
                <a:ea typeface="PMingLiU"/>
              </a:rPr>
              <a:t>Albert Eins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2119320" cy="175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990720" y="53352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Listen to the passage to find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answers to thes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0160" y="23623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Cooper Black"/>
              </a:rPr>
              <a:t>1.What scientific work is Einstein famous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40920" y="4267080"/>
            <a:ext cx="66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Cooper Black"/>
              </a:rPr>
              <a:t>2.Where did he spend the last part of his lif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82480" y="3352680"/>
            <a:ext cx="67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oper Black"/>
              </a:rPr>
              <a:t>Scientific research/new discoveries in phys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0600" y="502920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oper Black"/>
              </a:rPr>
              <a:t>At a university in the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3960" y="380880"/>
            <a:ext cx="523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etails about Albert 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880" y="933480"/>
            <a:ext cx="6473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or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ud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ork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octor’s degr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cientific re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e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he got for his new discov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ved to the U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89480" y="1066680"/>
            <a:ext cx="42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On Much 14</a:t>
            </a:r>
            <a:r>
              <a:rPr b="1" i="1" lang="en-US" sz="2400" spc="-1" strike="noStrike" baseline="30000">
                <a:solidFill>
                  <a:srgbClr val="006600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,1879;in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89120" y="152388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On April 18</a:t>
            </a:r>
            <a:r>
              <a:rPr b="1" i="1" lang="en-US" sz="2400" spc="-1" strike="noStrike" baseline="30000">
                <a:solidFill>
                  <a:srgbClr val="006600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,1955;in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8480" y="1981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6080" y="243828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First as a teacher,then in a government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7480" y="29718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19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3600" y="350532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Between 1905and 19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71600" y="39276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2160" y="43848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Recei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worldwide pr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45600" y="537516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1933 with his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82960" y="2936880"/>
            <a:ext cx="37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(in the University of Zuri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4880" y="198108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(in the Federal Institute of Techn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lbert2" descr=""/>
          <p:cNvPicPr/>
          <p:nvPr/>
        </p:nvPicPr>
        <p:blipFill>
          <a:blip r:embed="rId1"/>
          <a:stretch/>
        </p:blipFill>
        <p:spPr>
          <a:xfrm>
            <a:off x="7350120" y="5334120"/>
            <a:ext cx="1584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5640" y="84240"/>
            <a:ext cx="43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Verdana"/>
              </a:rPr>
              <a:t>True or false exerc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080" y="57456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Albert Einstein was curious about everything around him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 was yo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6120" y="1413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.He had learned everything all by him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4320" y="2022480"/>
            <a:ext cx="816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.He did not like to go to school and he found it hard to get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with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7200" y="2936880"/>
            <a:ext cx="78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4.The period between 1905 and 1915 was a very importan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for he received higher education at univer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5760" y="38512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5.Einstein cared little for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8280" y="4384800"/>
            <a:ext cx="76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6.Once somebody saw him using a bank note as a bookma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000" y="4800600"/>
            <a:ext cx="79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7.Einstein also spent a lit of time working for human righ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3760" y="563868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8.Einstein loved music very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804600">
            <a:off x="533160" y="5331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804600">
            <a:off x="609120" y="1980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804600">
            <a:off x="609120" y="3809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804600">
            <a:off x="609120" y="4723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804600">
            <a:off x="609120" y="5638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5440" y="13716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440" y="28954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5440" y="4343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010280" y="5376960"/>
          <a:ext cx="190512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5376960"/>
                    <a:ext cx="19051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89120" y="304920"/>
            <a:ext cx="30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ine05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857480" cy="152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4600" y="196056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be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50336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1295280"/>
              <a:gd name="textAreaBottom" fmla="*/ 12736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2"/>
                  <a:pt x="10800" y="1163"/>
                </a:cubicBezTo>
                <a:lnTo>
                  <a:pt x="10800" y="10275"/>
                </a:lnTo>
                <a:cubicBezTo>
                  <a:pt x="10800" y="10857"/>
                  <a:pt x="5400" y="11438"/>
                  <a:pt x="0" y="11438"/>
                </a:cubicBezTo>
                <a:cubicBezTo>
                  <a:pt x="5400" y="11438"/>
                  <a:pt x="10800" y="12020"/>
                  <a:pt x="10800" y="12601"/>
                </a:cubicBezTo>
                <a:lnTo>
                  <a:pt x="10800" y="20437"/>
                </a:lnTo>
                <a:cubicBezTo>
                  <a:pt x="10800" y="2101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04680" y="129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 do sth(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高兴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/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甘心做…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01800" y="241776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th sth(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对…感到满足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8480" y="1655640"/>
            <a:ext cx="49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He is content to live in the country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2036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om is content to eat simple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98760" y="2819520"/>
            <a:ext cx="54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No one is content with what he h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9920" y="3200400"/>
            <a:ext cx="44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Don’t be content with small pra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800" y="3637080"/>
            <a:ext cx="83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Cf. John </a:t>
            </a:r>
            <a:r>
              <a:rPr b="0" lang="en-US" sz="2400" spc="-1" strike="noStrike" u="sng">
                <a:solidFill>
                  <a:srgbClr val="990099"/>
                </a:solidFill>
                <a:uFillTx/>
                <a:latin typeface="Times New Roman"/>
              </a:rPr>
              <a:t>contented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himself with two glasses of beer for each m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680" y="48211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lea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551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41440" y="436392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通，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4320" y="527832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导致某种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73280" y="482112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All roads lead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69320" y="5583240"/>
            <a:ext cx="41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he accident led to three de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50680" y="596412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Hard work leads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ZW_008" descr=""/>
          <p:cNvPicPr/>
          <p:nvPr/>
        </p:nvPicPr>
        <p:blipFill>
          <a:blip r:embed="rId2"/>
          <a:stretch/>
        </p:blipFill>
        <p:spPr>
          <a:xfrm>
            <a:off x="6934320" y="510552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36160" y="803160"/>
            <a:ext cx="28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live a…life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过着…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0320" y="126036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he peasants in the past lived a har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0480" y="175248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Poor Tom lives a dog’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6320" y="2251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9760" y="274320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Liu Hulan died a heroic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0840" y="31240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he dreamt a sound d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75960" y="365760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uch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位于句首，表示“这”或“这些”时，谓语动词要倒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720" y="430848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is my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9760" y="48420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was the situation we were fa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4440" y="545148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were his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55960" y="601992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are the results we have g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ine23" descr=""/>
          <p:cNvPicPr/>
          <p:nvPr/>
        </p:nvPicPr>
        <p:blipFill>
          <a:blip r:embed="rId1"/>
          <a:stretch/>
        </p:blipFill>
        <p:spPr>
          <a:xfrm>
            <a:off x="1752480" y="430200"/>
            <a:ext cx="60199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s1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ooo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34:19Z</dcterms:created>
  <dc:creator>Terence</dc:creator>
  <dc:description/>
  <dc:language>en-US</dc:language>
  <cp:lastModifiedBy>Terence</cp:lastModifiedBy>
  <dcterms:modified xsi:type="dcterms:W3CDTF">2002-03-01T16:48:23Z</dcterms:modified>
  <cp:revision>20</cp:revision>
  <dc:subject/>
  <dc:title>PowerPoint 演示文稿</dc:title>
</cp:coreProperties>
</file>