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7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F451-20B1-4E3A-BFDB-442B670E6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98B7-6461-4046-8FDA-A40CD7DD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A3EE-31EC-4D4E-A955-71B6508A1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BE01-5873-4420-85F0-3BF16ABE5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09C9-60B4-4E6D-9ADD-96059473A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3AF1-AC5B-4762-A015-386FCDD4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921E-D16F-412B-8685-34B0BCA6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F7F2-2A44-4CEE-BDA3-7A5FFC6C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95BD-BFD6-4F42-AC37-82CA6B2C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91BD-7E14-457E-85F4-7C376E48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63D6-D2A4-41FC-B894-FABBA23A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1430-7C30-41A0-80BE-004DA74E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92FA7-08DA-492B-AD24-95223DAC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E22B-E202-4AF9-B19D-F6D4DC47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52AE-4505-4630-9E20-779B1972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C572-8E86-451F-A750-8190CEB1C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FC7C-1272-46B2-B7B9-D206E882D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ACB0-B4B5-43E1-BA6A-631E3AEE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D7B0-A2D6-4C6F-AE91-38C78BF5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8EC0-7303-4D7B-802A-EEB7C610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3A4F-5874-4878-9E24-78AA7683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46F5-F276-421A-BE14-0C7A4877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05A7-6DFD-4719-B32A-DE584E65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B9BB-609C-4DDA-A6AE-DB2E2B31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B840-2CBB-4020-9225-8CAFDFDF75C4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7CFE-8822-400D-86FB-584DC45609C6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33520" y="1752480"/>
            <a:ext cx="8219880" cy="285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AucoinLight"/>
              </a:rPr>
              <a:t>Period 1 </a:t>
            </a:r>
            <a:endParaRPr b="1" lang="en-US" sz="60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ucoinLight"/>
              <a:ea typeface="Aucoin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ucoinLight"/>
              <a:ea typeface="Aucoin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AucoinLight"/>
              </a:rPr>
              <a:t>Warming up &amp; Listening</a:t>
            </a:r>
            <a:endParaRPr b="1" lang="en-US" sz="60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ucoinLight"/>
              <a:ea typeface="AucoinLight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838080"/>
            <a:ext cx="3200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Make him /her spit by patting him/her on the back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5638680"/>
            <a:ext cx="579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To avoid this, we shouldn’t talk or laugh when eating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4" name="10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2743200" cy="3189240"/>
          </a:xfrm>
          <a:prstGeom prst="rect">
            <a:avLst/>
          </a:prstGeom>
          <a:ln w="0">
            <a:noFill/>
          </a:ln>
        </p:spPr>
      </p:pic>
      <p:pic>
        <p:nvPicPr>
          <p:cNvPr id="145" name="11" descr=""/>
          <p:cNvPicPr/>
          <p:nvPr/>
        </p:nvPicPr>
        <p:blipFill>
          <a:blip r:embed="rId2"/>
          <a:stretch/>
        </p:blipFill>
        <p:spPr>
          <a:xfrm>
            <a:off x="7010280" y="609480"/>
            <a:ext cx="1844640" cy="4267440"/>
          </a:xfrm>
          <a:prstGeom prst="rect">
            <a:avLst/>
          </a:prstGeom>
          <a:ln w="0">
            <a:noFill/>
          </a:ln>
        </p:spPr>
      </p:pic>
      <p:pic>
        <p:nvPicPr>
          <p:cNvPr id="146" name="12" descr=""/>
          <p:cNvPicPr/>
          <p:nvPr/>
        </p:nvPicPr>
        <p:blipFill>
          <a:blip r:embed="rId3"/>
          <a:stretch/>
        </p:blipFill>
        <p:spPr>
          <a:xfrm>
            <a:off x="3429000" y="1924200"/>
            <a:ext cx="3809880" cy="31017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79280" y="685800"/>
            <a:ext cx="8964720" cy="59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Step 2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istening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re-listening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ook at the pictures on P.58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Arial"/>
              </a:rPr>
              <a:t>Where are they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Arial"/>
              </a:rPr>
              <a:t>What do you guess has happened to the   boy and the girl?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Now read the requirements quickly and find out what to do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hile-Listening:  listen to the tape and finish the exercises on p.58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21932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1.Listen to the tape. What happened to each child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Child 1:________________________________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Child 2:________________________________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80880" y="4114800"/>
          <a:ext cx="8457840" cy="2435400"/>
        </p:xfrm>
        <a:graphic>
          <a:graphicData uri="http://schemas.openxmlformats.org/drawingml/2006/table">
            <a:tbl>
              <a:tblPr/>
              <a:tblGrid>
                <a:gridCol w="4069440"/>
                <a:gridCol w="2314080"/>
                <a:gridCol w="2074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Child 1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Child 2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When did it happen?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Was any first aid given?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If so what was given?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-8640" y="3352680"/>
            <a:ext cx="900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2. Listen to the tape again and answer the question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0880" y="1219320"/>
            <a:ext cx="84582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3. Listen to the nurse’s questions in the first dialogue and write them dow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1.Can__________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2.What’s_______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3.What did you do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4.Does__________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ost-Listening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752480"/>
            <a:ext cx="44956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ook at the picture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. What would you do in these situations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.What could we do to prevent these accidents?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5" name="9" descr=""/>
          <p:cNvPicPr/>
          <p:nvPr/>
        </p:nvPicPr>
        <p:blipFill>
          <a:blip r:embed="rId1"/>
          <a:stretch/>
        </p:blipFill>
        <p:spPr>
          <a:xfrm>
            <a:off x="4876920" y="380880"/>
            <a:ext cx="3276360" cy="2895840"/>
          </a:xfrm>
          <a:prstGeom prst="rect">
            <a:avLst/>
          </a:prstGeom>
          <a:ln w="0">
            <a:noFill/>
          </a:ln>
        </p:spPr>
      </p:pic>
      <p:pic>
        <p:nvPicPr>
          <p:cNvPr id="156" name="8" descr=""/>
          <p:cNvPicPr/>
          <p:nvPr/>
        </p:nvPicPr>
        <p:blipFill>
          <a:blip r:embed="rId2"/>
          <a:stretch/>
        </p:blipFill>
        <p:spPr>
          <a:xfrm>
            <a:off x="4648320" y="3352680"/>
            <a:ext cx="4038480" cy="32180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106668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happened to the girl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905120"/>
            <a:ext cx="449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can we do to help her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3276720"/>
            <a:ext cx="4495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can we do to help her before the doctor comes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510552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do you already know about first aid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018-1-1" descr=""/>
          <p:cNvPicPr/>
          <p:nvPr/>
        </p:nvPicPr>
        <p:blipFill>
          <a:blip r:embed="rId1"/>
          <a:stretch/>
        </p:blipFill>
        <p:spPr>
          <a:xfrm>
            <a:off x="5105520" y="1295280"/>
            <a:ext cx="3987720" cy="5273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685800"/>
            <a:ext cx="896472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Step 1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rming-up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60020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rainstorming: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at words can you think of when you talk about accidents and first aid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3962520"/>
            <a:ext cx="3048120" cy="990360"/>
          </a:xfrm>
          <a:prstGeom prst="ellipse">
            <a:avLst/>
          </a:prstGeom>
          <a:solidFill>
            <a:srgbClr val="cc66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ff33"/>
                </a:solidFill>
                <a:latin typeface="Times New Roman"/>
              </a:rPr>
              <a:t>Accid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ff33"/>
                </a:solidFill>
                <a:latin typeface="Times New Roman"/>
              </a:rPr>
              <a:t>First ai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3048120" y="3428640"/>
            <a:ext cx="457200" cy="6858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28195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drow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343400" y="3200040"/>
            <a:ext cx="0" cy="7621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27432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ble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257800" y="3352320"/>
            <a:ext cx="457200" cy="6858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2819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chok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943600" y="3733560"/>
            <a:ext cx="762120" cy="53316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81680" y="335268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Burn/catch fi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4724280"/>
            <a:ext cx="685800" cy="5335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49528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cc"/>
                </a:solidFill>
                <a:latin typeface="Times New Roman"/>
              </a:rPr>
              <a:t>cu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5520" y="4952880"/>
            <a:ext cx="152280" cy="9144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57150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Times New Roman"/>
              </a:rPr>
              <a:t>electric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733920" y="4952880"/>
            <a:ext cx="304560" cy="7621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563868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woun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286000" y="4266720"/>
            <a:ext cx="990720" cy="2286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cc"/>
                </a:solidFill>
                <a:latin typeface="Times New Roman"/>
              </a:rPr>
              <a:t>ambula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590920" y="4724280"/>
            <a:ext cx="761760" cy="5335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1055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u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onsciou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579132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5b5249"/>
                </a:solidFill>
                <a:latin typeface="Times New Roman"/>
              </a:rPr>
              <a:t>… …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3520" y="1219320"/>
            <a:ext cx="8316720" cy="34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49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Pair Work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ook at the pictures on P.57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cc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What would you do in these situations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cc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What could we do to prevent these accidents?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14479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Check to see if he /she is breath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3352680"/>
            <a:ext cx="304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ry to start his /her breath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541008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Never swim in deep wat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2" name="2" descr=""/>
          <p:cNvPicPr/>
          <p:nvPr/>
        </p:nvPicPr>
        <p:blipFill>
          <a:blip r:embed="rId1"/>
          <a:stretch/>
        </p:blipFill>
        <p:spPr>
          <a:xfrm>
            <a:off x="4267080" y="106668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09480" y="990720"/>
            <a:ext cx="335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Call for a doctor or an ambula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36232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Never pull her out of the ca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3733920"/>
            <a:ext cx="5181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Find enough people to lift  the car safely and take her to hospital at o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571500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Look at both sides when crossing the stree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7" name="3" descr=""/>
          <p:cNvPicPr/>
          <p:nvPr/>
        </p:nvPicPr>
        <p:blipFill>
          <a:blip r:embed="rId1"/>
          <a:stretch/>
        </p:blipFill>
        <p:spPr>
          <a:xfrm>
            <a:off x="5410080" y="914400"/>
            <a:ext cx="3733920" cy="4424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4920" y="914400"/>
            <a:ext cx="3809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Times New Roman"/>
              </a:rPr>
              <a:t>Call 119 first and tell them the exact address on the phon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2819520"/>
            <a:ext cx="441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Times New Roman"/>
              </a:rPr>
              <a:t>If someone is badly burnt,we should call 120 to ask for an ambul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4586400"/>
            <a:ext cx="86104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Never play with fir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Be careful with ga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Make sure that all the electric wires are saf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1" name="4" descr=""/>
          <p:cNvPicPr/>
          <p:nvPr/>
        </p:nvPicPr>
        <p:blipFill>
          <a:blip r:embed="rId1"/>
          <a:stretch/>
        </p:blipFill>
        <p:spPr>
          <a:xfrm>
            <a:off x="4876920" y="838080"/>
            <a:ext cx="3809880" cy="4157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762120"/>
            <a:ext cx="4267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a0a9a"/>
                </a:solidFill>
                <a:latin typeface="Times New Roman"/>
              </a:rPr>
              <a:t>Try to stop the bleed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981080"/>
            <a:ext cx="41148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a0a9a"/>
                </a:solidFill>
                <a:latin typeface="Times New Roman"/>
              </a:rPr>
              <a:t>Press a handkerchief onto the bleeding point and hold it ther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267080"/>
            <a:ext cx="419112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a0a9a"/>
                </a:solidFill>
                <a:latin typeface="Times New Roman"/>
              </a:rPr>
              <a:t>Hold up the part of body which is bleeding if possibl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5" name="5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4647960" cy="3886200"/>
          </a:xfrm>
          <a:prstGeom prst="rect">
            <a:avLst/>
          </a:prstGeom>
          <a:ln w="0">
            <a:noFill/>
          </a:ln>
        </p:spPr>
      </p:pic>
      <p:pic>
        <p:nvPicPr>
          <p:cNvPr id="136" name="6" descr=""/>
          <p:cNvPicPr/>
          <p:nvPr/>
        </p:nvPicPr>
        <p:blipFill>
          <a:blip r:embed="rId2"/>
          <a:stretch/>
        </p:blipFill>
        <p:spPr>
          <a:xfrm>
            <a:off x="4191120" y="2590920"/>
            <a:ext cx="4647960" cy="3581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0880" y="228600"/>
            <a:ext cx="38102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Go to the hospital at o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295280"/>
            <a:ext cx="38102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Never pull it out of the cu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9" name="019-1-3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3381480" cy="4419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733920" y="4495680"/>
            <a:ext cx="5181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If the cut is not serious, we can wash the area of cut,dry it and cover it with a piece of dry and clean cloth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1" name="15" descr=""/>
          <p:cNvPicPr/>
          <p:nvPr/>
        </p:nvPicPr>
        <p:blipFill>
          <a:blip r:embed="rId2"/>
          <a:stretch/>
        </p:blipFill>
        <p:spPr>
          <a:xfrm>
            <a:off x="4191120" y="685800"/>
            <a:ext cx="4495680" cy="3222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01:45:31Z</dcterms:created>
  <dc:creator>0</dc:creator>
  <dc:description/>
  <dc:language>en-US</dc:language>
  <cp:lastModifiedBy>jackal</cp:lastModifiedBy>
  <dcterms:modified xsi:type="dcterms:W3CDTF">2001-05-30T17:20:42Z</dcterms:modified>
  <cp:revision>23</cp:revision>
  <dc:subject/>
  <dc:title>PowerPoint 演示文稿</dc:title>
</cp:coreProperties>
</file>