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1FF-CDBF-4330-9EFC-881869A5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299-5155-461D-A24F-8C592C66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339B-BB64-4C4B-836D-06111480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306-7A1B-4455-A152-038E09FC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174-5E6B-47C9-AE87-E3E385D8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F38F-6BF6-4DD7-813C-90AE25C8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41F-98C7-4DDB-83AC-9226C671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1F3-36FA-49E7-84C9-1F70337E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2FC-E539-4E4C-8611-35C84B2F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B26-2AB5-4277-B438-86B2BBD3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A400-A29E-4515-84AA-86762EA3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D3F-54FC-4199-83F6-B686EE4A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7406-27FA-4AD6-A0C6-5E253DD231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429000"/>
            <a:ext cx="80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Times New Roman"/>
              </a:rPr>
              <a:t>First  Aid Right And Wro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4480" y="2057400"/>
            <a:ext cx="38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egrating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0760" y="304920"/>
            <a:ext cx="862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following descriptions of accidents on page 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 decide what the  rescuers did w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523880"/>
          <a:ext cx="8381520" cy="4952880"/>
        </p:xfrm>
        <a:graphic>
          <a:graphicData uri="http://schemas.openxmlformats.org/drawingml/2006/table">
            <a:tbl>
              <a:tblPr/>
              <a:tblGrid>
                <a:gridCol w="4190400"/>
                <a:gridCol w="4191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did 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2360" y="304920"/>
            <a:ext cx="751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what you have learned about first aid to l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y should hav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447920"/>
          <a:ext cx="8381880" cy="51811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should have d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3240" y="1295280"/>
            <a:ext cx="19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6280" y="2743200"/>
            <a:ext cx="859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one of the situations in the reading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a description. In the new descrip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cuer should give first aid in the righ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00:59:38Z</dcterms:created>
  <dc:creator>kkasfjoirfe</dc:creator>
  <dc:description/>
  <dc:language>en-US</dc:language>
  <cp:lastModifiedBy>kkasfjoirfe</cp:lastModifiedBy>
  <dcterms:modified xsi:type="dcterms:W3CDTF">2004-07-18T03:02:30Z</dcterms:modified>
  <cp:revision>5</cp:revision>
  <dc:subject/>
  <dc:title>PowerPoint 演示文稿</dc:title>
</cp:coreProperties>
</file>