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F3C-905E-4988-904B-96A650F6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20B-B139-4C85-B93F-911A5601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F5B-2C4D-4C63-9506-D2AC1E57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89E-E455-4D39-A152-90317936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FC3-6833-43AA-A4A5-16BEF972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FFD-D45B-4AEA-BD65-BA14403F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6D5-2E7E-4662-90BC-B2B1AFF1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FA8-0358-4BDD-844A-EBB0BDCB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F9A-FC3D-445D-BD6C-B6C858CA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7AEE-4130-4190-A0E5-61150302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9B6C-F625-4C57-BA9B-46F484E1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B37-6C43-4CB5-89EF-9245E21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F4CC-694C-4020-815B-A8FB42944A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important to learn a foreign language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offered to help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usually has a lot of work to do on Sun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at to live , but we don’t live to 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warned us not to go out at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e wants to do is earn his own b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attribu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adverb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object sup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predi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8-15T15:25:14Z</dcterms:modified>
  <cp:revision>1</cp:revision>
  <dc:subject/>
  <dc:title>PowerPoint Presentation</dc:title>
</cp:coreProperties>
</file>