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4.jpeg" ContentType="image/jpeg"/>
  <Override PartName="/ppt/media/image10.wmf" ContentType="image/x-wmf"/>
  <Override PartName="/ppt/media/image2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24.jpeg" ContentType="image/jpeg"/>
  <Override PartName="/ppt/media/image3.jpeg" ContentType="image/jpeg"/>
  <Override PartName="/ppt/media/image12.gif" ContentType="image/gif"/>
  <Override PartName="/ppt/media/333.wav" ContentType="audio/x-wav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3.png" ContentType="image/png"/>
  <Override PartName="/ppt/media/image14.wmf" ContentType="image/x-wmf"/>
  <Override PartName="/ppt/media/image16.png" ContentType="image/png"/>
  <Override PartName="/ppt/media/image17.gif" ContentType="image/gif"/>
  <Override PartName="/ppt/media/MYYPT.wav" ContentType="audio/x-wav"/>
  <Override PartName="/ppt/media/image29.png" ContentType="image/png"/>
  <Override PartName="/ppt/media/image21.jpeg" ContentType="image/jpeg"/>
  <Override PartName="/ppt/media/image15.png" ContentType="image/png"/>
  <Override PartName="/ppt/media/image18.jpeg" ContentType="image/jpeg"/>
  <Override PartName="/ppt/media/image26.gif" ContentType="image/gif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35F-915C-4EA6-A75B-A0ADDD73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45A-9A25-4619-A8A6-4E109C21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A63-FB68-477B-98CC-2D8F7A6A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EED-49B2-4601-A47C-1F7525A5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C308-14C2-4071-9A03-8147528F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1628-C311-4726-9A3C-6428A296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3C3D-C285-4B27-AAEA-A163ADC6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D282-E953-4658-BFC3-4D7F429F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71FD-946A-43C4-A390-C7C0FE55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02B9-4C2A-40DF-B5D1-AEC946F5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3163-352E-4A7B-B43F-CEA8A939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224-9044-4D19-A039-23E77A58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3196-A5F5-456B-A381-693B75A5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CAE2-BEAA-4F99-88BB-99696817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61EA-6F4F-4E10-BA34-7A8A14B8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925C-0B54-4344-9B77-DC43AFD6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2514-8A9A-402A-B6E9-B23A43CB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074BD-4BDF-41B5-8191-7C7D5A1A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5D315-047F-4D2C-9600-CD8FDB7A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705FB-F628-40A8-B9EF-36B06A75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1DB8C-D45E-43A4-BC3D-83CAFB7E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3AA63-85B0-4B45-9BC3-9F4B2AC4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311-9110-4CAE-BD5D-B4A79D36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6D1E6-33C2-43F6-A77F-0C7FDDF4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BE884-AAA7-45CC-943F-24942410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4FD62-C7CD-4C11-AA0B-7CBE6CDF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CEF86-9CD2-4FEB-B6BA-E0A306AD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E80A0-C423-4853-9A2F-347C361E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0E8D8-D67C-422B-A1DB-BD869081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C80C3-E86A-45D3-8BA0-DDC676DB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8FD16D-C214-4C2B-AA7B-A3293CEC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73839-C7FB-40F8-B530-0E15EA0E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234B55-13DE-4F4B-800D-4A8C1C8B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FD2-8BBB-4AE1-9C98-C3A59B96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D6064-A75C-448B-BD04-1F2CF615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305DB2-FE65-4D7D-9505-21A3949B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B7066E-05B1-4C93-B2AA-09E46BA1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3A72F0-C104-4B4A-8A6B-815D7C86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E831E5-101C-4317-8D00-4C24166A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4FA2B-E0E3-47AF-9120-E166A8B9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909BFB-F45B-49F2-ADC8-AB7906B9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29B128-63CE-4AC5-A326-A1352A57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6021AA-1C6E-4282-835A-117FA91E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0E2F7-F732-4E47-87F1-1C5AE6AA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274-7369-42EE-BF0E-0279162B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B1DE2-1879-4F48-811B-6C476C80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1FCD3-2DA2-40A7-B042-4815621F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686B8-2464-49FD-B63A-920655AB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7E904-5689-4A67-B084-7CCEF39A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D8646-FB49-4B47-B5BD-A2465EDD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CB33A-9DB7-4B9B-8B60-065DDDE9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D8143-09D7-4226-8019-282FFADC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3E2EC-092E-4402-99DD-E7D76CE6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6EE9D-3F7C-4586-89C1-103758C6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2842A-0011-4C4D-BA93-9BE86AB4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30D-C903-4822-B4AE-7AB3697F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83375-C98A-4D42-AFBD-8B65D4A9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8C8-5D10-40CE-96EC-1A0A0DE0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E4F-1D6D-4F17-A923-E983E86C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218-AD09-4887-B810-D699B27C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8384-27C6-4F53-8963-6F0D8E5DF5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2620-E7F4-40CE-B629-FBE666F44E1F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B1DA-BA30-4387-A743-E466463F4E31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C9C6-EB7E-4821-A4D4-3504A6AED66D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9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4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9C06-8DC6-43C3-8721-0A1B65148DAD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audio" Target="../media/333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MYYPT.wav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 txBox="1"/>
          <p:nvPr/>
        </p:nvSpPr>
        <p:spPr>
          <a:xfrm>
            <a:off x="1523880" y="1066680"/>
            <a:ext cx="29718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Unit 2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600200" y="3124080"/>
            <a:ext cx="58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News Media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3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179280" y="260280"/>
          <a:ext cx="8785440" cy="6440400"/>
        </p:xfrm>
        <a:graphic>
          <a:graphicData uri="http://schemas.openxmlformats.org/drawingml/2006/table">
            <a:tbl>
              <a:tblPr/>
              <a:tblGrid>
                <a:gridCol w="2016360"/>
                <a:gridCol w="2447640"/>
                <a:gridCol w="2283120"/>
                <a:gridCol w="20383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eve without checking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eve some &amp; check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believe &amp; check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 progra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paper art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8b04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8b04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48120" y="1523880"/>
            <a:ext cx="4267080" cy="642600"/>
          </a:xfrm>
          <a:prstGeom prst="rect">
            <a:avLst/>
          </a:prstGeom>
          <a:gradFill rotWithShape="0">
            <a:gsLst>
              <a:gs pos="0">
                <a:srgbClr val="2d9f2d"/>
              </a:gs>
              <a:gs pos="100000">
                <a:srgbClr val="164f16"/>
              </a:gs>
            </a:gsLst>
            <a:lin ang="5400000"/>
          </a:gradFill>
          <a:ln cap="sq"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ading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7"/>
          <a:stretch/>
        </p:blipFill>
        <p:spPr>
          <a:xfrm>
            <a:off x="1371600" y="1066680"/>
            <a:ext cx="1616040" cy="16401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33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 txBox="1"/>
          <p:nvPr/>
        </p:nvSpPr>
        <p:spPr>
          <a:xfrm>
            <a:off x="395280" y="0"/>
            <a:ext cx="2362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ad-in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907920"/>
            <a:ext cx="8136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In what way do you know what is happening around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What newspaper do you usually read in your spar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How much do you spend on newspaper per mon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Which column of a newspaper do you spend most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Do you believe every single news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How do you think newspapers report what happ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"/>
          <p:cNvGraphicFramePr/>
          <p:nvPr/>
        </p:nvGraphicFramePr>
        <p:xfrm rot="10800000">
          <a:off x="380880" y="5943600"/>
          <a:ext cx="845820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380880" y="5943600"/>
                    <a:ext cx="8458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571320" y="968400"/>
            <a:ext cx="573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Read for main idea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9680" y="1844640"/>
            <a:ext cx="153396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6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33720" y="1752480"/>
            <a:ext cx="678168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ews and other media do mote than simply record what happ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33720" y="2743200"/>
            <a:ext cx="6781680" cy="8614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Q: How do you decide what you are going to wr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133720" y="3733920"/>
            <a:ext cx="678168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ich of the articles that you have written do you lik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33720" y="4724280"/>
            <a:ext cx="6781680" cy="8614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you could write any article you want, what would you write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24000" y="5661000"/>
            <a:ext cx="678204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ow do newspapers help us understand the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7467480" y="228600"/>
            <a:ext cx="1676520" cy="14288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0" y="182880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6"/>
          <a:stretch/>
        </p:blipFill>
        <p:spPr>
          <a:xfrm>
            <a:off x="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7"/>
          <a:stretch/>
        </p:blipFill>
        <p:spPr>
          <a:xfrm>
            <a:off x="0" y="3657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8"/>
          <a:stretch/>
        </p:blipFill>
        <p:spPr>
          <a:xfrm>
            <a:off x="0" y="4648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9"/>
          <a:stretch/>
        </p:blipFill>
        <p:spPr>
          <a:xfrm>
            <a:off x="0" y="55627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826920" y="134136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3827"/>
                </a:solidFill>
                <a:latin typeface="Comic Sans MS"/>
                <a:ea typeface="方正姚体"/>
              </a:rPr>
              <a:t>Which of the following questions the text answ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" y="2590920"/>
            <a:ext cx="7543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es a reporter decide what to wr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much does a newspaper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Why do people read newspap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 newspapers report what happe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Where do people read newspap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 newspapers help us understand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or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1067040" cy="2379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1066680" cy="2379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395280" y="4365720"/>
            <a:ext cx="1066680" cy="2379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395280" y="5445000"/>
            <a:ext cx="106668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333360"/>
            <a:ext cx="9144000" cy="6237360"/>
            <a:chOff x="0" y="333360"/>
            <a:chExt cx="9144000" cy="6237360"/>
          </a:xfrm>
        </p:grpSpPr>
        <p:sp>
          <p:nvSpPr>
            <p:cNvPr id="569" name=""/>
            <p:cNvSpPr/>
            <p:nvPr/>
          </p:nvSpPr>
          <p:spPr>
            <a:xfrm>
              <a:off x="304560" y="3538440"/>
              <a:ext cx="6683400" cy="3032280"/>
            </a:xfrm>
            <a:custGeom>
              <a:avLst/>
              <a:gdLst/>
              <a:ahLst/>
              <a:rect l="l" t="t" r="r" b="b"/>
              <a:pathLst>
                <a:path w="4210" h="1910">
                  <a:moveTo>
                    <a:pt x="430" y="448"/>
                  </a:moveTo>
                  <a:cubicBezTo>
                    <a:pt x="474" y="332"/>
                    <a:pt x="467" y="287"/>
                    <a:pt x="600" y="235"/>
                  </a:cubicBezTo>
                  <a:cubicBezTo>
                    <a:pt x="627" y="224"/>
                    <a:pt x="657" y="228"/>
                    <a:pt x="686" y="224"/>
                  </a:cubicBezTo>
                  <a:cubicBezTo>
                    <a:pt x="714" y="203"/>
                    <a:pt x="737" y="170"/>
                    <a:pt x="771" y="160"/>
                  </a:cubicBezTo>
                  <a:cubicBezTo>
                    <a:pt x="826" y="144"/>
                    <a:pt x="885" y="154"/>
                    <a:pt x="942" y="150"/>
                  </a:cubicBezTo>
                  <a:cubicBezTo>
                    <a:pt x="1056" y="143"/>
                    <a:pt x="1169" y="135"/>
                    <a:pt x="1283" y="128"/>
                  </a:cubicBezTo>
                  <a:cubicBezTo>
                    <a:pt x="1522" y="76"/>
                    <a:pt x="1246" y="121"/>
                    <a:pt x="1464" y="128"/>
                  </a:cubicBezTo>
                  <a:cubicBezTo>
                    <a:pt x="1557" y="131"/>
                    <a:pt x="1649" y="121"/>
                    <a:pt x="1742" y="118"/>
                  </a:cubicBezTo>
                  <a:cubicBezTo>
                    <a:pt x="1991" y="100"/>
                    <a:pt x="2241" y="63"/>
                    <a:pt x="2488" y="107"/>
                  </a:cubicBezTo>
                  <a:cubicBezTo>
                    <a:pt x="2727" y="90"/>
                    <a:pt x="2758" y="136"/>
                    <a:pt x="2894" y="0"/>
                  </a:cubicBezTo>
                  <a:cubicBezTo>
                    <a:pt x="2931" y="123"/>
                    <a:pt x="2955" y="240"/>
                    <a:pt x="3011" y="352"/>
                  </a:cubicBezTo>
                  <a:cubicBezTo>
                    <a:pt x="3001" y="410"/>
                    <a:pt x="2979" y="505"/>
                    <a:pt x="3011" y="555"/>
                  </a:cubicBezTo>
                  <a:cubicBezTo>
                    <a:pt x="3023" y="574"/>
                    <a:pt x="3054" y="541"/>
                    <a:pt x="3075" y="534"/>
                  </a:cubicBezTo>
                  <a:cubicBezTo>
                    <a:pt x="3170" y="993"/>
                    <a:pt x="3223" y="799"/>
                    <a:pt x="3811" y="790"/>
                  </a:cubicBezTo>
                  <a:cubicBezTo>
                    <a:pt x="3849" y="750"/>
                    <a:pt x="3818" y="769"/>
                    <a:pt x="3854" y="811"/>
                  </a:cubicBezTo>
                  <a:cubicBezTo>
                    <a:pt x="3862" y="821"/>
                    <a:pt x="3875" y="825"/>
                    <a:pt x="3886" y="832"/>
                  </a:cubicBezTo>
                  <a:cubicBezTo>
                    <a:pt x="3900" y="924"/>
                    <a:pt x="3884" y="1023"/>
                    <a:pt x="3918" y="1110"/>
                  </a:cubicBezTo>
                  <a:cubicBezTo>
                    <a:pt x="3931" y="1143"/>
                    <a:pt x="3979" y="1148"/>
                    <a:pt x="4003" y="1174"/>
                  </a:cubicBezTo>
                  <a:cubicBezTo>
                    <a:pt x="4095" y="1276"/>
                    <a:pt x="4116" y="1335"/>
                    <a:pt x="4174" y="1451"/>
                  </a:cubicBezTo>
                  <a:cubicBezTo>
                    <a:pt x="4177" y="1501"/>
                    <a:pt x="4210" y="1558"/>
                    <a:pt x="4184" y="1600"/>
                  </a:cubicBezTo>
                  <a:cubicBezTo>
                    <a:pt x="4167" y="1627"/>
                    <a:pt x="4037" y="1646"/>
                    <a:pt x="3992" y="1654"/>
                  </a:cubicBezTo>
                  <a:cubicBezTo>
                    <a:pt x="3985" y="1677"/>
                    <a:pt x="3966" y="1695"/>
                    <a:pt x="3960" y="1718"/>
                  </a:cubicBezTo>
                  <a:cubicBezTo>
                    <a:pt x="3948" y="1767"/>
                    <a:pt x="3964" y="1823"/>
                    <a:pt x="3939" y="1867"/>
                  </a:cubicBezTo>
                  <a:cubicBezTo>
                    <a:pt x="3921" y="1899"/>
                    <a:pt x="3869" y="1896"/>
                    <a:pt x="3832" y="1899"/>
                  </a:cubicBezTo>
                  <a:cubicBezTo>
                    <a:pt x="3740" y="1906"/>
                    <a:pt x="3647" y="1906"/>
                    <a:pt x="3555" y="1910"/>
                  </a:cubicBezTo>
                  <a:cubicBezTo>
                    <a:pt x="3218" y="1899"/>
                    <a:pt x="2966" y="1909"/>
                    <a:pt x="2659" y="1856"/>
                  </a:cubicBezTo>
                  <a:cubicBezTo>
                    <a:pt x="2424" y="1679"/>
                    <a:pt x="2435" y="1728"/>
                    <a:pt x="2083" y="1739"/>
                  </a:cubicBezTo>
                  <a:cubicBezTo>
                    <a:pt x="1665" y="1793"/>
                    <a:pt x="2477" y="1691"/>
                    <a:pt x="1123" y="1760"/>
                  </a:cubicBezTo>
                  <a:cubicBezTo>
                    <a:pt x="1064" y="1763"/>
                    <a:pt x="952" y="1803"/>
                    <a:pt x="952" y="1803"/>
                  </a:cubicBezTo>
                  <a:cubicBezTo>
                    <a:pt x="938" y="1817"/>
                    <a:pt x="928" y="1837"/>
                    <a:pt x="910" y="1846"/>
                  </a:cubicBezTo>
                  <a:cubicBezTo>
                    <a:pt x="861" y="1870"/>
                    <a:pt x="707" y="1872"/>
                    <a:pt x="654" y="1878"/>
                  </a:cubicBezTo>
                  <a:cubicBezTo>
                    <a:pt x="561" y="1849"/>
                    <a:pt x="469" y="1819"/>
                    <a:pt x="376" y="1792"/>
                  </a:cubicBezTo>
                  <a:cubicBezTo>
                    <a:pt x="348" y="1784"/>
                    <a:pt x="300" y="1799"/>
                    <a:pt x="291" y="1771"/>
                  </a:cubicBezTo>
                  <a:cubicBezTo>
                    <a:pt x="72" y="1071"/>
                    <a:pt x="396" y="1140"/>
                    <a:pt x="78" y="1099"/>
                  </a:cubicBezTo>
                  <a:cubicBezTo>
                    <a:pt x="154" y="551"/>
                    <a:pt x="0" y="682"/>
                    <a:pt x="291" y="608"/>
                  </a:cubicBezTo>
                  <a:cubicBezTo>
                    <a:pt x="326" y="574"/>
                    <a:pt x="356" y="550"/>
                    <a:pt x="376" y="502"/>
                  </a:cubicBezTo>
                  <a:cubicBezTo>
                    <a:pt x="383" y="484"/>
                    <a:pt x="385" y="462"/>
                    <a:pt x="398" y="448"/>
                  </a:cubicBezTo>
                  <a:cubicBezTo>
                    <a:pt x="415" y="429"/>
                    <a:pt x="438" y="416"/>
                    <a:pt x="462" y="406"/>
                  </a:cubicBezTo>
                  <a:cubicBezTo>
                    <a:pt x="482" y="398"/>
                    <a:pt x="516" y="414"/>
                    <a:pt x="526" y="395"/>
                  </a:cubicBezTo>
                  <a:cubicBezTo>
                    <a:pt x="543" y="364"/>
                    <a:pt x="526" y="324"/>
                    <a:pt x="526" y="288"/>
                  </a:cubicBezTo>
                </a:path>
              </a:pathLst>
            </a:custGeom>
            <a:blipFill rotWithShape="0">
              <a:blip r:embed="rId1">
                <a:alphaModFix amt="0"/>
              </a:blip>
              <a:srcRect/>
              <a:stretch/>
            </a:blipFill>
            <a:ln cap="sq"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0" y="333360"/>
              <a:ext cx="9067680" cy="3449880"/>
              <a:chOff x="0" y="333360"/>
              <a:chExt cx="9067680" cy="3449880"/>
            </a:xfrm>
          </p:grpSpPr>
          <p:sp>
            <p:nvSpPr>
              <p:cNvPr id="571" name=""/>
              <p:cNvSpPr/>
              <p:nvPr/>
            </p:nvSpPr>
            <p:spPr>
              <a:xfrm>
                <a:off x="2222280" y="333360"/>
                <a:ext cx="6845400" cy="3449880"/>
              </a:xfrm>
              <a:custGeom>
                <a:avLst/>
                <a:gdLst/>
                <a:ahLst/>
                <a:rect l="l" t="t" r="r" b="b"/>
                <a:pathLst>
                  <a:path w="4312" h="2173">
                    <a:moveTo>
                      <a:pt x="120" y="1158"/>
                    </a:moveTo>
                    <a:cubicBezTo>
                      <a:pt x="123" y="1002"/>
                      <a:pt x="107" y="844"/>
                      <a:pt x="130" y="689"/>
                    </a:cubicBezTo>
                    <a:cubicBezTo>
                      <a:pt x="133" y="665"/>
                      <a:pt x="174" y="670"/>
                      <a:pt x="194" y="657"/>
                    </a:cubicBezTo>
                    <a:cubicBezTo>
                      <a:pt x="259" y="616"/>
                      <a:pt x="318" y="598"/>
                      <a:pt x="397" y="593"/>
                    </a:cubicBezTo>
                    <a:cubicBezTo>
                      <a:pt x="536" y="584"/>
                      <a:pt x="674" y="578"/>
                      <a:pt x="813" y="571"/>
                    </a:cubicBezTo>
                    <a:cubicBezTo>
                      <a:pt x="918" y="187"/>
                      <a:pt x="849" y="308"/>
                      <a:pt x="941" y="689"/>
                    </a:cubicBezTo>
                    <a:cubicBezTo>
                      <a:pt x="944" y="703"/>
                      <a:pt x="944" y="658"/>
                      <a:pt x="952" y="646"/>
                    </a:cubicBezTo>
                    <a:cubicBezTo>
                      <a:pt x="984" y="597"/>
                      <a:pt x="1010" y="540"/>
                      <a:pt x="1058" y="507"/>
                    </a:cubicBezTo>
                    <a:cubicBezTo>
                      <a:pt x="1094" y="483"/>
                      <a:pt x="1143" y="493"/>
                      <a:pt x="1186" y="486"/>
                    </a:cubicBezTo>
                    <a:cubicBezTo>
                      <a:pt x="1371" y="417"/>
                      <a:pt x="1539" y="352"/>
                      <a:pt x="1720" y="273"/>
                    </a:cubicBezTo>
                    <a:cubicBezTo>
                      <a:pt x="1775" y="249"/>
                      <a:pt x="1836" y="236"/>
                      <a:pt x="1890" y="209"/>
                    </a:cubicBezTo>
                    <a:cubicBezTo>
                      <a:pt x="2011" y="148"/>
                      <a:pt x="2072" y="65"/>
                      <a:pt x="2210" y="49"/>
                    </a:cubicBezTo>
                    <a:cubicBezTo>
                      <a:pt x="2231" y="42"/>
                      <a:pt x="2254" y="37"/>
                      <a:pt x="2274" y="27"/>
                    </a:cubicBezTo>
                    <a:cubicBezTo>
                      <a:pt x="2283" y="22"/>
                      <a:pt x="2288" y="0"/>
                      <a:pt x="2296" y="6"/>
                    </a:cubicBezTo>
                    <a:cubicBezTo>
                      <a:pt x="2308" y="14"/>
                      <a:pt x="2303" y="35"/>
                      <a:pt x="2306" y="49"/>
                    </a:cubicBezTo>
                    <a:cubicBezTo>
                      <a:pt x="2313" y="308"/>
                      <a:pt x="2317" y="568"/>
                      <a:pt x="2328" y="827"/>
                    </a:cubicBezTo>
                    <a:cubicBezTo>
                      <a:pt x="2328" y="838"/>
                      <a:pt x="2333" y="805"/>
                      <a:pt x="2338" y="795"/>
                    </a:cubicBezTo>
                    <a:cubicBezTo>
                      <a:pt x="2344" y="783"/>
                      <a:pt x="2353" y="774"/>
                      <a:pt x="2360" y="763"/>
                    </a:cubicBezTo>
                    <a:cubicBezTo>
                      <a:pt x="2391" y="896"/>
                      <a:pt x="2356" y="812"/>
                      <a:pt x="2626" y="699"/>
                    </a:cubicBezTo>
                    <a:cubicBezTo>
                      <a:pt x="2712" y="663"/>
                      <a:pt x="2811" y="692"/>
                      <a:pt x="2904" y="689"/>
                    </a:cubicBezTo>
                    <a:cubicBezTo>
                      <a:pt x="3053" y="710"/>
                      <a:pt x="3240" y="652"/>
                      <a:pt x="3352" y="753"/>
                    </a:cubicBezTo>
                    <a:cubicBezTo>
                      <a:pt x="3457" y="848"/>
                      <a:pt x="3320" y="1090"/>
                      <a:pt x="3437" y="1169"/>
                    </a:cubicBezTo>
                    <a:cubicBezTo>
                      <a:pt x="3520" y="1225"/>
                      <a:pt x="3579" y="1026"/>
                      <a:pt x="3650" y="955"/>
                    </a:cubicBezTo>
                    <a:cubicBezTo>
                      <a:pt x="3679" y="926"/>
                      <a:pt x="3736" y="870"/>
                      <a:pt x="3736" y="870"/>
                    </a:cubicBezTo>
                    <a:cubicBezTo>
                      <a:pt x="3770" y="970"/>
                      <a:pt x="3755" y="1254"/>
                      <a:pt x="3928" y="1169"/>
                    </a:cubicBezTo>
                    <a:cubicBezTo>
                      <a:pt x="3955" y="1156"/>
                      <a:pt x="3971" y="1126"/>
                      <a:pt x="3992" y="1105"/>
                    </a:cubicBezTo>
                    <a:cubicBezTo>
                      <a:pt x="4043" y="1531"/>
                      <a:pt x="3918" y="1654"/>
                      <a:pt x="4269" y="1745"/>
                    </a:cubicBezTo>
                    <a:cubicBezTo>
                      <a:pt x="4280" y="1777"/>
                      <a:pt x="4290" y="1809"/>
                      <a:pt x="4301" y="1841"/>
                    </a:cubicBezTo>
                    <a:cubicBezTo>
                      <a:pt x="4312" y="1874"/>
                      <a:pt x="4284" y="2029"/>
                      <a:pt x="4205" y="2033"/>
                    </a:cubicBezTo>
                    <a:cubicBezTo>
                      <a:pt x="3999" y="2043"/>
                      <a:pt x="3792" y="2044"/>
                      <a:pt x="3586" y="2054"/>
                    </a:cubicBezTo>
                    <a:cubicBezTo>
                      <a:pt x="3142" y="2076"/>
                      <a:pt x="2253" y="2129"/>
                      <a:pt x="2253" y="2129"/>
                    </a:cubicBezTo>
                    <a:cubicBezTo>
                      <a:pt x="2217" y="2125"/>
                      <a:pt x="2182" y="2118"/>
                      <a:pt x="2146" y="2118"/>
                    </a:cubicBezTo>
                    <a:cubicBezTo>
                      <a:pt x="2117" y="2118"/>
                      <a:pt x="2089" y="2135"/>
                      <a:pt x="2061" y="2129"/>
                    </a:cubicBezTo>
                    <a:cubicBezTo>
                      <a:pt x="1968" y="2110"/>
                      <a:pt x="1848" y="2044"/>
                      <a:pt x="1762" y="2001"/>
                    </a:cubicBezTo>
                    <a:cubicBezTo>
                      <a:pt x="1759" y="2012"/>
                      <a:pt x="1762" y="2027"/>
                      <a:pt x="1752" y="2033"/>
                    </a:cubicBezTo>
                    <a:cubicBezTo>
                      <a:pt x="1733" y="2044"/>
                      <a:pt x="1709" y="2040"/>
                      <a:pt x="1688" y="2043"/>
                    </a:cubicBezTo>
                    <a:cubicBezTo>
                      <a:pt x="1652" y="2047"/>
                      <a:pt x="1617" y="2050"/>
                      <a:pt x="1581" y="2054"/>
                    </a:cubicBezTo>
                    <a:cubicBezTo>
                      <a:pt x="1560" y="2047"/>
                      <a:pt x="1524" y="2054"/>
                      <a:pt x="1517" y="2033"/>
                    </a:cubicBezTo>
                    <a:cubicBezTo>
                      <a:pt x="1448" y="1807"/>
                      <a:pt x="1595" y="1770"/>
                      <a:pt x="1432" y="1841"/>
                    </a:cubicBezTo>
                    <a:cubicBezTo>
                      <a:pt x="1228" y="2045"/>
                      <a:pt x="1489" y="1803"/>
                      <a:pt x="1304" y="1926"/>
                    </a:cubicBezTo>
                    <a:cubicBezTo>
                      <a:pt x="1150" y="2028"/>
                      <a:pt x="1347" y="1969"/>
                      <a:pt x="1133" y="2011"/>
                    </a:cubicBezTo>
                    <a:cubicBezTo>
                      <a:pt x="809" y="2173"/>
                      <a:pt x="533" y="2087"/>
                      <a:pt x="141" y="2075"/>
                    </a:cubicBezTo>
                    <a:cubicBezTo>
                      <a:pt x="137" y="2050"/>
                      <a:pt x="133" y="2026"/>
                      <a:pt x="130" y="2001"/>
                    </a:cubicBezTo>
                    <a:cubicBezTo>
                      <a:pt x="126" y="1972"/>
                      <a:pt x="144" y="1931"/>
                      <a:pt x="120" y="1915"/>
                    </a:cubicBezTo>
                    <a:cubicBezTo>
                      <a:pt x="101" y="1902"/>
                      <a:pt x="105" y="1958"/>
                      <a:pt x="98" y="1979"/>
                    </a:cubicBezTo>
                    <a:cubicBezTo>
                      <a:pt x="0" y="1830"/>
                      <a:pt x="42" y="1665"/>
                      <a:pt x="141" y="1531"/>
                    </a:cubicBezTo>
                    <a:cubicBezTo>
                      <a:pt x="145" y="1510"/>
                      <a:pt x="145" y="1488"/>
                      <a:pt x="152" y="1467"/>
                    </a:cubicBezTo>
                    <a:cubicBezTo>
                      <a:pt x="156" y="1455"/>
                      <a:pt x="164" y="1426"/>
                      <a:pt x="173" y="1435"/>
                    </a:cubicBezTo>
                    <a:cubicBezTo>
                      <a:pt x="188" y="1450"/>
                      <a:pt x="180" y="1478"/>
                      <a:pt x="184" y="1499"/>
                    </a:cubicBezTo>
                    <a:cubicBezTo>
                      <a:pt x="121" y="1744"/>
                      <a:pt x="195" y="1474"/>
                      <a:pt x="152" y="934"/>
                    </a:cubicBezTo>
                    <a:cubicBezTo>
                      <a:pt x="149" y="896"/>
                      <a:pt x="109" y="1041"/>
                      <a:pt x="109" y="1041"/>
                    </a:cubicBezTo>
                  </a:path>
                </a:pathLst>
              </a:custGeom>
              <a:solidFill>
                <a:srgbClr val="ffffff">
                  <a:alpha val="75000"/>
                </a:srgbClr>
              </a:solidFill>
              <a:ln cap="sq"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32040"/>
                <a:ext cx="1676160" cy="20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"/>
              <p:cNvSpPr/>
              <p:nvPr/>
            </p:nvSpPr>
            <p:spPr>
              <a:xfrm>
                <a:off x="228600" y="291312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db3827"/>
                    </a:solidFill>
                    <a:latin typeface="Times New Roman"/>
                  </a:rPr>
                  <a:t>Zhu L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4" name="" descr=""/>
            <p:cNvPicPr/>
            <p:nvPr/>
          </p:nvPicPr>
          <p:blipFill>
            <a:blip r:embed="rId3"/>
            <a:stretch/>
          </p:blipFill>
          <p:spPr>
            <a:xfrm>
              <a:off x="7238880" y="3979800"/>
              <a:ext cx="16765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7162560" y="5732640"/>
              <a:ext cx="19814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Chen Y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514600" y="1557360"/>
            <a:ext cx="6629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0880" y="228600"/>
            <a:ext cx="815364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6f8587"/>
                  </a:outerShdw>
                </a:effectLst>
                <a:latin typeface="Comic Sans MS"/>
              </a:rPr>
              <a:t>Q: How do you decide what you are going to write?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53753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066680" y="419112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is done before star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s by contacting people, then prepares question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viewing is difficult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interview, … present … ref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340000" y="170028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 writing…discuss with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long &amp; important ones, the editor wil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ditor’s job is t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257040" y="304920"/>
            <a:ext cx="8886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f8587"/>
                  </a:outerShdw>
                </a:effectLst>
                <a:latin typeface="Comic Sans MS"/>
              </a:rPr>
              <a:t>which of the articles do you like best 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0" y="1197000"/>
            <a:ext cx="9144000" cy="5661000"/>
            <a:chOff x="0" y="1197000"/>
            <a:chExt cx="9144000" cy="5661000"/>
          </a:xfrm>
        </p:grpSpPr>
        <p:pic>
          <p:nvPicPr>
            <p:cNvPr id="582" name="" descr=""/>
            <p:cNvPicPr/>
            <p:nvPr/>
          </p:nvPicPr>
          <p:blipFill>
            <a:blip r:embed="rId1"/>
            <a:stretch/>
          </p:blipFill>
          <p:spPr>
            <a:xfrm>
              <a:off x="228600" y="4495680"/>
              <a:ext cx="12952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0" y="6095880"/>
              <a:ext cx="1371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Zhu L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395280" y="1197000"/>
              <a:ext cx="8748720" cy="2665440"/>
              <a:chOff x="395280" y="1197000"/>
              <a:chExt cx="8748720" cy="2665440"/>
            </a:xfrm>
          </p:grpSpPr>
          <p:pic>
            <p:nvPicPr>
              <p:cNvPr id="58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238880" y="1219320"/>
                <a:ext cx="129564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"/>
              <p:cNvSpPr/>
              <p:nvPr/>
            </p:nvSpPr>
            <p:spPr>
              <a:xfrm>
                <a:off x="7162920" y="23623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db3827"/>
                    </a:solidFill>
                    <a:latin typeface="Times New Roman"/>
                  </a:rPr>
                  <a:t>Chen Y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95280" y="1197000"/>
                <a:ext cx="6121440" cy="2665440"/>
              </a:xfrm>
              <a:prstGeom prst="flowChartPunchedTap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2411280" y="4149720"/>
              <a:ext cx="6048360" cy="2708280"/>
            </a:xfrm>
            <a:prstGeom prst="flowChartPunchedTape">
              <a:avLst/>
            </a:prstGeom>
            <a:solidFill>
              <a:srgbClr val="99cc0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2771640" y="4508640"/>
            <a:ext cx="56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 though…, …about an ordinary  young woman who… adapt to…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…with real passion; realize…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68360" y="148428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the effor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 …museum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view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…new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19280" y="3860640"/>
            <a:ext cx="1008000" cy="1008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611280" y="3645000"/>
            <a:ext cx="7762320" cy="2621880"/>
            <a:chOff x="611280" y="3645000"/>
            <a:chExt cx="7762320" cy="2621880"/>
          </a:xfrm>
        </p:grpSpPr>
        <p:sp>
          <p:nvSpPr>
            <p:cNvPr id="593" name=""/>
            <p:cNvSpPr/>
            <p:nvPr/>
          </p:nvSpPr>
          <p:spPr>
            <a:xfrm>
              <a:off x="611280" y="5807160"/>
              <a:ext cx="13712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Zhu L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1006200" y="4064040"/>
              <a:ext cx="129492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3693960" y="3645000"/>
              <a:ext cx="4679640" cy="2455920"/>
            </a:xfrm>
            <a:custGeom>
              <a:avLst/>
              <a:gdLst/>
              <a:ahLst/>
              <a:rect l="l" t="t" r="r" b="b"/>
              <a:pathLst>
                <a:path w="4210" h="1910">
                  <a:moveTo>
                    <a:pt x="430" y="448"/>
                  </a:moveTo>
                  <a:cubicBezTo>
                    <a:pt x="474" y="332"/>
                    <a:pt x="467" y="287"/>
                    <a:pt x="600" y="235"/>
                  </a:cubicBezTo>
                  <a:cubicBezTo>
                    <a:pt x="627" y="224"/>
                    <a:pt x="657" y="228"/>
                    <a:pt x="686" y="224"/>
                  </a:cubicBezTo>
                  <a:cubicBezTo>
                    <a:pt x="714" y="203"/>
                    <a:pt x="737" y="170"/>
                    <a:pt x="771" y="160"/>
                  </a:cubicBezTo>
                  <a:cubicBezTo>
                    <a:pt x="826" y="144"/>
                    <a:pt x="885" y="154"/>
                    <a:pt x="942" y="150"/>
                  </a:cubicBezTo>
                  <a:cubicBezTo>
                    <a:pt x="1056" y="143"/>
                    <a:pt x="1169" y="135"/>
                    <a:pt x="1283" y="128"/>
                  </a:cubicBezTo>
                  <a:cubicBezTo>
                    <a:pt x="1522" y="76"/>
                    <a:pt x="1246" y="121"/>
                    <a:pt x="1464" y="128"/>
                  </a:cubicBezTo>
                  <a:cubicBezTo>
                    <a:pt x="1557" y="131"/>
                    <a:pt x="1649" y="121"/>
                    <a:pt x="1742" y="118"/>
                  </a:cubicBezTo>
                  <a:cubicBezTo>
                    <a:pt x="1991" y="100"/>
                    <a:pt x="2241" y="63"/>
                    <a:pt x="2488" y="107"/>
                  </a:cubicBezTo>
                  <a:cubicBezTo>
                    <a:pt x="2727" y="90"/>
                    <a:pt x="2758" y="136"/>
                    <a:pt x="2894" y="0"/>
                  </a:cubicBezTo>
                  <a:cubicBezTo>
                    <a:pt x="2931" y="123"/>
                    <a:pt x="2955" y="240"/>
                    <a:pt x="3011" y="352"/>
                  </a:cubicBezTo>
                  <a:cubicBezTo>
                    <a:pt x="3001" y="410"/>
                    <a:pt x="2979" y="505"/>
                    <a:pt x="3011" y="555"/>
                  </a:cubicBezTo>
                  <a:cubicBezTo>
                    <a:pt x="3023" y="574"/>
                    <a:pt x="3054" y="541"/>
                    <a:pt x="3075" y="534"/>
                  </a:cubicBezTo>
                  <a:cubicBezTo>
                    <a:pt x="3170" y="993"/>
                    <a:pt x="3223" y="799"/>
                    <a:pt x="3811" y="790"/>
                  </a:cubicBezTo>
                  <a:cubicBezTo>
                    <a:pt x="3849" y="750"/>
                    <a:pt x="3818" y="769"/>
                    <a:pt x="3854" y="811"/>
                  </a:cubicBezTo>
                  <a:cubicBezTo>
                    <a:pt x="3862" y="821"/>
                    <a:pt x="3875" y="825"/>
                    <a:pt x="3886" y="832"/>
                  </a:cubicBezTo>
                  <a:cubicBezTo>
                    <a:pt x="3900" y="924"/>
                    <a:pt x="3884" y="1023"/>
                    <a:pt x="3918" y="1110"/>
                  </a:cubicBezTo>
                  <a:cubicBezTo>
                    <a:pt x="3931" y="1143"/>
                    <a:pt x="3979" y="1148"/>
                    <a:pt x="4003" y="1174"/>
                  </a:cubicBezTo>
                  <a:cubicBezTo>
                    <a:pt x="4095" y="1276"/>
                    <a:pt x="4116" y="1335"/>
                    <a:pt x="4174" y="1451"/>
                  </a:cubicBezTo>
                  <a:cubicBezTo>
                    <a:pt x="4177" y="1501"/>
                    <a:pt x="4210" y="1558"/>
                    <a:pt x="4184" y="1600"/>
                  </a:cubicBezTo>
                  <a:cubicBezTo>
                    <a:pt x="4167" y="1627"/>
                    <a:pt x="4037" y="1646"/>
                    <a:pt x="3992" y="1654"/>
                  </a:cubicBezTo>
                  <a:cubicBezTo>
                    <a:pt x="3985" y="1677"/>
                    <a:pt x="3966" y="1695"/>
                    <a:pt x="3960" y="1718"/>
                  </a:cubicBezTo>
                  <a:cubicBezTo>
                    <a:pt x="3948" y="1767"/>
                    <a:pt x="3964" y="1823"/>
                    <a:pt x="3939" y="1867"/>
                  </a:cubicBezTo>
                  <a:cubicBezTo>
                    <a:pt x="3921" y="1899"/>
                    <a:pt x="3869" y="1896"/>
                    <a:pt x="3832" y="1899"/>
                  </a:cubicBezTo>
                  <a:cubicBezTo>
                    <a:pt x="3740" y="1906"/>
                    <a:pt x="3647" y="1906"/>
                    <a:pt x="3555" y="1910"/>
                  </a:cubicBezTo>
                  <a:cubicBezTo>
                    <a:pt x="3218" y="1899"/>
                    <a:pt x="2966" y="1909"/>
                    <a:pt x="2659" y="1856"/>
                  </a:cubicBezTo>
                  <a:cubicBezTo>
                    <a:pt x="2424" y="1679"/>
                    <a:pt x="2435" y="1728"/>
                    <a:pt x="2083" y="1739"/>
                  </a:cubicBezTo>
                  <a:cubicBezTo>
                    <a:pt x="1665" y="1793"/>
                    <a:pt x="2477" y="1691"/>
                    <a:pt x="1123" y="1760"/>
                  </a:cubicBezTo>
                  <a:cubicBezTo>
                    <a:pt x="1064" y="1763"/>
                    <a:pt x="952" y="1803"/>
                    <a:pt x="952" y="1803"/>
                  </a:cubicBezTo>
                  <a:cubicBezTo>
                    <a:pt x="938" y="1817"/>
                    <a:pt x="928" y="1837"/>
                    <a:pt x="910" y="1846"/>
                  </a:cubicBezTo>
                  <a:cubicBezTo>
                    <a:pt x="861" y="1870"/>
                    <a:pt x="707" y="1872"/>
                    <a:pt x="654" y="1878"/>
                  </a:cubicBezTo>
                  <a:cubicBezTo>
                    <a:pt x="561" y="1849"/>
                    <a:pt x="469" y="1819"/>
                    <a:pt x="376" y="1792"/>
                  </a:cubicBezTo>
                  <a:cubicBezTo>
                    <a:pt x="348" y="1784"/>
                    <a:pt x="300" y="1799"/>
                    <a:pt x="291" y="1771"/>
                  </a:cubicBezTo>
                  <a:cubicBezTo>
                    <a:pt x="72" y="1071"/>
                    <a:pt x="396" y="1140"/>
                    <a:pt x="78" y="1099"/>
                  </a:cubicBezTo>
                  <a:cubicBezTo>
                    <a:pt x="154" y="551"/>
                    <a:pt x="0" y="682"/>
                    <a:pt x="291" y="608"/>
                  </a:cubicBezTo>
                  <a:cubicBezTo>
                    <a:pt x="326" y="574"/>
                    <a:pt x="356" y="550"/>
                    <a:pt x="376" y="502"/>
                  </a:cubicBezTo>
                  <a:cubicBezTo>
                    <a:pt x="383" y="484"/>
                    <a:pt x="385" y="462"/>
                    <a:pt x="398" y="448"/>
                  </a:cubicBezTo>
                  <a:cubicBezTo>
                    <a:pt x="415" y="429"/>
                    <a:pt x="438" y="416"/>
                    <a:pt x="462" y="406"/>
                  </a:cubicBezTo>
                  <a:cubicBezTo>
                    <a:pt x="482" y="398"/>
                    <a:pt x="516" y="414"/>
                    <a:pt x="526" y="395"/>
                  </a:cubicBezTo>
                  <a:cubicBezTo>
                    <a:pt x="543" y="364"/>
                    <a:pt x="526" y="324"/>
                    <a:pt x="526" y="288"/>
                  </a:cubicBezTo>
                </a:path>
              </a:pathLst>
            </a:custGeom>
            <a:blipFill rotWithShape="0">
              <a:blip r:embed="rId2">
                <a:alphaModFix amt="0"/>
              </a:blip>
              <a:srcRect/>
              <a:stretch/>
            </a:blipFill>
            <a:ln cap="sq"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1116000" y="404640"/>
            <a:ext cx="8028000" cy="3313440"/>
            <a:chOff x="1116000" y="404640"/>
            <a:chExt cx="8028000" cy="3313440"/>
          </a:xfrm>
        </p:grpSpPr>
        <p:sp>
          <p:nvSpPr>
            <p:cNvPr id="597" name=""/>
            <p:cNvSpPr/>
            <p:nvPr/>
          </p:nvSpPr>
          <p:spPr>
            <a:xfrm>
              <a:off x="716292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Chen Y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7238880" y="1219320"/>
              <a:ext cx="12956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1116000" y="404640"/>
              <a:ext cx="5040360" cy="3313440"/>
            </a:xfrm>
            <a:custGeom>
              <a:avLst/>
              <a:gdLst/>
              <a:ahLst/>
              <a:rect l="l" t="t" r="r" b="b"/>
              <a:pathLst>
                <a:path w="4312" h="2173">
                  <a:moveTo>
                    <a:pt x="120" y="1158"/>
                  </a:moveTo>
                  <a:cubicBezTo>
                    <a:pt x="123" y="1002"/>
                    <a:pt x="107" y="844"/>
                    <a:pt x="130" y="689"/>
                  </a:cubicBezTo>
                  <a:cubicBezTo>
                    <a:pt x="133" y="665"/>
                    <a:pt x="174" y="670"/>
                    <a:pt x="194" y="657"/>
                  </a:cubicBezTo>
                  <a:cubicBezTo>
                    <a:pt x="259" y="616"/>
                    <a:pt x="318" y="598"/>
                    <a:pt x="397" y="593"/>
                  </a:cubicBezTo>
                  <a:cubicBezTo>
                    <a:pt x="536" y="584"/>
                    <a:pt x="674" y="578"/>
                    <a:pt x="813" y="571"/>
                  </a:cubicBezTo>
                  <a:cubicBezTo>
                    <a:pt x="918" y="187"/>
                    <a:pt x="849" y="308"/>
                    <a:pt x="941" y="689"/>
                  </a:cubicBezTo>
                  <a:cubicBezTo>
                    <a:pt x="944" y="703"/>
                    <a:pt x="944" y="658"/>
                    <a:pt x="952" y="646"/>
                  </a:cubicBezTo>
                  <a:cubicBezTo>
                    <a:pt x="984" y="597"/>
                    <a:pt x="1010" y="540"/>
                    <a:pt x="1058" y="507"/>
                  </a:cubicBezTo>
                  <a:cubicBezTo>
                    <a:pt x="1094" y="483"/>
                    <a:pt x="1143" y="493"/>
                    <a:pt x="1186" y="486"/>
                  </a:cubicBezTo>
                  <a:cubicBezTo>
                    <a:pt x="1371" y="417"/>
                    <a:pt x="1539" y="352"/>
                    <a:pt x="1720" y="273"/>
                  </a:cubicBezTo>
                  <a:cubicBezTo>
                    <a:pt x="1775" y="249"/>
                    <a:pt x="1836" y="236"/>
                    <a:pt x="1890" y="209"/>
                  </a:cubicBezTo>
                  <a:cubicBezTo>
                    <a:pt x="2011" y="148"/>
                    <a:pt x="2072" y="65"/>
                    <a:pt x="2210" y="49"/>
                  </a:cubicBezTo>
                  <a:cubicBezTo>
                    <a:pt x="2231" y="42"/>
                    <a:pt x="2254" y="37"/>
                    <a:pt x="2274" y="27"/>
                  </a:cubicBezTo>
                  <a:cubicBezTo>
                    <a:pt x="2283" y="22"/>
                    <a:pt x="2288" y="0"/>
                    <a:pt x="2296" y="6"/>
                  </a:cubicBezTo>
                  <a:cubicBezTo>
                    <a:pt x="2308" y="14"/>
                    <a:pt x="2303" y="35"/>
                    <a:pt x="2306" y="49"/>
                  </a:cubicBezTo>
                  <a:cubicBezTo>
                    <a:pt x="2313" y="308"/>
                    <a:pt x="2317" y="568"/>
                    <a:pt x="2328" y="827"/>
                  </a:cubicBezTo>
                  <a:cubicBezTo>
                    <a:pt x="2328" y="838"/>
                    <a:pt x="2333" y="805"/>
                    <a:pt x="2338" y="795"/>
                  </a:cubicBezTo>
                  <a:cubicBezTo>
                    <a:pt x="2344" y="783"/>
                    <a:pt x="2353" y="774"/>
                    <a:pt x="2360" y="763"/>
                  </a:cubicBezTo>
                  <a:cubicBezTo>
                    <a:pt x="2391" y="896"/>
                    <a:pt x="2356" y="812"/>
                    <a:pt x="2626" y="699"/>
                  </a:cubicBezTo>
                  <a:cubicBezTo>
                    <a:pt x="2712" y="663"/>
                    <a:pt x="2811" y="692"/>
                    <a:pt x="2904" y="689"/>
                  </a:cubicBezTo>
                  <a:cubicBezTo>
                    <a:pt x="3053" y="710"/>
                    <a:pt x="3240" y="652"/>
                    <a:pt x="3352" y="753"/>
                  </a:cubicBezTo>
                  <a:cubicBezTo>
                    <a:pt x="3457" y="848"/>
                    <a:pt x="3320" y="1090"/>
                    <a:pt x="3437" y="1169"/>
                  </a:cubicBezTo>
                  <a:cubicBezTo>
                    <a:pt x="3520" y="1225"/>
                    <a:pt x="3579" y="1026"/>
                    <a:pt x="3650" y="955"/>
                  </a:cubicBezTo>
                  <a:cubicBezTo>
                    <a:pt x="3679" y="926"/>
                    <a:pt x="3736" y="870"/>
                    <a:pt x="3736" y="870"/>
                  </a:cubicBezTo>
                  <a:cubicBezTo>
                    <a:pt x="3770" y="970"/>
                    <a:pt x="3755" y="1254"/>
                    <a:pt x="3928" y="1169"/>
                  </a:cubicBezTo>
                  <a:cubicBezTo>
                    <a:pt x="3955" y="1156"/>
                    <a:pt x="3971" y="1126"/>
                    <a:pt x="3992" y="1105"/>
                  </a:cubicBezTo>
                  <a:cubicBezTo>
                    <a:pt x="4043" y="1531"/>
                    <a:pt x="3918" y="1654"/>
                    <a:pt x="4269" y="1745"/>
                  </a:cubicBezTo>
                  <a:cubicBezTo>
                    <a:pt x="4280" y="1777"/>
                    <a:pt x="4290" y="1809"/>
                    <a:pt x="4301" y="1841"/>
                  </a:cubicBezTo>
                  <a:cubicBezTo>
                    <a:pt x="4312" y="1874"/>
                    <a:pt x="4284" y="2029"/>
                    <a:pt x="4205" y="2033"/>
                  </a:cubicBezTo>
                  <a:cubicBezTo>
                    <a:pt x="3999" y="2043"/>
                    <a:pt x="3792" y="2044"/>
                    <a:pt x="3586" y="2054"/>
                  </a:cubicBezTo>
                  <a:cubicBezTo>
                    <a:pt x="3142" y="2076"/>
                    <a:pt x="2253" y="2129"/>
                    <a:pt x="2253" y="2129"/>
                  </a:cubicBezTo>
                  <a:cubicBezTo>
                    <a:pt x="2217" y="2125"/>
                    <a:pt x="2182" y="2118"/>
                    <a:pt x="2146" y="2118"/>
                  </a:cubicBezTo>
                  <a:cubicBezTo>
                    <a:pt x="2117" y="2118"/>
                    <a:pt x="2089" y="2135"/>
                    <a:pt x="2061" y="2129"/>
                  </a:cubicBezTo>
                  <a:cubicBezTo>
                    <a:pt x="1968" y="2110"/>
                    <a:pt x="1848" y="2044"/>
                    <a:pt x="1762" y="2001"/>
                  </a:cubicBezTo>
                  <a:cubicBezTo>
                    <a:pt x="1759" y="2012"/>
                    <a:pt x="1762" y="2027"/>
                    <a:pt x="1752" y="2033"/>
                  </a:cubicBezTo>
                  <a:cubicBezTo>
                    <a:pt x="1733" y="2044"/>
                    <a:pt x="1709" y="2040"/>
                    <a:pt x="1688" y="2043"/>
                  </a:cubicBezTo>
                  <a:cubicBezTo>
                    <a:pt x="1652" y="2047"/>
                    <a:pt x="1617" y="2050"/>
                    <a:pt x="1581" y="2054"/>
                  </a:cubicBezTo>
                  <a:cubicBezTo>
                    <a:pt x="1560" y="2047"/>
                    <a:pt x="1524" y="2054"/>
                    <a:pt x="1517" y="2033"/>
                  </a:cubicBezTo>
                  <a:cubicBezTo>
                    <a:pt x="1448" y="1807"/>
                    <a:pt x="1595" y="1770"/>
                    <a:pt x="1432" y="1841"/>
                  </a:cubicBezTo>
                  <a:cubicBezTo>
                    <a:pt x="1228" y="2045"/>
                    <a:pt x="1489" y="1803"/>
                    <a:pt x="1304" y="1926"/>
                  </a:cubicBezTo>
                  <a:cubicBezTo>
                    <a:pt x="1150" y="2028"/>
                    <a:pt x="1347" y="1969"/>
                    <a:pt x="1133" y="2011"/>
                  </a:cubicBezTo>
                  <a:cubicBezTo>
                    <a:pt x="809" y="2173"/>
                    <a:pt x="533" y="2087"/>
                    <a:pt x="141" y="2075"/>
                  </a:cubicBezTo>
                  <a:cubicBezTo>
                    <a:pt x="137" y="2050"/>
                    <a:pt x="133" y="2026"/>
                    <a:pt x="130" y="2001"/>
                  </a:cubicBezTo>
                  <a:cubicBezTo>
                    <a:pt x="126" y="1972"/>
                    <a:pt x="144" y="1931"/>
                    <a:pt x="120" y="1915"/>
                  </a:cubicBezTo>
                  <a:cubicBezTo>
                    <a:pt x="101" y="1902"/>
                    <a:pt x="105" y="1958"/>
                    <a:pt x="98" y="1979"/>
                  </a:cubicBezTo>
                  <a:cubicBezTo>
                    <a:pt x="0" y="1830"/>
                    <a:pt x="42" y="1665"/>
                    <a:pt x="141" y="1531"/>
                  </a:cubicBezTo>
                  <a:cubicBezTo>
                    <a:pt x="145" y="1510"/>
                    <a:pt x="145" y="1488"/>
                    <a:pt x="152" y="1467"/>
                  </a:cubicBezTo>
                  <a:cubicBezTo>
                    <a:pt x="156" y="1455"/>
                    <a:pt x="164" y="1426"/>
                    <a:pt x="173" y="1435"/>
                  </a:cubicBezTo>
                  <a:cubicBezTo>
                    <a:pt x="188" y="1450"/>
                    <a:pt x="180" y="1478"/>
                    <a:pt x="184" y="1499"/>
                  </a:cubicBezTo>
                  <a:cubicBezTo>
                    <a:pt x="121" y="1744"/>
                    <a:pt x="195" y="1474"/>
                    <a:pt x="152" y="934"/>
                  </a:cubicBezTo>
                  <a:cubicBezTo>
                    <a:pt x="149" y="896"/>
                    <a:pt x="109" y="1041"/>
                    <a:pt x="109" y="1041"/>
                  </a:cubicBezTo>
                </a:path>
              </a:pathLst>
            </a:custGeom>
            <a:solidFill>
              <a:srgbClr val="ffffff">
                <a:alpha val="75000"/>
              </a:srgbClr>
            </a:solidFill>
            <a:ln cap="sq" w="0">
              <a:solidFill>
                <a:srgbClr val="ffffff"/>
              </a:solidFill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 txBox="1"/>
          <p:nvPr/>
        </p:nvSpPr>
        <p:spPr>
          <a:xfrm>
            <a:off x="257040" y="304920"/>
            <a:ext cx="8886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f8587"/>
                  </a:outerShdw>
                </a:effectLst>
                <a:latin typeface="Comic Sans MS"/>
              </a:rPr>
              <a:t>what would you write about and why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4211640" y="436572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people you seldom read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19280" y="191628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ic, art, nature and the importance of spiritual fulfill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21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2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380880" y="2133720"/>
            <a:ext cx="8763120" cy="4724280"/>
            <a:chOff x="380880" y="2133720"/>
            <a:chExt cx="8763120" cy="4724280"/>
          </a:xfrm>
        </p:grpSpPr>
        <p:sp>
          <p:nvSpPr>
            <p:cNvPr id="604" name=""/>
            <p:cNvSpPr/>
            <p:nvPr/>
          </p:nvSpPr>
          <p:spPr>
            <a:xfrm>
              <a:off x="3352680" y="2666880"/>
              <a:ext cx="2743200" cy="19814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noFill/>
            <a:ln w="255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bout Iraq, I think…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380880" y="2133720"/>
              <a:ext cx="8763120" cy="4724280"/>
              <a:chOff x="380880" y="2133720"/>
              <a:chExt cx="8763120" cy="4724280"/>
            </a:xfrm>
          </p:grpSpPr>
          <p:pic>
            <p:nvPicPr>
              <p:cNvPr id="6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2209680"/>
                <a:ext cx="2714760" cy="407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213600" y="2133720"/>
                <a:ext cx="2930400" cy="472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"/>
              <p:cNvSpPr/>
              <p:nvPr/>
            </p:nvSpPr>
            <p:spPr>
              <a:xfrm>
                <a:off x="3352680" y="2666880"/>
                <a:ext cx="2743200" cy="1981440"/>
              </a:xfrm>
              <a:prstGeom prst="wedgeRoundRectCallout">
                <a:avLst>
                  <a:gd name="adj1" fmla="val 50925"/>
                  <a:gd name="adj2" fmla="val 72194"/>
                  <a:gd name="adj3" fmla="val 16667"/>
                </a:avLst>
              </a:prstGeom>
              <a:noFill/>
              <a:ln w="25560">
                <a:solidFill>
                  <a:srgbClr val="00ff00"/>
                </a:solidFill>
                <a:miter/>
              </a:ln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About Iraq, I think…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>
            <a:off x="1619280" y="98100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film or sports star is asked to comment on a “hot topic”, do their opinions ma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79280" y="0"/>
            <a:ext cx="3538800" cy="10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365640" cy="40384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 txBox="1"/>
          <p:nvPr/>
        </p:nvSpPr>
        <p:spPr>
          <a:xfrm>
            <a:off x="826920" y="404640"/>
            <a:ext cx="68580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integrating skills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514600" y="2286000"/>
            <a:ext cx="3809880" cy="2362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" y="3733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666880" y="990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5280" y="5105520"/>
            <a:ext cx="33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V program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63868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076720" y="62064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st/host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781680" y="2492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1676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0400" y="6019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gaz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70572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s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35640" y="17002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viewer/interview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162920" y="35053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429000" y="3147840"/>
            <a:ext cx="2286000" cy="5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news &amp; medi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419640" y="328464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news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152280" y="1012680"/>
            <a:ext cx="8839440" cy="443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Read the two reports carefully and discuss these question with your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ow are the reports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o do you think wrote each re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do you think are facts and what are opin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would be a good headline for each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pictures would you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4800600" y="5638680"/>
            <a:ext cx="4343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7" dur="2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152280" y="1012680"/>
            <a:ext cx="88394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4800600" y="5638680"/>
            <a:ext cx="43434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0" name=""/>
          <p:cNvGraphicFramePr/>
          <p:nvPr/>
        </p:nvGraphicFramePr>
        <p:xfrm>
          <a:off x="69840" y="533520"/>
          <a:ext cx="9074160" cy="5200560"/>
        </p:xfrm>
        <a:graphic>
          <a:graphicData uri="http://schemas.openxmlformats.org/drawingml/2006/table">
            <a:tbl>
              <a:tblPr/>
              <a:tblGrid>
                <a:gridCol w="6939000"/>
                <a:gridCol w="213516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mall group of fewer than a hundred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d problem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successful company”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ude and noisy group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it difficult for workers” “troublemakers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 peacefully … but a few of them fought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152280" y="1012680"/>
            <a:ext cx="88394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0" y="685800"/>
          <a:ext cx="8964720" cy="5200560"/>
        </p:xfrm>
        <a:graphic>
          <a:graphicData uri="http://schemas.openxmlformats.org/drawingml/2006/table">
            <a:tbl>
              <a:tblPr/>
              <a:tblGrid>
                <a:gridCol w="2111400"/>
                <a:gridCol w="685332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ninety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ing citizens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their voices heard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ity’s worst polluter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itizens … love nature and our planet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ked to workers …a positive messag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st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ry men armed with sticks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04920" y="8953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 (to)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09720"/>
            <a:ext cx="8381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e faced with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面临；面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face up to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面对；承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face the music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接受（不愉快的后果或情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09480" y="1962000"/>
            <a:ext cx="152640" cy="152424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4476600"/>
            <a:ext cx="86104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s faced with a new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couldn’t face up to the f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was caught cheating in the examination and had to face the mus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67080" y="895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面对南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09480" y="3867120"/>
            <a:ext cx="106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28600" y="152280"/>
            <a:ext cx="6172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anguage point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8600" y="304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Injure Vt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使）受伤，损害，伤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066680" y="1905120"/>
            <a:ext cx="74678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quake killed 2000 people and injured 3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got badly injured in the acc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jured were taken to hos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ope I didn’t injure her feel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refusal injured his pr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33520" y="114300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57200" y="304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ore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0"/>
            <a:ext cx="63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不仅仅；不只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常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imply, jus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起用加强语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35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1981080"/>
            <a:ext cx="70866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brary is more than just a place where books are st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more than 100 people at the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more than willing to help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an jump no more than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’s more like a writer than an art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04920" y="3049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. Inform Vt.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通知，告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52880" y="404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nform sb of s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33520" y="11430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95280" y="1628640"/>
            <a:ext cx="82090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informed her mother of her safe arr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returned and informed us of their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ere informed that a big fire had broken out in the next t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letter informed us how and when he was expected to arrive in Beij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he been informed of his father’s dea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2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4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without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6252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99"/>
                </a:solidFill>
                <a:latin typeface="Arial"/>
              </a:rPr>
              <a:t>毫不劲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143000" y="8380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2209680" y="8380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d it without ef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81080" y="167652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209680" y="1523880"/>
            <a:ext cx="4038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re no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n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no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181480" y="21337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9480" y="37339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read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581280" y="3733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读关于……的文章；获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762120" y="43434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1676520" y="457200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read about the accident in the news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143000" y="5105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st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5181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读（内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676520" y="58672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read a good article in today’s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457200" y="152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 suffer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29000" y="76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苦于……； 患……的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76212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often suffer from heada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57200" y="13716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draw attention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038480" y="1219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对……加以注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把注意力吸引到……上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33520" y="1828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/ at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920" y="236232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2919240"/>
            <a:ext cx="868680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rew attention to the rising emplo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should pay attention to the experi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evoted much attention to training new teach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 must call your attention to the air pol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e turned her attention to improve her Englis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must fix your attention on / upon what the teacher is say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8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3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8" dur="20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50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50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28600" y="304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add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304920"/>
            <a:ext cx="50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be / become / get addi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1197000"/>
            <a:ext cx="487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is addicted to dr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became addicted to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is addicted to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" y="3886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look u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895480" y="39625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尊敬，钦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066680" y="4800600"/>
            <a:ext cx="71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boys usually look up to great athl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s a fine chap. I’ve always looked up to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hould look up to him as an example of devotion to du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0" dur="20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8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4" name=""/>
          <p:cNvGrpSpPr/>
          <p:nvPr/>
        </p:nvGrpSpPr>
        <p:grpSpPr>
          <a:xfrm>
            <a:off x="1371600" y="1143000"/>
            <a:ext cx="5486400" cy="4495680"/>
            <a:chOff x="1371600" y="1143000"/>
            <a:chExt cx="5486400" cy="4495680"/>
          </a:xfrm>
        </p:grpSpPr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1371600" y="1143000"/>
              <a:ext cx="5486400" cy="44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3"/>
            <a:stretch/>
          </p:blipFill>
          <p:spPr>
            <a:xfrm>
              <a:off x="2590920" y="1523880"/>
              <a:ext cx="3200400" cy="25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1371600" y="380880"/>
            <a:ext cx="5943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ffair, business, matter &amp; event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304920" y="1371600"/>
            <a:ext cx="85341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affair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日常事务或国家事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affairs of state/one’s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business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商务或正经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ravel on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matter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麻烦事；常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hat’s the matter with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event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所长指国内外的大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o cover events in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638680" y="1752480"/>
            <a:ext cx="3429000" cy="3657600"/>
          </a:xfrm>
          <a:prstGeom prst="horizontalScroll">
            <a:avLst>
              <a:gd name="adj" fmla="val 12500"/>
            </a:avLst>
          </a:prstGeom>
          <a:solidFill>
            <a:srgbClr val="8fc7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It’s none of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Mind your 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2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9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8" dur="500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04920" y="152280"/>
            <a:ext cx="8762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injure, wound, hurt, harm, destroy &amp; damage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152280" y="838080"/>
            <a:ext cx="8991720" cy="39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injure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意外事故造成的伤害，可能危及功能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wound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刀、枪、剑伤或战场上受伤。也指对感情的伤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hurt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精神上或肉体上的“创伤”“伤害”，作不及物动词，意为“疼痛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harm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般指伤害有生命的东西，常指伤及一个人的健康、权利、事业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damage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指对价值和功能的破坏，多用于无生命的东西，一般还可以修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destroy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通过某种有力的或粗暴的手段使之毁灭或无用。一般不能或很难修复。有时可用作比喻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60958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the inju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495680" y="60958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the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28600" y="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mmar</a:t>
            </a:r>
            <a:endParaRPr b="1" lang="en-US" sz="96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533520"/>
            <a:ext cx="914400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Experienced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ditors and reporters mak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inform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cisions about what events to report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asked two of China’s many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talente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urnalists to tell us more about news and newspap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fter the interview, the reporter must present the material in an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organised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y 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n wrote about the efforts to bring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stolen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tural relics back to ch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want to write about peopl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addic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ru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V programmes an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printe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ticles help people in other countries learn about China and the Chinese peo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media can often help solve problems and draw attentions to situations where help is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 need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lead to a future world where people from all countries are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respec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different views and opinions ar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tolera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80880" y="1398600"/>
            <a:ext cx="8534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brought som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pain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ch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Everybody attended the meeting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held last week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e’s one of those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 invi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09480" y="3657600"/>
            <a:ext cx="1219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osition: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797280"/>
            <a:ext cx="5867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ast participle, before the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rase after the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 past participle after “something”, “anything”, “those” and so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09480" y="228600"/>
            <a:ext cx="7696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Past Participle as Attribute: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2" dur="5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6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1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4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4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04920" y="228600"/>
            <a:ext cx="1676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differences:</a:t>
            </a:r>
            <a:endParaRPr b="1" lang="en-US" sz="96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304920" y="91440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A reporter begins by contacting the peopl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to be interview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and then prepares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Most of the artist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invi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to the party were from South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Did you see the boy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eing question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by the pol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" y="411480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去分词作定语表示一个完成的被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分词被动式作定语表示一个正在进行的被动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定式的被动式作定语表示一个将来的被动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5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0" dur="1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457200" y="2286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Past Participle as Predicative: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838080" y="99072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he looks</a:t>
            </a:r>
            <a:r>
              <a:rPr b="0" lang="en-US" sz="28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worri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Your article is well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writt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y hav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got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engaged five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52280" y="297180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differences: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1981080" y="3106800"/>
            <a:ext cx="685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lass i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rok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lass wa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rok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by Tom las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458964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作表语的过去分词，被动意味很弱，主要表示动作的完成和状态，此时相当于一个形容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动语态的过去分词，动作意味很强，句子主语为动作的承受者，后常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短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50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50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7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28600" y="0"/>
            <a:ext cx="2362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vision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609480"/>
            <a:ext cx="9144000" cy="61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the sentences using the right form of the given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had nothing to do. I was __________ (bore) and lon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Jack looked even more _______ (amaze) than he fe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results were very _____________ (disappoi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was thanked by the _____________ (satisfy) custo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irl ___________ (dress) in red is my daugh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Last Monday our class went on an ____________ (organise) t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724280" y="1600200"/>
            <a:ext cx="1828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b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038480" y="2529000"/>
            <a:ext cx="198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ama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8480" y="3352680"/>
            <a:ext cx="2438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disappo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4038480"/>
            <a:ext cx="2133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satis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81080" y="5029200"/>
            <a:ext cx="2210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943600" y="5638680"/>
            <a:ext cx="2362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organ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0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 txBox="1"/>
          <p:nvPr/>
        </p:nvSpPr>
        <p:spPr>
          <a:xfrm>
            <a:off x="1676520" y="2514600"/>
            <a:ext cx="57909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cap="sq"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175e75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The End</a:t>
            </a:r>
            <a:endParaRPr b="1" lang="en-US" sz="6600" spc="1" strike="noStrike">
              <a:ln cap="sq"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175e75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YYP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1981080" y="121932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676520" y="609480"/>
            <a:ext cx="519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41911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2286000" y="914400"/>
            <a:ext cx="42670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324000" y="333360"/>
            <a:ext cx="380988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omparison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179280" y="189000"/>
          <a:ext cx="8785440" cy="6337080"/>
        </p:xfrm>
        <a:graphic>
          <a:graphicData uri="http://schemas.openxmlformats.org/drawingml/2006/table">
            <a:tbl>
              <a:tblPr/>
              <a:tblGrid>
                <a:gridCol w="2160720"/>
                <a:gridCol w="3311640"/>
                <a:gridCol w="3313080"/>
              </a:tblGrid>
              <a:tr h="105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z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pa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1403280" y="2421000"/>
            <a:ext cx="640080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What is the most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reliable?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1:32:30Z</dcterms:created>
  <dc:creator> </dc:creator>
  <dc:description/>
  <dc:language>en-US</dc:language>
  <cp:lastModifiedBy>tianghong</cp:lastModifiedBy>
  <dcterms:modified xsi:type="dcterms:W3CDTF">2004-09-23T00:08:56Z</dcterms:modified>
  <cp:revision>14</cp:revision>
  <dc:subject/>
  <dc:title>幻灯片 1</dc:title>
</cp:coreProperties>
</file>