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click.wav" ContentType="audio/x-wav"/>
  <Override PartName="/ppt/media/MTO_008.WAV" ContentType="audio/x-wav"/>
  <Override PartName="/ppt/media/image23.gif" ContentType="image/gif"/>
  <Override PartName="/ppt/media/image16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gif" ContentType="image/gif"/>
  <Override PartName="/ppt/media/image17.png" ContentType="image/png"/>
  <Override PartName="/ppt/media/image14.gif" ContentType="image/gif"/>
  <Override PartName="/ppt/media/image13.png" ContentType="image/png"/>
  <Override PartName="/ppt/media/image20.gif" ContentType="image/gif"/>
  <Override PartName="/ppt/media/image18.gif" ContentType="image/gif"/>
  <Override PartName="/ppt/media/arrow.wav" ContentType="audio/x-wav"/>
  <Override PartName="/ppt/media/image27.wmf" ContentType="image/x-wmf"/>
  <Override PartName="/ppt/media/image9.png" ContentType="image/png"/>
  <Override PartName="/ppt/media/image29.gif" ContentType="image/gif"/>
  <Override PartName="/ppt/media/image34.png" ContentType="image/png"/>
  <Override PartName="/ppt/media/image26.png" ContentType="image/png"/>
  <Override PartName="/ppt/media/MTO_014.WAV" ContentType="audio/x-wav"/>
  <Override PartName="/ppt/media/MTC_032.WAV" ContentType="audio/x-wav"/>
  <Override PartName="/ppt/media/breeze.wav" ContentType="audio/x-wav"/>
  <Override PartName="/ppt/media/image30.jpeg" ContentType="image/jpeg"/>
  <Override PartName="/ppt/media/image28.wmf" ContentType="image/x-wmf"/>
  <Override PartName="/ppt/media/image3.jpeg" ContentType="image/jpeg"/>
  <Override PartName="/ppt/media/image12.gif" ContentType="image/gif"/>
  <Override PartName="/ppt/media/image32.png" ContentType="image/png"/>
  <Override PartName="/ppt/media/image1.jpeg" ContentType="image/jpeg"/>
  <Override PartName="/ppt/media/image11.png" ContentType="image/png"/>
  <Override PartName="/ppt/media/coin.wav" ContentType="audio/x-wav"/>
  <Override PartName="/ppt/media/image33.png" ContentType="image/png"/>
  <Override PartName="/ppt/media/image8.png" ContentType="image/png"/>
  <Override PartName="/ppt/media/MTP_040.WAV" ContentType="audio/x-wav"/>
  <Override PartName="/ppt/media/chimes.wav" ContentType="audio/x-wav"/>
  <Override PartName="/ppt/media/image31.wmf" ContentType="image/x-wmf"/>
  <Override PartName="/ppt/media/image7.jpeg" ContentType="image/jpeg"/>
  <Override PartName="/ppt/media/image6.jpeg" ContentType="image/jpeg"/>
  <Override PartName="/ppt/media/type.wav" ContentType="audio/x-wav"/>
  <Override PartName="/ppt/media/image25.gif" ContentType="image/gif"/>
  <Override PartName="/ppt/media/image15.gif" ContentType="image/gif"/>
  <Override PartName="/ppt/media/image5.jpeg" ContentType="image/jpeg"/>
  <Override PartName="/ppt/media/image4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C37B-603B-46D4-935A-9C0512C0FA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ice to meet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sson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CB6-8E3D-4D49-A9AE-F76EC5B7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CCA-4AAE-4A4A-9272-754FAE03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2496A-B9A0-4062-B656-D4DA9841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5A659-BD4B-4F50-9C64-5B7D60DC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9B8B1-53BA-40A3-B212-C19F332D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51256-A50C-409E-A038-EAE2BADB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B0DF2-9DC6-4E59-81B2-CE3E35C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01EFD-C072-4AB3-9693-408E9056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B193B-E644-456C-BD2D-AAF058A9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BBBCE-652B-4549-B441-A3E857CC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4D7F6-EDAF-425C-A622-773D33D2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C1BBE-990A-49D8-9C31-18DFFE92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C74-6EC9-4E22-96A9-37F965F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1AFDB-86A7-4FD9-9858-F6C4A55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F3086-104D-4D56-9AA3-C3C7922F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D8FFF-9614-4491-973A-B5CB280D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A1515-60AD-468E-A1E0-EB857A5C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F350A-064A-45A8-A4D6-6F69A148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0CC17-8557-4913-ABF2-45E3F9E5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0161C-C719-4E88-B9C8-A0CA7BCF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63B01-7762-4DA6-8FB5-26B622A4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5CA59-CA76-4370-B816-88B0BA6D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FE344-3730-490E-A7DE-77A7E263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241-5392-4E4C-A02B-2A813561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3AE85-8DCF-4DCB-B201-A62F75B9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7C3C0-955D-41C0-9D96-34DC2E3D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30591-9811-4D0A-925F-FD448019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7D516-1308-44F3-B5B7-7D6A13F2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C1462-C923-4BBE-9AF0-CE7EABA6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ABCED-26B9-419D-94D4-E784DB58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8D1A0-B71D-481A-B093-E4F94990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87C89-FF3F-47FD-8DEB-031AE1C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2EE7B-3283-4532-A752-22BD2FB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618F-0968-4161-91E9-F75C570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9537-E3AC-46C2-9493-849338F4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176E2-B339-43A0-BBE0-53E01462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80C81-E57C-4B1E-9DA5-E53219DE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1ACEA-8B8B-4F2B-9F21-72EB9DF9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35DD-90AE-4AD7-B5D3-6316F0F5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88A-902A-4731-A094-7A07D2FE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856B-4B91-4999-97C8-2573901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A691-BD0C-4910-BB45-51765355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582A-EF9F-47A5-8B18-6A47BEB5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2054-F346-4768-8B03-F359069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373-1571-4476-A67E-B78AA8EE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0C7-FE8F-4277-84EE-74503B39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5EBA-226F-4201-9F57-F97EA34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B177-691C-49E6-9014-5D4E75D1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2B49-B052-48D5-8EDE-A4D1EF0C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921D-3A89-4677-81A8-B2052A10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FDF1-3E4E-4548-8752-3CC1C494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F1BE-4E2C-4847-920F-A0403B46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3815-9034-4A56-AE28-C899DF90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B947-84A4-4A2A-A6AB-AD88501A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CED0-063B-4043-89A5-BA0F68F2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0CF-B8AA-460D-A292-0735C187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D02D-15C5-4508-AC01-BA27C5E5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8A59-048B-4719-8EC3-1DAE980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BEC5-2AA1-4B03-9A55-CF8A069E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5623-F458-4EB8-A465-2594D06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2CD7-CE0D-4359-AB91-E304EC6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23CD-7B2A-4F97-97EF-BEB157CC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6606-ED57-458C-8F1E-33551C60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F3A3-AB29-42F6-8D4E-15436517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D65FD-A060-4651-A626-78EA9521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609E-8FB9-4FA5-A589-AA11AE5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20E-2CD4-4B8A-818A-A808B86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DAEC-7F5B-418B-AC65-7791F85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E781-4CA4-4C56-BC92-C2311282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3187-4414-4866-97D8-049D929E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A21F-0846-40A0-9346-4FEE86D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8512-9746-4AD2-9E50-BA246FCD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E4E97-C036-443F-A4BF-A833142B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49E5-E22A-48C2-93F0-C031E151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14F6-2034-48C2-9928-273A0E1E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4C44-7093-4F65-A4FD-71AC8B2F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E75E-1927-41DC-A739-F467F11B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780-BA08-4B58-957E-31923084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7F5E-7BB7-484A-AC3B-14BE8CE8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F5F0E-3664-426B-822C-3C7B1637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3F85-1381-4C25-880D-D66E81D5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FBD1-ABB3-48DA-AC88-B407F8A0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87CA9-36ED-44AB-BFB5-62C4F97C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1698-60B0-4A1C-9182-A98FFE50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77A5-1BC4-4016-AC9B-E60015F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B77A-D8E2-4F28-BD01-4BE6EF1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B3AD-8CAC-4610-A4DB-9715BD30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F82E-36A2-4848-9B02-0725705C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BBE-D79A-49A1-8FE9-C43A2CE7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B019-3D42-437D-BF1B-FABB79C3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3180-B71E-4E2D-A3B4-51DEAF04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C2F82-E457-4A63-8F33-5D821405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BBD8-4D96-46A8-A016-245781EE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12812-8B4B-400A-A495-1D01AD5A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67109-2599-4547-98BF-3DEB2DCF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C4BC9-5EF4-4CBD-8D1D-7F9A2353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29B93-541D-4461-9110-3A247C63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8043D-282D-492C-8753-BDB7585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B4598-4B68-4B12-9D25-15A5F6A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383-CE6B-4733-944A-39E3E57B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E51EB-2ACE-477C-B402-FEC1CFBD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DD045-EF4E-492C-AF44-BB667668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A4739-37D6-43F6-9BA4-812FE4EE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31E78-F32F-43EE-A646-3D4A4A69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115BB-D9E0-4912-B21E-6BE2829B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E35DD-31D0-4704-A521-DE77C202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06785-B427-41FB-9E52-117FE609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E59E1-0B0B-4A73-9FD9-71381ECA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70913-4F73-4B95-95FA-A63868A8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2733B-BDA6-47CB-B1F5-57208AF8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55E-E1E6-491B-A8CF-BF100B3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494A7-A7F0-44F2-BB8A-0133399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6FD2F-6E51-44DD-A4E8-47C7A05A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D834A-71D3-4045-9F8E-FA2149D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05FE0-9F81-48F7-9A09-18B6DC28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3B299-6914-4A1B-8BA3-5A161B7C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25D19-3A86-4209-AF25-0E9D0FE0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2F58D-09A4-4269-BF7F-7A04A632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985A8-E776-40DE-9CFD-7AE6AA2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CD37C-19F6-4991-A151-4A69F632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8D2F-C5CF-4065-9ECE-04979FCE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160-11BF-4E0A-BD02-5B8D2E3B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1FCBB-4112-4EC8-94CF-0F17528F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4D726-7D25-42D0-AE74-3AE7A17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8B680-BFEB-4333-B3B4-F6EABE3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813CF-9579-4A38-A113-0EB6D99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2D4A4-015C-489B-9E38-8C22471A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44CC1-3964-4893-8D7B-8ED4224E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66EE2-2006-41D2-B80E-BA09FBE7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99CD3-AE3B-4FCA-99B3-8EB6B5F0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2A7A5-4AA6-46CD-8400-F2986D7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58A05-0552-463E-9D44-F6568911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ED1D-B6ED-42B0-8BFA-D1344C27D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A4DB-6467-4648-974E-D4E5DC64B99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56E3-63AF-4C6F-AB70-FBD540AF1D3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6B55-47D2-4D79-A9D2-2B889D4AB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C1F-8D1A-4391-AFDB-06F355D0DF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E65A-76FA-41D9-BDF6-4F3B8C93C4A6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8844-4E49-43C5-B08E-6D1A7E2F35CE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0701-B507-43F6-AF12-74C9DFB18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2555-5E3C-4533-BADF-03F3A01A1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8DC5-15EE-4C64-AC0B-3D7B9895FF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2F75-FC7C-421B-AC06-CFFF20B79EC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audio" Target="../media/MTO_014.WAV"/><Relationship Id="rId5" Type="http://schemas.openxmlformats.org/officeDocument/2006/relationships/slideLayout" Target="../slideLayouts/slideLayout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TC_032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audio" Target="../media/MTP_040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2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7.xml"/><Relationship Id="rId9" Type="http://schemas.openxmlformats.org/officeDocument/2006/relationships/image" Target="../media/image18.gif"/><Relationship Id="rId10" Type="http://schemas.openxmlformats.org/officeDocument/2006/relationships/slide" Target="slide8.xml"/><Relationship Id="rId11" Type="http://schemas.openxmlformats.org/officeDocument/2006/relationships/image" Target="../media/image19.gif"/><Relationship Id="rId12" Type="http://schemas.openxmlformats.org/officeDocument/2006/relationships/slide" Target="slide9.xml"/><Relationship Id="rId13" Type="http://schemas.openxmlformats.org/officeDocument/2006/relationships/image" Target="../media/image20.gif"/><Relationship Id="rId14" Type="http://schemas.openxmlformats.org/officeDocument/2006/relationships/slide" Target="slide10.xml"/><Relationship Id="rId15" Type="http://schemas.openxmlformats.org/officeDocument/2006/relationships/image" Target="../media/image21.gif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" Target="slide6.xml"/><Relationship Id="rId4" Type="http://schemas.openxmlformats.org/officeDocument/2006/relationships/image" Target="../media/image23.gif"/><Relationship Id="rId5" Type="http://schemas.openxmlformats.org/officeDocument/2006/relationships/audio" Target="../media/MTO_008.WAV"/><Relationship Id="rId6" Type="http://schemas.openxmlformats.org/officeDocument/2006/relationships/audio" Target="../media/MTO_008.WAV"/><Relationship Id="rId7" Type="http://schemas.openxmlformats.org/officeDocument/2006/relationships/audio" Target="../media/MTO_008.WAV"/><Relationship Id="rId8" Type="http://schemas.openxmlformats.org/officeDocument/2006/relationships/audio" Target="../media/MTO_008.WAV"/><Relationship Id="rId9" Type="http://schemas.openxmlformats.org/officeDocument/2006/relationships/audio" Target="../media/MTO_008.WAV"/><Relationship Id="rId10" Type="http://schemas.openxmlformats.org/officeDocument/2006/relationships/audio" Target="../media/MTO_008.WAV"/><Relationship Id="rId11" Type="http://schemas.openxmlformats.org/officeDocument/2006/relationships/audio" Target="../media/MTO_008.WAV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image" Target="../media/image23.gif"/><Relationship Id="rId4" Type="http://schemas.openxmlformats.org/officeDocument/2006/relationships/audio" Target="../media/MTO_008.WAV"/><Relationship Id="rId5" Type="http://schemas.openxmlformats.org/officeDocument/2006/relationships/audio" Target="../media/MTO_008.WAV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 rot="21240000">
            <a:off x="761760" y="2274840"/>
            <a:ext cx="7272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ranti Solid LET"/>
              </a:rPr>
              <a:t>Nice to meet you!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ranti Solid LET"/>
              <a:ea typeface="Tiranti Solid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0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527640" cy="44654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292360" y="1628280"/>
            <a:ext cx="222084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2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974.2.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5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5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1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30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70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4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32000" y="476280"/>
            <a:ext cx="57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 </a:t>
            </a:r>
            <a:r>
              <a:rPr b="1" i="1" lang="en-US" sz="4000" spc="1" strike="noStrike">
                <a:ln cap="rnd"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 LET"/>
              </a:rPr>
              <a:t>Listen and think</a:t>
            </a:r>
            <a:endParaRPr b="1" i="1" lang="en-US" sz="4000" spc="1" strike="noStrike">
              <a:ln cap="rnd"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119700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Highlight LET"/>
                <a:ea typeface="GungsuhChe"/>
              </a:rPr>
              <a:t>What </a:t>
            </a:r>
            <a:r>
              <a:rPr b="1" lang="en-US" sz="6000" spc="-1" strike="noStrike">
                <a:solidFill>
                  <a:srgbClr val="cc3300"/>
                </a:solidFill>
                <a:latin typeface="Highlight LET"/>
              </a:rPr>
              <a:t>happened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2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974.2.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5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1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0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70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874800" cy="10814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959120" y="1503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92200" y="1494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35000" y="112536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o the Capital Build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69760" y="438120"/>
            <a:ext cx="71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Highlight LET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58600" y="1628640"/>
            <a:ext cx="64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220 people were killed in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35640" y="242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11640" y="2565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25480" y="213372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happened on Feb. 4th, 197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6040" y="2708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ital Building had 25 flo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86600" y="3213000"/>
            <a:ext cx="68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 500 people were working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88400" y="3716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broke out on the 11th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89840" y="42210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han 300 people were trapped by the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16760" y="47242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out 70 people escaped  in the  helicop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45480" y="53006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fire lasted about four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752472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6732720" y="5373720"/>
            <a:ext cx="730080" cy="720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8244000" y="5373720"/>
            <a:ext cx="7300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760" y="33336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February 4th, 1974, the Capital Building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est building in Sao Paulo, was destroyed in a big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haps the fire was started by an electrical fire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 of one office o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. Soon the whol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ire. Ther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loors in the building. As it had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scapes, the 300 people who were trapp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e could not escape. Many of them climbed to the f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the building. The helicopters came, but there wa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vy smoke that the helicopters were no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 enough. Finally, about 70 people were_______ .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the streets, the firemen could not get close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ecause crowds of people we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f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hey reached the building they found their lad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e not lo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reach the peop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were trapp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terrible fire last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our hours, and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st of the building an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220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17080" y="5734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781440" y="5372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57080" y="5012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97080" y="5012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28360" y="42915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w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200" y="4291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519600" y="35733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05800" y="321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461800" y="28515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0000" y="28515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ro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09440" y="213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in/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080" y="21326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94160" y="1772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84360" y="177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86520" y="14119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11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1280" y="1340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332000" y="333360"/>
            <a:ext cx="540072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 </a:t>
            </a:r>
            <a:r>
              <a:rPr b="1" i="1" lang="en-US" sz="5400" spc="1" strike="noStrike">
                <a:ln cap="rnd" w="9360">
                  <a:solidFill>
                    <a:srgbClr val="3333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Orange LET"/>
              </a:rPr>
              <a:t>Let's talk</a:t>
            </a:r>
            <a:endParaRPr b="1" i="1" lang="en-US" sz="5400" spc="1" strike="noStrike">
              <a:ln cap="rnd" w="9360">
                <a:solidFill>
                  <a:srgbClr val="3333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Orange LET"/>
              <a:ea typeface="Orange LET"/>
            </a:endParaRPr>
          </a:p>
        </p:txBody>
      </p:sp>
      <p:sp>
        <p:nvSpPr>
          <p:cNvPr id="590" name=""/>
          <p:cNvSpPr/>
          <p:nvPr/>
        </p:nvSpPr>
        <p:spPr>
          <a:xfrm>
            <a:off x="574560" y="1773360"/>
            <a:ext cx="76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800000"/>
                </a:solidFill>
                <a:latin typeface="Trebuchet MS"/>
              </a:rPr>
              <a:t>What do you think of Sao Paulo F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7320" y="2565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2. Would you like to be in such a fi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f not, what should we do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4320" y="393372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3. If a fire broke out in your h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what shoul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324000" y="4797360"/>
            <a:ext cx="3887640" cy="15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P_04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5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41080" y="620640"/>
            <a:ext cx="827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Knowing what to do in case of fire is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mportant. If a fire broke out in your home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at would you do? First, you should war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everyone in the house about the danger. Don’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be too afraid and start crying. Be calm and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act fast. Second, you and all the others shou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get out of the house. Don’t stop to take belong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ings  with you. Once you are out of the house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stay out. Do not go back for any reason. Fin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when you are out of the house, call the fire-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fighters. Don’t try to put out the fire yourself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That can be very dangerous.</a:t>
            </a:r>
            <a:r>
              <a:rPr b="1" i="1" lang="zh-CN" sz="2800" spc="-1" strike="noStrike">
                <a:solidFill>
                  <a:srgbClr val="a9bda9"/>
                </a:solidFill>
                <a:latin typeface="Comic Sans MS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565280" cy="1897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633760" y="404640"/>
            <a:ext cx="32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 Black"/>
                <a:ea typeface="GungsuhChe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173480" y="746280"/>
            <a:ext cx="8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8600" y="1989000"/>
            <a:ext cx="79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.Two hundred and twenty were kill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Sao Paulo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8240" y="1988280"/>
            <a:ext cx="73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2.The building was not finishe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he fire broke out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9680" y="1987920"/>
            <a:ext cx="862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3. All the offices were completely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except  those below the 11th floor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5320" y="192708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4. Only the firemen knew how the f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had started.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4600" y="198828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5. At first, it was possible for the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orkers to put out the fire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4960" y="1988280"/>
            <a:ext cx="801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6. Below the 11th floor people wer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o escape into the stree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6600" y="2059560"/>
            <a:ext cx="88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7. The people above the 11th floor w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trapped because there were no fire escape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1880" y="1927080"/>
            <a:ext cx="817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8. It was difficult for the firefighters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close to the building because the sm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rom the fire was too thick.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3680" y="2059560"/>
            <a:ext cx="78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10. Four hours after the fire started,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firemen still couldn’t control it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0600" y="1987920"/>
            <a:ext cx="810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9. The  ladders the firefighters had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with  them were not long enoug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8" dur="1" fill="hold"/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0328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26920" y="177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Match the words and meanings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8472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-674640" y="2637000"/>
            <a:ext cx="407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1. 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2. resc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3. roof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4. firefi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5. esc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6. lose one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7. belong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8.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124800" y="4075560"/>
            <a:ext cx="63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E. a person whose work is to put out fir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98520" y="371520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D. di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3356640"/>
            <a:ext cx="56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. the inside top of a house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30920" y="2996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B. to get away from a dangerou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25520" y="263592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A. the top of the outside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31280" y="450864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F. to make sb. safe from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135960" y="522936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H. the things that belong to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50920" y="2924280"/>
            <a:ext cx="1152720" cy="6490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50920" y="3284640"/>
            <a:ext cx="1152720" cy="1439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692360" y="2852280"/>
            <a:ext cx="151128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40000" y="4005360"/>
            <a:ext cx="93672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124000" y="3284640"/>
            <a:ext cx="1079640" cy="1009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987640" y="4005000"/>
            <a:ext cx="216000" cy="718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56000" y="5084640"/>
            <a:ext cx="64764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0920" y="48690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268360" y="5084280"/>
            <a:ext cx="935280" cy="360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352880" y="765000"/>
            <a:ext cx="312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Comic Sans MS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19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280" y="1125360"/>
            <a:ext cx="6480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      </a:t>
            </a: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rans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the following phrases into English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30760" y="2852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着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17200" y="2852640"/>
            <a:ext cx="33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关煤气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当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71760" y="3519360"/>
            <a:ext cx="56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不要紧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要是那样的话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扑灭</a:t>
            </a:r>
            <a:r>
              <a:rPr b="1" i="1" lang="zh-CN" sz="2400" spc="-1" strike="noStrike">
                <a:solidFill>
                  <a:srgbClr val="66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99320" y="4221000"/>
            <a:ext cx="63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7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属于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8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牺牲                   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9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靠近火</a:t>
            </a:r>
            <a:r>
              <a:rPr b="1" i="1" lang="zh-CN" sz="2400" spc="-1" strike="noStrike">
                <a:solidFill>
                  <a:srgbClr val="001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88200" y="486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10. </a:t>
            </a:r>
            <a:r>
              <a:rPr b="1" lang="zh-CN" sz="2400" spc="-1" strike="noStrike">
                <a:solidFill>
                  <a:srgbClr val="001000"/>
                </a:solidFill>
                <a:latin typeface="Arial"/>
              </a:rPr>
              <a:t>火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657440" y="6397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11280" y="0"/>
            <a:ext cx="511308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cap="rnd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Writing</a:t>
            </a:r>
            <a:endParaRPr b="1" i="1" lang="en-US" sz="4400" spc="1" strike="noStrike">
              <a:ln cap="rnd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9" name=""/>
          <p:cNvSpPr/>
          <p:nvPr/>
        </p:nvSpPr>
        <p:spPr>
          <a:xfrm>
            <a:off x="868320" y="1457280"/>
            <a:ext cx="70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rite a few sentences abou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big fire in Sao Paulo with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a009a"/>
                </a:solidFill>
                <a:latin typeface="Arial"/>
              </a:rPr>
              <a:t>words given to you:</a:t>
            </a:r>
            <a:r>
              <a:rPr b="1" lang="en-US" sz="3200" spc="-1" strike="noStrike">
                <a:solidFill>
                  <a:srgbClr val="320032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29560" y="310212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catch fire;   destr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98800" y="309420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tra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63360" y="3741840"/>
            <a:ext cx="27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heavy smo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02040" y="37418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l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10360" y="37418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resc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62360" y="438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firefigh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5680" y="4365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0032"/>
                </a:solidFill>
                <a:latin typeface="Comic Sans MS"/>
              </a:rPr>
              <a:t>put out</a:t>
            </a:r>
            <a:r>
              <a:rPr b="1" i="1" lang="en-US" sz="2800" spc="-1" strike="noStrike">
                <a:solidFill>
                  <a:srgbClr val="32003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 rot="20820000">
            <a:off x="3354120" y="4707000"/>
            <a:ext cx="47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00cc"/>
                </a:solidFill>
                <a:latin typeface="Tiranti Solid LET"/>
                <a:ea typeface="方正舒体"/>
              </a:rPr>
              <a:t>Home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39220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-150840" y="476280"/>
            <a:ext cx="93488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根据下面资料完成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字左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火灾报告</a:t>
            </a:r>
            <a:r>
              <a:rPr b="1" lang="zh-CN" sz="36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5856"/>
                </a:solidFill>
                <a:latin typeface="Arial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地点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华北某市一大礼堂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(hall)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事故经过</a:t>
            </a: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585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千名师生在礼堂开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因礼堂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起火造成火灾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人多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难以控制火情。大火持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约两个小时，整个礼堂遭焚毁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2d"/>
                </a:solidFill>
                <a:latin typeface="Arial"/>
              </a:rPr>
              <a:t>伤亡情况：</a:t>
            </a:r>
            <a:r>
              <a:rPr b="1" lang="zh-CN" sz="3200" spc="-1" strike="noStrike">
                <a:solidFill>
                  <a:srgbClr val="00585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六十多人在火灾中丧生，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096"/>
                </a:solidFill>
                <a:latin typeface="Arial"/>
              </a:rPr>
              <a:t>一百多人受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651640" y="1557360"/>
            <a:ext cx="1152360" cy="144360"/>
          </a:xfrm>
          <a:custGeom>
            <a:avLst/>
            <a:gdLst>
              <a:gd name="textAreaLeft" fmla="*/ 384120 w 1152360"/>
              <a:gd name="textAreaRight" fmla="*/ 987120 w 1152360"/>
              <a:gd name="textAreaTop" fmla="*/ 83160 h 144360"/>
              <a:gd name="textAreaBottom" fmla="*/ 12384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907920"/>
            <a:ext cx="976320" cy="144720"/>
          </a:xfrm>
          <a:custGeom>
            <a:avLst/>
            <a:gdLst>
              <a:gd name="textAreaLeft" fmla="*/ 0 w 976320"/>
              <a:gd name="textAreaRight" fmla="*/ 976680 w 9763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25520" y="62064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taneo BT"/>
                <a:ea typeface="바탕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9080" y="14842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taneo BT"/>
              </a:rPr>
              <a:t>ce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947960" y="191628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Milano LET"/>
              </a:rPr>
              <a:t>Good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56720" y="3216240"/>
            <a:ext cx="57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Thanks 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ilano LET"/>
              </a:rPr>
              <a:t>your attend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8" repeatCount="indefinite">
                                  <p:stCondLst>
                                    <p:cond delay="6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232019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58920" y="404640"/>
            <a:ext cx="32385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Lesson 62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1332000" y="2492280"/>
            <a:ext cx="604836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icrosoft Sans Serif"/>
              </a:rPr>
              <a:t>Sao Paulo Fire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a4e00"/>
                </a:solidFill>
                <a:latin typeface="Arial"/>
              </a:rPr>
              <a:t>Aims and dem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1. To know harm of fire to peop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are able to describe it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2. To know the importance of prev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. Vocabul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4 skills: completely, belong, belong to,       ceiling, put out, control, flat, roof, firefigh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close, get close to ,lose one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3 skills: escape, fire e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55640" y="620640"/>
            <a:ext cx="784872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loors of the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start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e laste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son for the fi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destroy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k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_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re also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743280" cy="9367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859280" y="189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Sao Paulo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94880" y="6922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ebruary 4th,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03480" y="1289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Capital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77280" y="186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0920" y="2513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11th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72720" y="3141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or 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80360" y="3645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No one kn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05200" y="47973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All 25 floors of the building                                    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60000" y="5445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More than 22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68400" y="602136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ars belonging to the people working 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4968720" cy="6524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 rot="21275400">
            <a:off x="4788000" y="0"/>
            <a:ext cx="2327040" cy="1844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6659640" y="0"/>
            <a:ext cx="2303280" cy="1341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347200" y="404640"/>
            <a:ext cx="52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38200" y="441360"/>
            <a:ext cx="719280" cy="7192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71640" y="4437000"/>
            <a:ext cx="3457440" cy="43200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       11th         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71640" y="2421000"/>
            <a:ext cx="3456000" cy="43164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       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1403280" y="486900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1403280" y="2852640"/>
            <a:ext cx="2592360" cy="15843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221080" y="429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349360"/>
            <a:ext cx="718920" cy="935280"/>
          </a:xfrm>
          <a:custGeom>
            <a:avLst/>
            <a:gdLst>
              <a:gd name="textAreaLeft" fmla="*/ 125640 w 718920"/>
              <a:gd name="textAreaRight" fmla="*/ 521280 w 71892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56360" y="2276640"/>
            <a:ext cx="23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227640" y="1773360"/>
            <a:ext cx="2160720" cy="57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0360" y="206064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Helico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88000" y="2276640"/>
            <a:ext cx="158436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0360" y="3141720"/>
            <a:ext cx="259236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12000" y="4437000"/>
            <a:ext cx="2520720" cy="720720"/>
          </a:xfrm>
          <a:prstGeom prst="ellipse">
            <a:avLst/>
          </a:prstGeom>
          <a:solidFill>
            <a:srgbClr val="e1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irefigh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84720" y="3357720"/>
            <a:ext cx="209880" cy="209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6230520" y="321300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84720" y="234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56360" y="472428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740720" y="5734080"/>
            <a:ext cx="8636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e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190600" cy="2190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549360"/>
            <a:ext cx="6266160" cy="4678200"/>
          </a:xfrm>
          <a:prstGeom prst="wedgeRoundRectCallout">
            <a:avLst>
              <a:gd name="adj1" fmla="val 49569"/>
              <a:gd name="adj2" fmla="val 61467"/>
              <a:gd name="adj3" fmla="val 16667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63640" y="119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00000" y="836640"/>
            <a:ext cx="6224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low the 11th floor people   were able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eet. However, more than 300 people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bove the fire. The building had no 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t all! They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climb up to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e building.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87640" y="126828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 in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2520" y="22766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were   trappe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87640" y="32130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fire  esc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6237360"/>
            <a:ext cx="216000" cy="172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789080" y="37893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flat    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71640" y="1773360"/>
            <a:ext cx="7704000" cy="4248000"/>
          </a:xfrm>
          <a:prstGeom prst="wedgeRectCallout">
            <a:avLst>
              <a:gd name="adj1" fmla="val -42458"/>
              <a:gd name="adj2" fmla="val -62143"/>
            </a:avLst>
          </a:prstGeom>
          <a:solidFill>
            <a:srgbClr val="ffcc99"/>
          </a:solidFill>
          <a:ln w="63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49960" cy="40482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7120" y="1720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042920" y="2205000"/>
            <a:ext cx="755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were sent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but the smoke  was t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avy for us to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we couldn’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enough to the building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hours later. At last, we hel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0 peopl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34880" y="227664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02880" y="27082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14160" y="3141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0640" y="31813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78880" y="37162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93800" y="4221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54520" y="4581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scap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734080"/>
            <a:ext cx="21564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24000" y="836640"/>
            <a:ext cx="7200720" cy="3887640"/>
          </a:xfrm>
          <a:prstGeom prst="wedgeEllipseCallout">
            <a:avLst>
              <a:gd name="adj1" fmla="val 35495"/>
              <a:gd name="adj2" fmla="val 70662"/>
            </a:avLst>
          </a:prstGeom>
          <a:solidFill>
            <a:srgbClr val="ffcc99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4800" y="1341360"/>
            <a:ext cx="731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ny people were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fire in the stree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couldn’t get close to the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so, our ladders were no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ough to _____ the people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 tr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11840" y="1432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05800" y="1844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so  th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4160" y="33577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5157720"/>
            <a:ext cx="216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4:35:23Z</dcterms:created>
  <dc:creator>young</dc:creator>
  <dc:description/>
  <dc:language>en-US</dc:language>
  <cp:lastModifiedBy>young</cp:lastModifiedBy>
  <dcterms:modified xsi:type="dcterms:W3CDTF">2002-03-06T12:45:21Z</dcterms:modified>
  <cp:revision>23</cp:revision>
  <dc:subject/>
  <dc:title>幻灯片 1</dc:title>
</cp:coreProperties>
</file>