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4E1-D05D-4D5A-B9E0-300172E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F29-6920-438E-8764-99F77963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2E8-6256-4A7C-8388-ECC3B665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FB7-95C2-4CF3-B366-47C76816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8FD-2061-4703-95E0-FA75BE42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C85-1B66-4439-86D5-BE4FB2F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DAD-00A2-4818-A6DA-90A14876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C8C-6C99-44B6-922F-49C388BC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83D-7E92-4C5D-9B47-86855D08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63F-8542-42F4-AE96-0574219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770-A71F-47A4-8846-22905952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ED1-1A9C-425E-AE8B-5EA160C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9F12-2CF5-4299-9534-923F73E863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无标题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428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vvv" descr=""/>
          <p:cNvPicPr/>
          <p:nvPr/>
        </p:nvPicPr>
        <p:blipFill>
          <a:blip r:embed="rId2"/>
          <a:stretch/>
        </p:blipFill>
        <p:spPr>
          <a:xfrm>
            <a:off x="1676520" y="-304920"/>
            <a:ext cx="4754520" cy="3840120"/>
          </a:xfrm>
          <a:prstGeom prst="rect">
            <a:avLst/>
          </a:prstGeom>
          <a:ln w="0">
            <a:noFill/>
          </a:ln>
        </p:spPr>
      </p:pic>
      <p:pic>
        <p:nvPicPr>
          <p:cNvPr id="43" name="ppp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0960" y="61149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hiller"/>
              </a:rPr>
              <a:t>By Tian Fengch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未命名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13960" y="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566400">
            <a:off x="1981080" y="5943600"/>
            <a:ext cx="62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Verdana"/>
                <a:ea typeface="PMingLiU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21193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990720" y="5335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Listen to the passage to find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swers to thes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160" y="23623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1.What scientific work is Einstein famous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0920" y="426708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2.Where did he spend the last part of his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480" y="33526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Scientific research/new discoveries in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00" y="50292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At a university in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3960" y="38088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ails about 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880" y="933480"/>
            <a:ext cx="647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o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or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ctor’s deg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ientific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he got for his new discov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ved to the 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9480" y="1066680"/>
            <a:ext cx="42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Much 14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879;i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912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April 18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955;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480" y="1981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6080" y="243828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First as a teacher,then in a govern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7480" y="2971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35053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tween 1905and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392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2160" y="4384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orldwide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0" y="537516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33 with hi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2936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University of Zu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4880" y="1981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Federal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lbert2" descr=""/>
          <p:cNvPicPr/>
          <p:nvPr/>
        </p:nvPicPr>
        <p:blipFill>
          <a:blip r:embed="rId1"/>
          <a:stretch/>
        </p:blipFill>
        <p:spPr>
          <a:xfrm>
            <a:off x="7350120" y="5334120"/>
            <a:ext cx="158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5640" y="84240"/>
            <a:ext cx="43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</a:rPr>
              <a:t>True or false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080" y="5745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Albert Einstein was curious about everything around him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 was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He had learned everything all by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4320" y="2022480"/>
            <a:ext cx="81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He did not like to go to school and he found it hard to ge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7200" y="2936880"/>
            <a:ext cx="78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The period between 1905 and 1915 was a very importa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for he received higher education at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760" y="38512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5.Einstein cared little for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8280" y="43848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6.Once somebody saw him using a bank note as a book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000" y="4800600"/>
            <a:ext cx="79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7.Einstein also spent a lit of time working for human righ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760" y="56386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.Einstein loved music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804600">
            <a:off x="533160" y="5331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04600">
            <a:off x="609120" y="1980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804600">
            <a:off x="609120" y="380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804600">
            <a:off x="609120" y="472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04600">
            <a:off x="609120" y="563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4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440" y="28954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544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5376960"/>
          <a:ext cx="190512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76960"/>
                    <a:ext cx="19051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89120" y="3049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ine0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85748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4600" y="1960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b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50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1295280"/>
              <a:gd name="textAreaBottom" fmla="*/ 1273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2"/>
                  <a:pt x="10800" y="1163"/>
                </a:cubicBezTo>
                <a:lnTo>
                  <a:pt x="10800" y="10275"/>
                </a:lnTo>
                <a:cubicBezTo>
                  <a:pt x="10800" y="10857"/>
                  <a:pt x="5400" y="11438"/>
                  <a:pt x="0" y="11438"/>
                </a:cubicBezTo>
                <a:cubicBezTo>
                  <a:pt x="5400" y="11438"/>
                  <a:pt x="10800" y="12020"/>
                  <a:pt x="10800" y="12601"/>
                </a:cubicBezTo>
                <a:lnTo>
                  <a:pt x="10800" y="20437"/>
                </a:lnTo>
                <a:cubicBezTo>
                  <a:pt x="10800" y="21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4680" y="129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do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高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甘心做…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1800" y="241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th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对…感到满足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165564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e is content to live in the country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3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om is content to eat simpl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281952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o one is content with what he 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32004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Don’t be content with small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" y="36370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f. John 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conten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himself with two glasses of beer for each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680" y="482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551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1440" y="436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通，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4320" y="52783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导致某种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3280" y="48211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l roads lead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69320" y="558324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accident led to three d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0680" y="59641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ard work leads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ZW_008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6160" y="8031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live a…life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过着…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0320" y="12603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peasants in the past lived a har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0480" y="17524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Poor Tom lives a dog’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6320" y="225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2743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Liu Hulan died a heroic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840" y="3124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he dreamt a sound d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5960" y="365760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uc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位于句首，表示“这”或“这些”时，谓语动词要倒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720" y="4308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is my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484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as the situation we were f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4514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ere his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5960" y="6019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are the results we have g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23" descr=""/>
          <p:cNvPicPr/>
          <p:nvPr/>
        </p:nvPicPr>
        <p:blipFill>
          <a:blip r:embed="rId1"/>
          <a:stretch/>
        </p:blipFill>
        <p:spPr>
          <a:xfrm>
            <a:off x="1752480" y="430200"/>
            <a:ext cx="6019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1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ooo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34:19Z</dcterms:created>
  <dc:creator>Terence</dc:creator>
  <dc:description/>
  <dc:language>en-US</dc:language>
  <cp:lastModifiedBy>Terence</cp:lastModifiedBy>
  <dcterms:modified xsi:type="dcterms:W3CDTF">2002-03-01T16:48:23Z</dcterms:modified>
  <cp:revision>20</cp:revision>
  <dc:subject/>
  <dc:title>PowerPoint 演示文稿</dc:title>
</cp:coreProperties>
</file>