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B69C-A29F-46C5-B617-C9AA9124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63B0-32FC-4691-B7A7-D39BFDBD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37CB-9432-4B3D-9973-2DDABF7B1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51D5-A514-4724-9C0D-9D58B8890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F808-DEA8-49FD-B8A2-68B7815A9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9917-A758-471D-99E1-57A5D544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29B2-3B13-444D-98FE-2FA309A1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D7C6-F9C6-4AAB-9D36-3A7B172A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A6C8-7620-4900-8241-9D48E513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5799-E610-4166-A130-9AA777B7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4320-858D-428F-BB64-6F3AEFA1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E6C5-A7B6-4E0B-ABD7-5D08FA28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39D1-FCD0-454E-8FE5-342670AB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4CE4-6346-41F9-9516-6AABBED1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1929-DF55-4A8D-8765-253D6C34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A558-EF80-4CA7-96CE-3E3C2FDC0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C84C-D0C4-4BEF-8666-678FC16C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C658-FD22-4A79-A3E6-271C2344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A6A4-F30C-4D45-B975-9A4D741D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58B8-5B40-4FBC-9841-12D3B7D3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DDAE-717B-4644-B8F1-1E0C6D20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006D-B3F9-402D-B39D-42DEDF6E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63F0-EA33-4D46-90B2-FA55FE1F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7BB5-1211-4603-B54D-1FD98CAD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45A3-9E85-4B20-83AB-99F439083EE2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B4E3-EDC1-4B7D-A570-BA1FA834DE40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healthy.net/asp/Ads.asp?Ad=821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afetyprograms.org/images/FA-462.gif&amp;imgrefurl=http://www.safetyprograms.org/fasurvival.html&amp;h=318&amp;w=400&amp;sz=30&amp;tbnid=Kv61i2HDp00J:&amp;tbnh=95&amp;tbnw=119&amp;start=150&amp;prev=/images%3Fq%3Dfirst%2Baid%26start%3D140%26hl%3Dzh-CN%26lr%3D%26ie%3DUTF-8%26sa%3D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bc.co.uk/health/images/medicine_kids.jpg&amp;imgrefurl=http://www.bbc.co.uk/health/features/medicine_cabinet.shtml&amp;h=248&amp;w=183&amp;sz=21&amp;tbnid=9MB8TxHcZuUJ:&amp;tbnh=105&amp;tbnw=78&amp;start=8&amp;prev=/images%3Fq%3Dfirst%2Baid%26hl%3Dzh-CN%26lr%3D%26ie%3DUTF-8%26sa%3D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jwrworkings.com/first%2520aid%25202.jpg&amp;imgrefurl=http://www.jwrworkings.com/minerescue.html&amp;h=444&amp;w=576&amp;sz=25&amp;tbnid=blPHrDl0EWkJ:&amp;tbnh=101&amp;tbnw=131&amp;start=5&amp;prev=/images%3Fq%3Dfirst%2Baid%26hl%3Dzh-CN%26lr%3D%26ie%3DUTF-8%26sa%3D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www.bbc.co.uk/health/images/medicine_kids.jpg&amp;imgrefurl=http://www.bbc.co.uk/health/features/medicine_cabinet.shtml&amp;h=248&amp;w=183&amp;sz=21&amp;tbnid=9MB8TxHcZuUJ:&amp;tbnh=105&amp;tbnw=78&amp;start=8&amp;prev=/images%3Fq%3Dfirst%2Baid%26hl%3Dzh-CN%26lr%3D%26ie%3DUTF-8%26sa%3D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533160"/>
            <a:ext cx="6096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omic Sans MS"/>
              </a:rPr>
              <a:t>DEALING WITH COMMON INJURIE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9" name="First%20Aid%20CD" descr=""/>
          <p:cNvPicPr/>
          <p:nvPr/>
        </p:nvPicPr>
        <p:blipFill>
          <a:blip r:embed="rId1"/>
          <a:srcRect l="19904" t="19067" r="7909" b="32039"/>
          <a:stretch/>
        </p:blipFill>
        <p:spPr>
          <a:xfrm>
            <a:off x="2514600" y="1905120"/>
            <a:ext cx="5257800" cy="4343400"/>
          </a:xfrm>
          <a:prstGeom prst="rect">
            <a:avLst/>
          </a:prstGeom>
          <a:ln w="0">
            <a:noFill/>
          </a:ln>
        </p:spPr>
      </p:pic>
      <p:pic>
        <p:nvPicPr>
          <p:cNvPr id="210" name="PH_Lark_120x600" descr="Susan">
            <a:hlinkClick r:id="rId2"/>
          </p:cNvPr>
          <p:cNvPicPr/>
          <p:nvPr/>
        </p:nvPicPr>
        <p:blipFill>
          <a:blip r:embed="rId3"/>
          <a:srcRect l="0" t="0" r="0" b="75559"/>
          <a:stretch/>
        </p:blipFill>
        <p:spPr>
          <a:xfrm>
            <a:off x="228600" y="228600"/>
            <a:ext cx="1933560" cy="2362320"/>
          </a:xfrm>
          <a:prstGeom prst="rect">
            <a:avLst/>
          </a:prstGeom>
          <a:ln w="0">
            <a:noFill/>
          </a:ln>
        </p:spPr>
      </p:pic>
      <p:pic>
        <p:nvPicPr>
          <p:cNvPr id="211" name="53010Ml" descr=""/>
          <p:cNvPicPr/>
          <p:nvPr/>
        </p:nvPicPr>
        <p:blipFill>
          <a:blip r:embed="rId4"/>
          <a:stretch/>
        </p:blipFill>
        <p:spPr>
          <a:xfrm>
            <a:off x="5029200" y="1981080"/>
            <a:ext cx="3238560" cy="2373480"/>
          </a:xfrm>
          <a:prstGeom prst="rect">
            <a:avLst/>
          </a:prstGeom>
          <a:ln w="0">
            <a:noFill/>
          </a:ln>
        </p:spPr>
      </p:pic>
      <p:pic>
        <p:nvPicPr>
          <p:cNvPr id="212" name="2001%20first%20aid%20Sarah%20S_jpg_jpg" descr=""/>
          <p:cNvPicPr/>
          <p:nvPr/>
        </p:nvPicPr>
        <p:blipFill>
          <a:blip r:embed="rId5"/>
          <a:srcRect l="0" t="0" r="27147" b="0"/>
          <a:stretch/>
        </p:blipFill>
        <p:spPr>
          <a:xfrm>
            <a:off x="1219320" y="3733920"/>
            <a:ext cx="19810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8600" y="30492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Verdana"/>
              </a:rPr>
              <a:t>WRITING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99072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rite a paragraph in which you tell your friends how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give first aid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. Choose one of the accidents from the reading reading passage or from daily lif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5280" y="2971800"/>
            <a:ext cx="457200" cy="3124080"/>
          </a:xfrm>
          <a:custGeom>
            <a:avLst/>
            <a:gdLst>
              <a:gd name="textAreaLeft" fmla="*/ 292320 w 457200"/>
              <a:gd name="textAreaRight" fmla="*/ 457560 w 4572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28800" y="31240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hat acciden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28800" y="4114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ow (basic step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28800" y="52578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Tips to remembe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62720" y="3352680"/>
            <a:ext cx="3352680" cy="20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rst 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Second, /Then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nally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3657600"/>
            <a:ext cx="304920" cy="1447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00"/>
                </a:solidFill>
                <a:uFillTx/>
                <a:latin typeface="Arial Narrow"/>
                <a:ea typeface="GungsuhChe"/>
              </a:rPr>
              <a:t>Task 2   Making a first-aid kit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5238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A well-stocked first-aid kit, kept in easy reach, is necessary in every home. It should include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6858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A first-aid kit is a box or bag of useful items and information that may be helpful </a:t>
            </a:r>
            <a:r>
              <a:rPr b="0" lang="en-US" sz="2400" spc="-1" strike="noStrike">
                <a:solidFill>
                  <a:srgbClr val="ff66ff"/>
                </a:solidFill>
                <a:latin typeface="Verdana"/>
              </a:rPr>
              <a:t>in case of emergency</a:t>
            </a: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6360" y="2387520"/>
            <a:ext cx="21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bandag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3733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soap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33920" y="3733920"/>
            <a:ext cx="24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sharp scisso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79960" y="3048120"/>
            <a:ext cx="284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thermomete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7360" y="4495680"/>
            <a:ext cx="48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plastic gloves (at least 2 pair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3048120"/>
            <a:ext cx="17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flashligh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33920" y="2387520"/>
            <a:ext cx="13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52578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your list of emergency phone numbe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6019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0" name="delux-first-aid-kit" descr=""/>
          <p:cNvPicPr/>
          <p:nvPr/>
        </p:nvPicPr>
        <p:blipFill>
          <a:blip r:embed="rId1"/>
          <a:srcRect l="9999" t="0" r="7498" b="0"/>
          <a:stretch/>
        </p:blipFill>
        <p:spPr>
          <a:xfrm>
            <a:off x="6337440" y="2286000"/>
            <a:ext cx="2577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04920" y="685800"/>
            <a:ext cx="861048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ranslation: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: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如果我们在家发现有人胳膊严重被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切伤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或砍伤怎  么办？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: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首先我们必须尽量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止住血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，然后为他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找医生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不能抬起或动他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我们必须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阻止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小孩子误食毒药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你作为家长，应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确保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电线食安全的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他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丧失知觉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了，我们该马上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叫救护车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吗？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49280" y="76320"/>
            <a:ext cx="24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Tahoma"/>
              </a:rPr>
              <a:t>Homework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4800600"/>
            <a:ext cx="212256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79200" y="2286000"/>
            <a:ext cx="644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www.healthy.net/clinic/firstaid/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53352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If you want more tips about first aids and ways to deal with common injuries, refer to the following websit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25560" y="3352680"/>
            <a:ext cx="71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kidshealth.org/parent/firstaid_safe/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26280" y="4267080"/>
            <a:ext cx="73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mi.essortment.com/firstaid_rfrg.ht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4480" y="5410080"/>
            <a:ext cx="79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http://www.emedicinehealth.com/articles/25936-7.as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4920" y="45720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What are common injuries?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1523880"/>
            <a:ext cx="84582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GungsuhChe"/>
                <a:ea typeface="GungsuhChe"/>
              </a:rPr>
              <a:t>Common injuries are accidents that easily happen at home. We may not be able to prevent them from happening, but everyone should know what to do if an accident happens.</a:t>
            </a:r>
            <a:r>
              <a:rPr b="0" lang="en-US" sz="3200" spc="-1" strike="noStrike" u="sng">
                <a:solidFill>
                  <a:srgbClr val="6f89f7"/>
                </a:solidFill>
                <a:uFillTx/>
                <a:latin typeface="GungsuhChe"/>
                <a:ea typeface="GungsuhChe"/>
                <a:hlinkClick r:id="rId1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GungsuhChe"/>
                <a:ea typeface="GungsuhChe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5" name="0763713228" descr=""/>
          <p:cNvPicPr/>
          <p:nvPr/>
        </p:nvPicPr>
        <p:blipFill>
          <a:blip r:embed="rId2"/>
          <a:srcRect l="7616" t="63636" r="50268" b="12282"/>
          <a:stretch/>
        </p:blipFill>
        <p:spPr>
          <a:xfrm>
            <a:off x="533520" y="4800600"/>
            <a:ext cx="2361960" cy="1676520"/>
          </a:xfrm>
          <a:prstGeom prst="rect">
            <a:avLst/>
          </a:prstGeom>
          <a:ln w="0">
            <a:noFill/>
          </a:ln>
        </p:spPr>
      </p:pic>
      <p:pic>
        <p:nvPicPr>
          <p:cNvPr id="216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95480" y="4038480"/>
            <a:ext cx="2743200" cy="2055960"/>
          </a:xfrm>
          <a:prstGeom prst="rect">
            <a:avLst/>
          </a:prstGeom>
          <a:ln w="0">
            <a:noFill/>
          </a:ln>
        </p:spPr>
      </p:pic>
      <p:pic>
        <p:nvPicPr>
          <p:cNvPr id="217" name="images" descr="">
            <a:hlinkClick r:id="rId5"/>
          </p:cNvPr>
          <p:cNvPicPr/>
          <p:nvPr/>
        </p:nvPicPr>
        <p:blipFill>
          <a:blip r:embed="rId6"/>
          <a:srcRect l="0" t="0" r="0" b="20842"/>
          <a:stretch/>
        </p:blipFill>
        <p:spPr>
          <a:xfrm>
            <a:off x="5638680" y="3657600"/>
            <a:ext cx="2719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0880" y="3049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Scanning 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9907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ow many kinds of common injuries are mentioned in this passage?                        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00800" y="14479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00080" y="3048120"/>
            <a:ext cx="23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animal bit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3505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bur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33720" y="4495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u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4800600"/>
            <a:ext cx="17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poison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02240" y="1981080"/>
            <a:ext cx="63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Do you know their Chinese meaning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00"/>
                </a:solidFill>
                <a:uFillTx/>
                <a:latin typeface="Arial Narrow"/>
              </a:rPr>
              <a:t>Task 1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9907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You are a doctor ,tell your classmates how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deal with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 these 4 common injuri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6477120" y="52578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81" h="21600">
                <a:moveTo>
                  <a:pt x="22684" y="3794"/>
                </a:moveTo>
                <a:lnTo>
                  <a:pt x="36697" y="10800"/>
                </a:lnTo>
                <a:lnTo>
                  <a:pt x="22684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2514600"/>
            <a:ext cx="220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Now please finish the following tabl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0" name="img_collage" descr=""/>
          <p:cNvPicPr/>
          <p:nvPr/>
        </p:nvPicPr>
        <p:blipFill>
          <a:blip r:embed="rId1"/>
          <a:srcRect l="33662" t="0" r="44525" b="0"/>
          <a:stretch/>
        </p:blipFill>
        <p:spPr>
          <a:xfrm>
            <a:off x="2362320" y="3505320"/>
            <a:ext cx="1644480" cy="1676160"/>
          </a:xfrm>
          <a:prstGeom prst="rect">
            <a:avLst/>
          </a:prstGeom>
          <a:ln w="0">
            <a:noFill/>
          </a:ln>
        </p:spPr>
      </p:pic>
      <p:pic>
        <p:nvPicPr>
          <p:cNvPr id="231" name="img_collage" descr=""/>
          <p:cNvPicPr/>
          <p:nvPr/>
        </p:nvPicPr>
        <p:blipFill>
          <a:blip r:embed="rId2"/>
          <a:srcRect l="77305" t="0" r="2887" b="0"/>
          <a:stretch/>
        </p:blipFill>
        <p:spPr>
          <a:xfrm>
            <a:off x="3962520" y="2743200"/>
            <a:ext cx="1676160" cy="1882800"/>
          </a:xfrm>
          <a:prstGeom prst="rect">
            <a:avLst/>
          </a:prstGeom>
          <a:ln w="0">
            <a:noFill/>
          </a:ln>
        </p:spPr>
      </p:pic>
      <p:pic>
        <p:nvPicPr>
          <p:cNvPr id="232" name="img_collage" descr=""/>
          <p:cNvPicPr/>
          <p:nvPr/>
        </p:nvPicPr>
        <p:blipFill>
          <a:blip r:embed="rId3"/>
          <a:srcRect l="0" t="0" r="81307" b="0"/>
          <a:stretch/>
        </p:blipFill>
        <p:spPr>
          <a:xfrm>
            <a:off x="709560" y="4038480"/>
            <a:ext cx="16653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438280" y="-76320"/>
            <a:ext cx="3200400" cy="83844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90920" y="7632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ommon injur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765000"/>
            <a:ext cx="228600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0364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83664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animal bit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56000" y="90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bur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32360" y="90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u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42920" y="1628640"/>
            <a:ext cx="360360" cy="648000"/>
          </a:xfrm>
          <a:prstGeom prst="downArrow">
            <a:avLst>
              <a:gd name="adj1" fmla="val 50000"/>
              <a:gd name="adj2" fmla="val 44955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5164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2349360"/>
            <a:ext cx="226836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11280" y="2349360"/>
            <a:ext cx="216072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16360" y="2349360"/>
            <a:ext cx="223200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2349360"/>
            <a:ext cx="2484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wound with cold running wate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 doctor as soon as possibl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40000" y="2349360"/>
            <a:ext cx="2303280" cy="43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ol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area of ski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 under the cold tap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ve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wound with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Comic Sans MS"/>
              </a:rPr>
              <a:t>bandage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/ clean cloth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  doctor if necessar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16360" y="2276640"/>
            <a:ext cx="24480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area of cu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Dry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ve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 with a piece of dry clean cloth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top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bleed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093080" y="2349360"/>
            <a:ext cx="205092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6436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95672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164360" y="907920"/>
            <a:ext cx="17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poison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20000" y="2349360"/>
            <a:ext cx="21240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Get him or her to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reathe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&amp;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pit out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pois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all fo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n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Comic Sans MS"/>
              </a:rPr>
              <a:t>ambulanc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earch fo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ny pois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372360" y="2349360"/>
            <a:ext cx="2233440" cy="338472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2602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00"/>
                </a:solidFill>
                <a:uFillTx/>
                <a:latin typeface="Verdana"/>
              </a:rPr>
              <a:t>APPLICATION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91440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hat should you do in the following situations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1447920"/>
            <a:ext cx="594036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1 Your little brother  is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bitten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by a big do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2 Your mother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burned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erself while she was cooking for you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3 You found your classmate with a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knife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in his le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4.You found a person who    has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stopped breathing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5. You found a girl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unconscious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on the beach of the park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16720" y="2852640"/>
            <a:ext cx="2881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rst 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Second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Third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nally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228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Verdana"/>
              </a:rPr>
              <a:t>Other common injur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1066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Verdana"/>
              </a:rPr>
              <a:t>How to deal with nose bleed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1752480"/>
            <a:ext cx="9144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y calm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eathe through the mouth, not the nos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t up and bend the head slightly forward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inc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nostril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鼻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ut using a thumb and forefing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it out any blood that collects in the mouth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3" name="images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21337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28600" y="1523880"/>
            <a:ext cx="891540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ol the burnt area with clean towels dipped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浸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cool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t in a cool, quiet room. Find a comfortable positi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ink plenty of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ut sunglasses on and cover sunburned skin when you go in the sun again so you don't get burned mor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Verdana"/>
              </a:rPr>
              <a:t>Sunburn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6" name="images" descr="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480" y="914400"/>
            <a:ext cx="6172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990720"/>
            <a:ext cx="8572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sh your hand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wist a piece of tissu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棉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isten the tip with tap water, and gently try to touch it with the tip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the foreign object is under the upper li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眼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ok down and pull the upper lid away from the eyeball by gently grabbing the eyelashe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睫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not ru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ey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tly wash the eye with cool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8040" y="304920"/>
            <a:ext cx="6950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To remove a foreign object </a:t>
            </a:r>
            <a:r>
              <a:rPr b="0" lang="zh-CN" sz="2800" spc="-1" strike="noStrike" u="sng">
                <a:solidFill>
                  <a:srgbClr val="40458c"/>
                </a:solidFill>
                <a:uFillTx/>
                <a:latin typeface="Arial"/>
              </a:rPr>
              <a:t>异物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in the ey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7:24:41Z</dcterms:modified>
  <cp:revision>7</cp:revision>
  <dc:subject/>
  <dc:title>PowerPoint Presentation</dc:title>
</cp:coreProperties>
</file>