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C81-C3B7-4D6B-9F19-6E3E4286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E14E-8155-411C-897F-13F268EF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D379-FED4-4CA6-9EE4-B43EAF4B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4DD-B546-4608-AD31-E345F419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70DB-4DC4-4A8C-9309-AA86E189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F29-B439-4CD6-B6E7-F5564156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40A5-4EA5-47BC-99D1-61397971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87BF-A9CB-4339-8BC0-1785E4C8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E09-D9F8-4605-885B-3F85CB23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017A-FA8D-4B50-AAA6-2BF7E981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7EF-6D56-4F3F-8D4C-441F5E1B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5FB-898C-47BD-A043-071B0374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C45F-56B0-447C-B9A2-77F6BE5F87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3240" y="954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wn  vt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5080" y="77616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67920" y="138600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himself in the river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3640" y="205740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eat flood drowned many hou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000" y="289548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rowning man / a drowned 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3610080"/>
            <a:ext cx="39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 … from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520" y="4191120"/>
            <a:ext cx="85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avy rain yesterday prevented us ( from) co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43520" y="4875120"/>
            <a:ext cx="434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… (from)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op… (from)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keep.. from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8720" y="39996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side 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0240" y="44784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颠倒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杂乱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4760" y="10666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g upside down from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1752480"/>
            <a:ext cx="61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y turned the room upside d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5640" y="2438280"/>
            <a:ext cx="55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cond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828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分钟都很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8920" y="36576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minute cou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1240" y="4267080"/>
            <a:ext cx="41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ep /bear ..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1840" y="4952880"/>
            <a:ext cx="50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keep these rules in m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320" y="557676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that the petrol can only last 2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8000" y="17136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anic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3808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ase of fire, don’t pan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0" y="1630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0800" y="169056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in a p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3320" y="24382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rowd was in a pan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2000" y="31240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phoned the doctor in pani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4160" y="396252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calm adj.v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34360" y="4038480"/>
            <a:ext cx="45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a calm, cloudless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6200" y="4800600"/>
            <a:ext cx="70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lways keeps/stays calm 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5480" y="55530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go to calm the pat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2560" y="5553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557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3400" y="399960"/>
            <a:ext cx="32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d   ( 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0" y="120960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didn’t respond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94360" y="190512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hasn’t responded to treatment y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41360" y="254484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s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8400" y="3276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/gave no response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8400" y="4038480"/>
            <a:ext cx="64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cries for  help met with no respon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0440" y="480060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respon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7640" y="5562720"/>
            <a:ext cx="67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opened the door in response to a kno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080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282600"/>
            <a:ext cx="19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0" y="863640"/>
            <a:ext cx="48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you witness the accid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6440" y="162576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ness to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。。。 作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720" y="223524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witnessed to seeing that man take the m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960" y="276876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ness     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3800" y="3290760"/>
            <a:ext cx="75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e found the witness to the murder c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374796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a witness to the accid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6560" y="429732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 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w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8520" y="48769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mas is on the way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6320" y="541008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on the way to getting wel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7120" y="59436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on the way to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5:31Z</dcterms:modified>
  <cp:revision>6</cp:revision>
  <dc:subject/>
  <dc:title>PowerPoint Presentation</dc:title>
</cp:coreProperties>
</file>