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FE87-D089-4CCE-832C-EB440E4F1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DC25-ABF6-4FD7-8F6A-9F881A84F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E76E-1DCA-401B-94AB-C2B2E1655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AE87-8ECF-4F57-96CA-0C0C87CBA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1C82A-F7FB-42E3-AC78-643D31781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AE5B1-5EA0-4244-96AB-08E8CEB5B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DB686-E77F-464F-A562-3EC618CF3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E1028-62A7-4A5B-81AF-23C2953D8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3B019-AFD2-487E-8FCA-251C3CC71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8FD8F-7593-4E7D-BC79-3DEB52635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045C0-C0CE-48B0-B46B-FC8085FEC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A5CD-46C9-4ED9-8B75-0A7581FCC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F50F8-A1D1-466B-BE9D-D636FC90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6EA56-366F-4823-AA9B-A37B49D7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2F5DA-8A12-4217-A19F-49251FBA2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4FC9E-608B-4AD5-9B5A-EBBA0BF47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13DC5-2B63-4803-8ACE-FD4D10AA3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89F5-D58E-49E4-9E96-220FE6692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A23C-C8EA-423A-9363-C9B9E27B2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2A6A-2290-4544-B16B-27B4897EA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4BE0-B96D-41C4-A5E5-81C5AD63D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7F2D-EBAC-4C81-89AD-2A33F16A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E2B2-48AE-4D59-8F7A-39245243D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BBDA-9012-42C3-9A14-A33F74449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7B6FB-C05E-4921-A34D-3B11C0FA8B3E}" type="slidenum">
              <a:rPr b="0" lang="zh-CN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809CA-3B10-4D7E-B66C-9421A7ECC6A2}" type="slidenum">
              <a:rPr b="0" lang="zh-CN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healthy.net/asp/Ads.asp?Ad=821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safetyprograms.org/images/FA-462.gif&amp;imgrefurl=http://www.safetyprograms.org/fasurvival.html&amp;h=318&amp;w=400&amp;sz=30&amp;tbnid=Kv61i2HDp00J:&amp;tbnh=95&amp;tbnw=119&amp;start=150&amp;prev=/images%3Fq%3Dfirst%2Baid%26start%3D140%26hl%3Dzh-CN%26lr%3D%26ie%3DUTF-8%26sa%3DN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bbc.co.uk/health/images/medicine_kids.jpg&amp;imgrefurl=http://www.bbc.co.uk/health/features/medicine_cabinet.shtml&amp;h=248&amp;w=183&amp;sz=21&amp;tbnid=9MB8TxHcZuUJ:&amp;tbnh=105&amp;tbnw=78&amp;start=8&amp;prev=/images%3Fq%3Dfirst%2Baid%26hl%3Dzh-CN%26lr%3D%26ie%3DUTF-8%26sa%3D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com/imgres?imgurl=http://www.jwrworkings.com/first%2520aid%25202.jpg&amp;imgrefurl=http://www.jwrworkings.com/minerescue.html&amp;h=444&amp;w=576&amp;sz=25&amp;tbnid=blPHrDl0EWkJ:&amp;tbnh=101&amp;tbnw=131&amp;start=5&amp;prev=/images%3Fq%3Dfirst%2Baid%26hl%3Dzh-CN%26lr%3D%26ie%3DUTF-8%26sa%3DG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images.google.com/imgres?imgurl=http://www.bbc.co.uk/health/images/medicine_kids.jpg&amp;imgrefurl=http://www.bbc.co.uk/health/features/medicine_cabinet.shtml&amp;h=248&amp;w=183&amp;sz=21&amp;tbnid=9MB8TxHcZuUJ:&amp;tbnh=105&amp;tbnw=78&amp;start=8&amp;prev=/images%3Fq%3Dfirst%2Baid%26hl%3Dzh-CN%26lr%3D%26ie%3DUTF-8%26sa%3DG" TargetMode="External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533160"/>
            <a:ext cx="6096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omic Sans MS"/>
              </a:rPr>
              <a:t>DEALING WITH COMMON INJURIE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09" name="First%20Aid%20CD" descr=""/>
          <p:cNvPicPr/>
          <p:nvPr/>
        </p:nvPicPr>
        <p:blipFill>
          <a:blip r:embed="rId1"/>
          <a:srcRect l="19904" t="19067" r="7909" b="32039"/>
          <a:stretch/>
        </p:blipFill>
        <p:spPr>
          <a:xfrm>
            <a:off x="2514600" y="1905120"/>
            <a:ext cx="5257800" cy="4343400"/>
          </a:xfrm>
          <a:prstGeom prst="rect">
            <a:avLst/>
          </a:prstGeom>
          <a:ln w="0">
            <a:noFill/>
          </a:ln>
        </p:spPr>
      </p:pic>
      <p:pic>
        <p:nvPicPr>
          <p:cNvPr id="210" name="PH_Lark_120x600" descr="Susan">
            <a:hlinkClick r:id="rId2"/>
          </p:cNvPr>
          <p:cNvPicPr/>
          <p:nvPr/>
        </p:nvPicPr>
        <p:blipFill>
          <a:blip r:embed="rId3"/>
          <a:srcRect l="0" t="0" r="0" b="75559"/>
          <a:stretch/>
        </p:blipFill>
        <p:spPr>
          <a:xfrm>
            <a:off x="228600" y="228600"/>
            <a:ext cx="1933560" cy="2362320"/>
          </a:xfrm>
          <a:prstGeom prst="rect">
            <a:avLst/>
          </a:prstGeom>
          <a:ln w="0">
            <a:noFill/>
          </a:ln>
        </p:spPr>
      </p:pic>
      <p:pic>
        <p:nvPicPr>
          <p:cNvPr id="211" name="53010Ml" descr=""/>
          <p:cNvPicPr/>
          <p:nvPr/>
        </p:nvPicPr>
        <p:blipFill>
          <a:blip r:embed="rId4"/>
          <a:stretch/>
        </p:blipFill>
        <p:spPr>
          <a:xfrm>
            <a:off x="5029200" y="1981080"/>
            <a:ext cx="3238560" cy="2373480"/>
          </a:xfrm>
          <a:prstGeom prst="rect">
            <a:avLst/>
          </a:prstGeom>
          <a:ln w="0">
            <a:noFill/>
          </a:ln>
        </p:spPr>
      </p:pic>
      <p:pic>
        <p:nvPicPr>
          <p:cNvPr id="212" name="2001%20first%20aid%20Sarah%20S_jpg_jpg" descr=""/>
          <p:cNvPicPr/>
          <p:nvPr/>
        </p:nvPicPr>
        <p:blipFill>
          <a:blip r:embed="rId5"/>
          <a:srcRect l="0" t="0" r="27147" b="0"/>
          <a:stretch/>
        </p:blipFill>
        <p:spPr>
          <a:xfrm>
            <a:off x="1219320" y="3733920"/>
            <a:ext cx="198108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228600" y="30492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Verdana"/>
              </a:rPr>
              <a:t>WRITING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990720"/>
            <a:ext cx="883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Write a paragraph in which you tell your friends how to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Verdana"/>
              </a:rPr>
              <a:t>give first aid</a:t>
            </a: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. Choose one of the accidents from the reading reading passage or from daily life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295280" y="2971800"/>
            <a:ext cx="457200" cy="3124080"/>
          </a:xfrm>
          <a:custGeom>
            <a:avLst/>
            <a:gdLst>
              <a:gd name="textAreaLeft" fmla="*/ 292320 w 457200"/>
              <a:gd name="textAreaRight" fmla="*/ 457560 w 457200"/>
              <a:gd name="textAreaTop" fmla="*/ 81360 h 3124080"/>
              <a:gd name="textAreaBottom" fmla="*/ 3042720 h 312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828800" y="312408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What accident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828800" y="41148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How (basic steps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28800" y="52578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Tips to remember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562720" y="3352680"/>
            <a:ext cx="3352680" cy="20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First , 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Second, /Then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Finally, 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181480" y="3657600"/>
            <a:ext cx="304920" cy="1447920"/>
          </a:xfrm>
          <a:custGeom>
            <a:avLst/>
            <a:gdLst>
              <a:gd name="textAreaLeft" fmla="*/ 194760 w 304920"/>
              <a:gd name="textAreaRight" fmla="*/ 305280 w 30492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0"/>
            <a:ext cx="69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990000"/>
                </a:solidFill>
                <a:uFillTx/>
                <a:latin typeface="Arial Narrow"/>
                <a:ea typeface="GungsuhChe"/>
              </a:rPr>
              <a:t>Task 2   Making a first-aid kit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152388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Verdana"/>
              </a:rPr>
              <a:t>A well-stocked first-aid kit, kept in easy reach, is necessary in every home. It should include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6858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Verdana"/>
              </a:rPr>
              <a:t>A first-aid kit is a box or bag of useful items and information that may be helpful </a:t>
            </a:r>
            <a:r>
              <a:rPr b="0" lang="en-US" sz="2400" spc="-1" strike="noStrike">
                <a:solidFill>
                  <a:srgbClr val="ff66ff"/>
                </a:solidFill>
                <a:latin typeface="Verdana"/>
              </a:rPr>
              <a:t>in case of emergency</a:t>
            </a:r>
            <a:r>
              <a:rPr b="0" lang="en-US" sz="2400" spc="-1" strike="noStrike">
                <a:solidFill>
                  <a:srgbClr val="40458c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6360" y="2387520"/>
            <a:ext cx="213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  <a:ea typeface="宋体"/>
              </a:rPr>
              <a:t>bandage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80880" y="37339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  <a:ea typeface="宋体"/>
              </a:rPr>
              <a:t>soap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733920" y="3733920"/>
            <a:ext cx="24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</a:rPr>
              <a:t>sharp scissor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279960" y="3048120"/>
            <a:ext cx="284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  <a:ea typeface="宋体"/>
              </a:rPr>
              <a:t>thermometer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37360" y="4495680"/>
            <a:ext cx="484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</a:rPr>
              <a:t>plastic gloves (at least 2 pairs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62120" y="3048120"/>
            <a:ext cx="173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</a:rPr>
              <a:t>flashlight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733920" y="2387520"/>
            <a:ext cx="139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</a:rPr>
              <a:t>alcohol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80880" y="525780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  <a:ea typeface="宋体"/>
              </a:rPr>
              <a:t>your list of emergency phone number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990720" y="60199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Verdana"/>
              </a:rPr>
              <a:t>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90" name="delux-first-aid-kit" descr=""/>
          <p:cNvPicPr/>
          <p:nvPr/>
        </p:nvPicPr>
        <p:blipFill>
          <a:blip r:embed="rId1"/>
          <a:srcRect l="9999" t="0" r="7498" b="0"/>
          <a:stretch/>
        </p:blipFill>
        <p:spPr>
          <a:xfrm>
            <a:off x="6337440" y="2286000"/>
            <a:ext cx="25779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04920" y="685800"/>
            <a:ext cx="861048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Translation: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: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如果我们在家发现有人胳膊严重被</a:t>
            </a:r>
            <a:r>
              <a:rPr b="1" lang="zh-CN" sz="2800" spc="-1" strike="noStrike">
                <a:solidFill>
                  <a:srgbClr val="ff66ff"/>
                </a:solidFill>
                <a:latin typeface="Arial Narrow"/>
              </a:rPr>
              <a:t>切伤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或砍伤怎  么办？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: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首先我们必须尽量</a:t>
            </a:r>
            <a:r>
              <a:rPr b="1" lang="zh-CN" sz="2800" spc="-1" strike="noStrike">
                <a:solidFill>
                  <a:srgbClr val="ff66ff"/>
                </a:solidFill>
                <a:latin typeface="Arial Narrow"/>
              </a:rPr>
              <a:t>止住血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，然后为他</a:t>
            </a:r>
            <a:r>
              <a:rPr b="1" lang="zh-CN" sz="2800" spc="-1" strike="noStrike">
                <a:solidFill>
                  <a:srgbClr val="ff66ff"/>
                </a:solidFill>
                <a:latin typeface="Arial Narrow"/>
              </a:rPr>
              <a:t>找医生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不能抬起或动他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）我们必须</a:t>
            </a:r>
            <a:r>
              <a:rPr b="1" lang="zh-CN" sz="2800" spc="-1" strike="noStrike">
                <a:solidFill>
                  <a:srgbClr val="ff66ff"/>
                </a:solidFill>
                <a:latin typeface="Arial Narrow"/>
              </a:rPr>
              <a:t>阻止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小孩子误食毒药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）你作为家长，应</a:t>
            </a:r>
            <a:r>
              <a:rPr b="1" lang="zh-CN" sz="2800" spc="-1" strike="noStrike">
                <a:solidFill>
                  <a:srgbClr val="ff66ff"/>
                </a:solidFill>
                <a:latin typeface="Arial Narrow"/>
              </a:rPr>
              <a:t>确保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电线食安全的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）他</a:t>
            </a:r>
            <a:r>
              <a:rPr b="1" lang="zh-CN" sz="2800" spc="-1" strike="noStrike">
                <a:solidFill>
                  <a:srgbClr val="ff66ff"/>
                </a:solidFill>
                <a:latin typeface="Arial Narrow"/>
              </a:rPr>
              <a:t>丧失知觉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了，我们该马上</a:t>
            </a:r>
            <a:r>
              <a:rPr b="1" lang="zh-CN" sz="2800" spc="-1" strike="noStrike">
                <a:solidFill>
                  <a:srgbClr val="ff66ff"/>
                </a:solidFill>
                <a:latin typeface="Arial Narrow"/>
              </a:rPr>
              <a:t>叫救护车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吗？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 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349280" y="76320"/>
            <a:ext cx="242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ff"/>
                </a:solidFill>
                <a:latin typeface="Tahoma"/>
              </a:rPr>
              <a:t>Homework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93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00800" y="4800600"/>
            <a:ext cx="212256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979200" y="2286000"/>
            <a:ext cx="644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http://www.healthy.net/clinic/firstaid/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04920" y="533520"/>
            <a:ext cx="883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If you want more tips about first aids and ways to deal with common injuries, refer to the following website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925560" y="3352680"/>
            <a:ext cx="715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http://kidshealth.org/parent/firstaid_safe/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926280" y="4267080"/>
            <a:ext cx="733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http://mi.essortment.com/firstaid_rfrg.htm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34480" y="5410080"/>
            <a:ext cx="79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Verdana"/>
              </a:rPr>
              <a:t>http://www.emedicinehealth.com/articles/25936-7.as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04920" y="457200"/>
            <a:ext cx="63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 Narrow"/>
              </a:rPr>
              <a:t>What are common injuries?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85800" y="1523880"/>
            <a:ext cx="845820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GungsuhChe"/>
                <a:ea typeface="GungsuhChe"/>
              </a:rPr>
              <a:t>Common injuries are accidents that easily happen at home. We may not be able to prevent them from happening, but everyone should know what to do if an accident happens.</a:t>
            </a:r>
            <a:r>
              <a:rPr b="0" lang="en-US" sz="3200" spc="-1" strike="noStrike" u="sng">
                <a:solidFill>
                  <a:srgbClr val="6f89f7"/>
                </a:solidFill>
                <a:uFillTx/>
                <a:latin typeface="GungsuhChe"/>
                <a:ea typeface="GungsuhChe"/>
                <a:hlinkClick r:id="rId1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GungsuhChe"/>
                <a:ea typeface="GungsuhChe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5" name="0763713228" descr=""/>
          <p:cNvPicPr/>
          <p:nvPr/>
        </p:nvPicPr>
        <p:blipFill>
          <a:blip r:embed="rId2"/>
          <a:srcRect l="7616" t="63636" r="50268" b="12282"/>
          <a:stretch/>
        </p:blipFill>
        <p:spPr>
          <a:xfrm>
            <a:off x="533520" y="4800600"/>
            <a:ext cx="2361960" cy="1676520"/>
          </a:xfrm>
          <a:prstGeom prst="rect">
            <a:avLst/>
          </a:prstGeom>
          <a:ln w="0">
            <a:noFill/>
          </a:ln>
        </p:spPr>
      </p:pic>
      <p:pic>
        <p:nvPicPr>
          <p:cNvPr id="216" name="images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95480" y="4038480"/>
            <a:ext cx="2743200" cy="2055960"/>
          </a:xfrm>
          <a:prstGeom prst="rect">
            <a:avLst/>
          </a:prstGeom>
          <a:ln w="0">
            <a:noFill/>
          </a:ln>
        </p:spPr>
      </p:pic>
      <p:pic>
        <p:nvPicPr>
          <p:cNvPr id="217" name="images" descr="">
            <a:hlinkClick r:id="rId5"/>
          </p:cNvPr>
          <p:cNvPicPr/>
          <p:nvPr/>
        </p:nvPicPr>
        <p:blipFill>
          <a:blip r:embed="rId6"/>
          <a:srcRect l="0" t="0" r="0" b="20842"/>
          <a:stretch/>
        </p:blipFill>
        <p:spPr>
          <a:xfrm>
            <a:off x="5638680" y="3657600"/>
            <a:ext cx="27194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80880" y="304920"/>
            <a:ext cx="38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 Narrow"/>
              </a:rPr>
              <a:t>Scanning 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14400" y="9907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How many kinds of common injuries are mentioned in this passage?                         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400800" y="14479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00080" y="3048120"/>
            <a:ext cx="23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animal bit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724280" y="35053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burn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133720" y="44956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cut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181480" y="4800600"/>
            <a:ext cx="17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poisoning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002240" y="1981080"/>
            <a:ext cx="638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Do you know their Chinese meaning?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0"/>
            <a:ext cx="58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990000"/>
                </a:solidFill>
                <a:uFillTx/>
                <a:latin typeface="Arial Narrow"/>
              </a:rPr>
              <a:t>Task 1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5800" y="99072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You are a doctor ,tell your classmates how to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Verdana"/>
              </a:rPr>
              <a:t>deal with</a:t>
            </a: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 these 4 common injurie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">
            <a:hlinkClick r:id="" action="ppaction://hlinkshowjump?jump=nextslide"/>
          </p:cNvPr>
          <p:cNvSpPr/>
          <p:nvPr/>
        </p:nvSpPr>
        <p:spPr>
          <a:xfrm>
            <a:off x="6477120" y="5257800"/>
            <a:ext cx="1676160" cy="60948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81" h="21600">
                <a:moveTo>
                  <a:pt x="0" y="0"/>
                </a:moveTo>
                <a:lnTo>
                  <a:pt x="59381" y="0"/>
                </a:lnTo>
                <a:lnTo>
                  <a:pt x="59381" y="21600"/>
                </a:lnTo>
                <a:lnTo>
                  <a:pt x="0" y="21600"/>
                </a:lnTo>
                <a:close/>
              </a:path>
              <a:path fill="lightenLess" w="59381" h="21600">
                <a:moveTo>
                  <a:pt x="0" y="0"/>
                </a:moveTo>
                <a:lnTo>
                  <a:pt x="59381" y="0"/>
                </a:lnTo>
                <a:lnTo>
                  <a:pt x="57981" y="1400"/>
                </a:lnTo>
                <a:lnTo>
                  <a:pt x="1400" y="1400"/>
                </a:lnTo>
                <a:close/>
              </a:path>
              <a:path fill="darken" w="59381" h="21600">
                <a:moveTo>
                  <a:pt x="59381" y="0"/>
                </a:moveTo>
                <a:lnTo>
                  <a:pt x="59381" y="21600"/>
                </a:lnTo>
                <a:lnTo>
                  <a:pt x="57981" y="20200"/>
                </a:lnTo>
                <a:lnTo>
                  <a:pt x="57981" y="1400"/>
                </a:lnTo>
                <a:close/>
              </a:path>
              <a:path fill="darkenLess" w="59381" h="21600">
                <a:moveTo>
                  <a:pt x="59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1" y="20200"/>
                </a:lnTo>
                <a:close/>
              </a:path>
              <a:path fill="lighten" w="59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381" h="21600">
                <a:moveTo>
                  <a:pt x="22684" y="3794"/>
                </a:moveTo>
                <a:lnTo>
                  <a:pt x="36697" y="10800"/>
                </a:lnTo>
                <a:lnTo>
                  <a:pt x="22684" y="17806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477120" y="2514600"/>
            <a:ext cx="2209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Now please finish the following table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0" name="img_collage" descr=""/>
          <p:cNvPicPr/>
          <p:nvPr/>
        </p:nvPicPr>
        <p:blipFill>
          <a:blip r:embed="rId1"/>
          <a:srcRect l="33662" t="0" r="44525" b="0"/>
          <a:stretch/>
        </p:blipFill>
        <p:spPr>
          <a:xfrm>
            <a:off x="2362320" y="3505320"/>
            <a:ext cx="1644480" cy="1676160"/>
          </a:xfrm>
          <a:prstGeom prst="rect">
            <a:avLst/>
          </a:prstGeom>
          <a:ln w="0">
            <a:noFill/>
          </a:ln>
        </p:spPr>
      </p:pic>
      <p:pic>
        <p:nvPicPr>
          <p:cNvPr id="231" name="img_collage" descr=""/>
          <p:cNvPicPr/>
          <p:nvPr/>
        </p:nvPicPr>
        <p:blipFill>
          <a:blip r:embed="rId2"/>
          <a:srcRect l="77305" t="0" r="2887" b="0"/>
          <a:stretch/>
        </p:blipFill>
        <p:spPr>
          <a:xfrm>
            <a:off x="3962520" y="2743200"/>
            <a:ext cx="1676160" cy="1882800"/>
          </a:xfrm>
          <a:prstGeom prst="rect">
            <a:avLst/>
          </a:prstGeom>
          <a:ln w="0">
            <a:noFill/>
          </a:ln>
        </p:spPr>
      </p:pic>
      <p:pic>
        <p:nvPicPr>
          <p:cNvPr id="232" name="img_collage" descr=""/>
          <p:cNvPicPr/>
          <p:nvPr/>
        </p:nvPicPr>
        <p:blipFill>
          <a:blip r:embed="rId3"/>
          <a:srcRect l="0" t="0" r="81307" b="0"/>
          <a:stretch/>
        </p:blipFill>
        <p:spPr>
          <a:xfrm>
            <a:off x="709560" y="4038480"/>
            <a:ext cx="166536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438280" y="-76320"/>
            <a:ext cx="3200400" cy="838440"/>
          </a:xfrm>
          <a:prstGeom prst="horizontalScroll">
            <a:avLst>
              <a:gd name="adj" fmla="val 12500"/>
            </a:avLst>
          </a:prstGeom>
          <a:solidFill>
            <a:srgbClr val="ff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590920" y="7632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Common injuri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765000"/>
            <a:ext cx="1584360" cy="838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765000"/>
            <a:ext cx="2286000" cy="838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003640" y="765000"/>
            <a:ext cx="1584360" cy="838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83664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animal bit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556000" y="9079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burn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932360" y="9079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cut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042920" y="1628640"/>
            <a:ext cx="360360" cy="648000"/>
          </a:xfrm>
          <a:prstGeom prst="downArrow">
            <a:avLst>
              <a:gd name="adj1" fmla="val 50000"/>
              <a:gd name="adj2" fmla="val 44955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276720" y="1628640"/>
            <a:ext cx="287280" cy="648000"/>
          </a:xfrm>
          <a:prstGeom prst="downArrow">
            <a:avLst>
              <a:gd name="adj1" fmla="val 50000"/>
              <a:gd name="adj2" fmla="val 56391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651640" y="1628640"/>
            <a:ext cx="287280" cy="648000"/>
          </a:xfrm>
          <a:prstGeom prst="downArrow">
            <a:avLst>
              <a:gd name="adj1" fmla="val 50000"/>
              <a:gd name="adj2" fmla="val 56391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2349360"/>
            <a:ext cx="2268360" cy="45086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411280" y="2349360"/>
            <a:ext cx="2160720" cy="45086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716360" y="2349360"/>
            <a:ext cx="2232000" cy="45086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2349360"/>
            <a:ext cx="248436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Wash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the wound with cold running water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See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a doctor as soon as possibl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340000" y="2349360"/>
            <a:ext cx="2303280" cy="43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Cool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the area of ski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Wash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it under the cold tap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Cover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the wound with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Comic Sans MS"/>
              </a:rPr>
              <a:t>bandage 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/ clean cloth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See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a  doctor if necessary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716360" y="2276640"/>
            <a:ext cx="244800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Wash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the area of cut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Dry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it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Cover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it with a piece of dry clean cloth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top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bleeding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093080" y="2349360"/>
            <a:ext cx="2050920" cy="45086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164360" y="765000"/>
            <a:ext cx="1584360" cy="838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956720" y="1628640"/>
            <a:ext cx="287280" cy="648000"/>
          </a:xfrm>
          <a:prstGeom prst="downArrow">
            <a:avLst>
              <a:gd name="adj1" fmla="val 50000"/>
              <a:gd name="adj2" fmla="val 56391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164360" y="907920"/>
            <a:ext cx="176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poisoning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020000" y="2349360"/>
            <a:ext cx="2124000" cy="48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Get him or her to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breathe 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&amp;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pit out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poison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Call for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an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Comic Sans MS"/>
              </a:rPr>
              <a:t>ambulanc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earch for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any poison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372360" y="2349360"/>
            <a:ext cx="2233440" cy="3384720"/>
          </a:xfrm>
          <a:prstGeom prst="rect">
            <a:avLst/>
          </a:prstGeom>
          <a:solidFill>
            <a:srgbClr val="00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24000" y="260280"/>
            <a:ext cx="56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990000"/>
                </a:solidFill>
                <a:uFillTx/>
                <a:latin typeface="Verdana"/>
              </a:rPr>
              <a:t>APPLICATIONS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914400"/>
            <a:ext cx="87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What should you do in the following situations?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1447920"/>
            <a:ext cx="5940360" cy="58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1 Your little brother  is </a:t>
            </a:r>
            <a:r>
              <a:rPr b="0" lang="en-US" sz="2800" spc="-1" strike="noStrike">
                <a:solidFill>
                  <a:srgbClr val="008080"/>
                </a:solidFill>
                <a:latin typeface="Verdana"/>
              </a:rPr>
              <a:t>bitten </a:t>
            </a: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by a big dog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2 Your mother </a:t>
            </a:r>
            <a:r>
              <a:rPr b="0" lang="en-US" sz="2800" spc="-1" strike="noStrike">
                <a:solidFill>
                  <a:srgbClr val="008080"/>
                </a:solidFill>
                <a:latin typeface="Verdana"/>
              </a:rPr>
              <a:t>burned</a:t>
            </a: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herself while she was cooking for you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3 You found your classmate with a </a:t>
            </a:r>
            <a:r>
              <a:rPr b="0" lang="en-US" sz="2800" spc="-1" strike="noStrike">
                <a:solidFill>
                  <a:srgbClr val="008080"/>
                </a:solidFill>
                <a:latin typeface="Verdana"/>
              </a:rPr>
              <a:t>knife </a:t>
            </a: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in his leg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4.You found a person who    has </a:t>
            </a:r>
            <a:r>
              <a:rPr b="0" lang="en-US" sz="2800" spc="-1" strike="noStrike">
                <a:solidFill>
                  <a:srgbClr val="008080"/>
                </a:solidFill>
                <a:latin typeface="Verdana"/>
              </a:rPr>
              <a:t>stopped breathing</a:t>
            </a: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5. You found a girl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unconscious</a:t>
            </a: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on the beach of the park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516720" y="2852640"/>
            <a:ext cx="28814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First , 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Second, 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Third, 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Finally, 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0" y="22860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Verdana"/>
              </a:rPr>
              <a:t>Other common injuri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04920" y="10666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0458c"/>
                </a:solidFill>
                <a:uFillTx/>
                <a:latin typeface="Verdana"/>
              </a:rPr>
              <a:t>How to deal with nose bleeding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" y="1752480"/>
            <a:ext cx="914400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ay calm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reathe through the mouth, not the nose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it up and bend the head slightly forward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inc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捏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oth nostril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鼻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hut using a thumb and forefinger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pit out any blood that collects in the mouth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3" name="images" descr=""/>
          <p:cNvPicPr/>
          <p:nvPr/>
        </p:nvPicPr>
        <p:blipFill>
          <a:blip r:embed="rId1"/>
          <a:stretch/>
        </p:blipFill>
        <p:spPr>
          <a:xfrm>
            <a:off x="6629400" y="380880"/>
            <a:ext cx="21337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228600" y="1523880"/>
            <a:ext cx="8915400" cy="48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ol the burnt area with clean towels dipped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浸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 cool water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st in a cool, quiet room. Find a comfortable position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rink plenty of water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ut sunglasses on and cover sunburned skin when you go in the sun again so you don't get burned more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04920" y="3808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0458c"/>
                </a:solidFill>
                <a:uFillTx/>
                <a:latin typeface="Verdana"/>
              </a:rPr>
              <a:t>Sunburns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6" name="images" descr=""/>
          <p:cNvPicPr/>
          <p:nvPr/>
        </p:nvPicPr>
        <p:blipFill>
          <a:blip r:embed="rId1"/>
          <a:stretch/>
        </p:blipFill>
        <p:spPr>
          <a:xfrm>
            <a:off x="7086600" y="0"/>
            <a:ext cx="205740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609480" y="914400"/>
            <a:ext cx="6172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8600" y="990720"/>
            <a:ext cx="85726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ash your hands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wist a piece of tissu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棉签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isten the tip with tap water, and gently try to touch it with the tip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f the foreign object is under the upper li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眼睑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ook down and pull the upper lid away from the eyeball by gently grabbing the eyelashe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睫毛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 not ru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eye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ently wash the eye with cool water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18040" y="304920"/>
            <a:ext cx="69505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0458c"/>
                </a:solidFill>
                <a:uFillTx/>
                <a:latin typeface="Arial"/>
                <a:ea typeface="Arial"/>
              </a:rPr>
              <a:t>To remove a foreign object </a:t>
            </a:r>
            <a:r>
              <a:rPr b="0" lang="zh-CN" sz="2800" spc="-1" strike="noStrike" u="sng">
                <a:solidFill>
                  <a:srgbClr val="40458c"/>
                </a:solidFill>
                <a:uFillTx/>
                <a:latin typeface="Arial"/>
              </a:rPr>
              <a:t>异物 </a:t>
            </a:r>
            <a:r>
              <a:rPr b="0" lang="en-US" sz="2800" spc="-1" strike="noStrike" u="sng">
                <a:solidFill>
                  <a:srgbClr val="40458c"/>
                </a:solidFill>
                <a:uFillTx/>
                <a:latin typeface="Arial"/>
                <a:ea typeface="Arial"/>
              </a:rPr>
              <a:t>in the ey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ckal</cp:lastModifiedBy>
  <dcterms:modified xsi:type="dcterms:W3CDTF">2001-05-30T17:24:41Z</dcterms:modified>
  <cp:revision>7</cp:revision>
  <dc:subject/>
  <dc:title>PowerPoint Presentation</dc:title>
</cp:coreProperties>
</file>