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jpeg" ContentType="image/jpeg"/>
  <Override PartName="/ppt/media/image9.gif" ContentType="image/gif"/>
  <Override PartName="/ppt/media/image14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13.gif" ContentType="image/gif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9642-81E0-42D6-942B-3E99465F2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7E2F-B8C9-4F4D-B6C9-E14F308C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B66B-4967-4140-BA1F-ACF4D53D2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AD00-0CA7-4EA2-A8F0-DF184E374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F6D0-D2D5-4487-B10E-26C37C964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16A3-5168-414C-A491-167DE1CC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8437-FB2F-4B93-8CBC-2EC5846C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CA6C-212E-470B-99B9-3DA99CE3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BB78-757E-4307-969B-42FD56EB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9B73-8948-4622-9374-39AF0DAF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EC52-AA90-4FB6-9589-DD666AA8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A913-5147-41BD-B59F-2DA5767C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1210-8172-4F4F-8365-871DF676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4F0A-E072-46D8-95F7-12DA629B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D8E9-AD7F-4DDA-85F4-69ED4FEC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5525-2621-4285-B3D4-A103BA0BE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FB4C-B333-46AB-AD7B-06D8D2716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D0E7-BB72-4C43-B2A5-325B60E2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1E4C-468C-49EA-8F1B-0C5A9C17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FDA2-8B1C-46A2-9EE3-831CFE42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DAA3-0F15-47D5-B2A8-8E37D859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4EFE-E7F1-4681-B025-73B2593F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82F4-54C1-4704-BE08-BDE6ADDC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A47D-466C-4976-BB05-A071F7B4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9BBE-BE92-45A1-B6BA-7FE40CDEAC1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7D87-C2B7-498A-9B6F-241F2C3128B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Monotype Corsiva"/>
              </a:rPr>
              <a:t>UNIT 9  REVIC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52388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Book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438280" y="14475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played basketball the day before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is going to play basketball tomorr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is playing basketball n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cnimg_net_0012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2057400" cy="4952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666880" y="1523880"/>
            <a:ext cx="54104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4568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day before yester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41760" y="2971800"/>
            <a:ext cx="19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morr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3962520"/>
            <a:ext cx="9748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743200" y="2057040"/>
            <a:ext cx="5943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 danced yesterday even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 often dan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95480" y="1904760"/>
            <a:ext cx="38102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Yesterday eve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cnimg_net_031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1828800" cy="4572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722680" y="3112920"/>
            <a:ext cx="1600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f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819520" y="1676160"/>
            <a:ext cx="58672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moment ag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 drew a picture a moment ag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cnimg_net_032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16002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886200" y="1676160"/>
            <a:ext cx="4952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wo years ago,  Un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ang,Work,  in Chi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Uncle Wang worked in China two years ag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cnimg_net_094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2895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66ff"/>
                </a:solidFill>
                <a:latin typeface="Times New Roman"/>
              </a:rPr>
              <a:t>Let’s do exercises together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、写出下列单词的过去式形式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e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ad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n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l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now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ud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an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swer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g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m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v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0948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en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came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ead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id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nd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elp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aw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knew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tar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tudied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anted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answer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ere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worked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rgo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as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moved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按要求改变句子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07696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was bor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n September 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________________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bor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 Chi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___________________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 Feng did his homework after supp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变为否定句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———————————————————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 Fang went to school on foo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ast Mond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___________________________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lived in Chin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or about ten yea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____________________________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0520" y="1447560"/>
            <a:ext cx="90680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were you bor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was he bor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 Feng didn’t do his homework after supp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did Wei Fang go to school on foo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long did they live in Chin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用所给动词的正确形式填空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641240"/>
            <a:ext cx="85345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______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)your sister bor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you enjoy _______(live) with 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_________(watch) TV just n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____________(watch) TV n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cy ________(play) games with Tom sometim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 you ______ (live) in China last yea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08760" y="2085840"/>
            <a:ext cx="125028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liv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3680" y="1447920"/>
            <a:ext cx="105516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8280" y="2743200"/>
            <a:ext cx="170748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atch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3429000"/>
            <a:ext cx="227916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s watch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53960" y="4143240"/>
            <a:ext cx="114984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lay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7720" y="5486400"/>
            <a:ext cx="87084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i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43560" y="5410080"/>
            <a:ext cx="86940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l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66"/>
                </a:solidFill>
                <a:latin typeface="Comic Sans MS"/>
              </a:rPr>
              <a:t>THE END</a:t>
            </a:r>
            <a:r>
              <a:rPr b="0" lang="en-US" sz="6600" spc="-1" strike="noStrike">
                <a:solidFill>
                  <a:srgbClr val="cc99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9900"/>
                </a:solidFill>
                <a:latin typeface="Monotype Corsiva"/>
              </a:rPr>
              <a:t>Thanks very much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276720" y="304920"/>
            <a:ext cx="5410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When were you bor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I was born in/on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Where were you bor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I was born in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23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80880" y="44956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was he born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 was born on May 18, 1999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85800"/>
            <a:ext cx="4648320" cy="1905120"/>
          </a:xfrm>
          <a:prstGeom prst="wedgeEllipseCallout">
            <a:avLst>
              <a:gd name="adj1" fmla="val 44601"/>
              <a:gd name="adj2" fmla="val 59749"/>
            </a:avLst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Name: To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Birthday:  1999,5,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8960" y="4266720"/>
            <a:ext cx="75438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was he bor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 was born in Beijing .</a:t>
            </a:r>
            <a:br>
              <a:rPr sz="28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04920" y="457164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hen was she bor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he was born 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eptember 10,1999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0"/>
            <a:ext cx="4343400" cy="2057400"/>
          </a:xfrm>
          <a:prstGeom prst="wedgeEllipseCallout">
            <a:avLst>
              <a:gd name="adj1" fmla="val 57199"/>
              <a:gd name="adj2" fmla="val 49074"/>
            </a:avLst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:      Luc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rthday: 1999,9,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4267080"/>
            <a:ext cx="91440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here was she bor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he was born in New York. (America/ the USA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8600" y="40381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When was she bor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She was born on October 29, 20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533520"/>
            <a:ext cx="4495680" cy="2209680"/>
          </a:xfrm>
          <a:prstGeom prst="wedgeEllipseCallout">
            <a:avLst>
              <a:gd name="adj1" fmla="val -46750"/>
              <a:gd name="adj2" fmla="val 29384"/>
            </a:avLst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rthda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00, 10,2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294920" y="3809880"/>
            <a:ext cx="6172200" cy="16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was she bor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he was born in Japan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1066680" y="0"/>
            <a:ext cx="7239240" cy="4952880"/>
            <a:chOff x="1066680" y="0"/>
            <a:chExt cx="7239240" cy="4952880"/>
          </a:xfrm>
        </p:grpSpPr>
        <p:sp>
          <p:nvSpPr>
            <p:cNvPr id="107" name=""/>
            <p:cNvSpPr/>
            <p:nvPr/>
          </p:nvSpPr>
          <p:spPr>
            <a:xfrm>
              <a:off x="1066680" y="0"/>
              <a:ext cx="7239240" cy="4952880"/>
            </a:xfrm>
            <a:custGeom>
              <a:avLst/>
              <a:gdLst>
                <a:gd name="textAreaLeft" fmla="*/ 1652400 w 7239240"/>
                <a:gd name="textAreaRight" fmla="*/ 5586840 w 7239240"/>
                <a:gd name="textAreaTop" fmla="*/ 1130760 h 4952880"/>
                <a:gd name="textAreaBottom" fmla="*/ 3822120 h 495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4568"/>
                  </a:solidFill>
                  <a:latin typeface="Times New Roman"/>
                </a:rPr>
                <a:t>Now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8" name="cnimg_net_004" descr=""/>
            <p:cNvPicPr/>
            <p:nvPr/>
          </p:nvPicPr>
          <p:blipFill>
            <a:blip r:embed="rId1"/>
            <a:stretch/>
          </p:blipFill>
          <p:spPr>
            <a:xfrm>
              <a:off x="2971800" y="990720"/>
              <a:ext cx="36576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23920" y="1752480"/>
            <a:ext cx="4800600" cy="51055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e  didn’t sing yesterday.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d he sing yesterday?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Yes ,he did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44197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e is singing now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e  sang  yesterda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e often sing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2209320"/>
            <a:ext cx="12952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4568"/>
                </a:solidFill>
                <a:latin typeface="Times New Roman"/>
              </a:rPr>
              <a:t>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160" y="3352680"/>
            <a:ext cx="183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4568"/>
                </a:solidFill>
                <a:latin typeface="Times New Roman"/>
              </a:rPr>
              <a:t>Yester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840" y="4724280"/>
            <a:ext cx="11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4568"/>
                </a:solidFill>
                <a:latin typeface="Times New Roman"/>
              </a:rPr>
              <a:t>Of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4114800"/>
            <a:ext cx="53352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cc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7T13:05:56Z</dcterms:created>
  <dc:creator>zlm</dc:creator>
  <dc:description/>
  <dc:language>en-US</dc:language>
  <cp:lastModifiedBy>dtyl</cp:lastModifiedBy>
  <dcterms:modified xsi:type="dcterms:W3CDTF">2004-05-12T12:21:46Z</dcterms:modified>
  <cp:revision>30</cp:revision>
  <dc:subject/>
  <dc:title>REVICE  UNIT 9</dc:title>
</cp:coreProperties>
</file>