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D0C-AC3A-4B21-8A36-C59A6560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1A8-39F8-4C3D-BC98-119A74F3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825-6788-44DB-A584-C6A8794C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3E8-3134-4226-9DC2-C49A4074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12E6-17A1-41D3-8F78-BCCDD6C4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BDEA-45FD-45DA-9E50-6F871155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2C50-F22C-4D66-BFA5-E7CEF89A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B917-A627-4317-AC4E-4BA59A08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B85E-966A-40A9-9B41-BBFD2890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32C7-866F-49ED-9E66-F0B192F7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870B-5BCF-4CD4-8F11-C6F29319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6C1-D3A4-461D-B22E-CA629464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461C-1508-4BB6-ACE4-43246309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E7FE-64B6-4F7E-897F-8D371FA5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5A95-A7B5-4DB6-B9CE-4EF95022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1462-B4E8-44CF-A5A6-9221B6CC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3C2D-B9CF-465B-943A-13FBC71A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4B4-F1F8-45E6-8696-4D7FC495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00B-04A7-417E-8E60-7F96AB60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504-5884-4284-AC59-A96A9086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812-41E8-49E7-9D94-496BE64C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9E1-9BCF-47FB-9F71-4EFF1040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0C1-20FA-4738-8EE8-9235A575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129-EEDA-4549-AC6F-0AC42828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框a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框a2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框a3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框a4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D419-7AF7-4DD0-953F-8AC221599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框a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框a2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框a3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框a4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麒靈" descr=""/>
          <p:cNvPicPr/>
          <p:nvPr/>
        </p:nvPicPr>
        <p:blipFill>
          <a:blip r:embed="rId7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6BAC-81D2-4520-B2B4-8DC236CAD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nglish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xje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ce is famous _____ its snow all the year 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_____ the newspaper reporter write down what you 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？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438280"/>
            <a:ext cx="533520" cy="381240"/>
          </a:xfrm>
          <a:custGeom>
            <a:avLst/>
            <a:gdLst>
              <a:gd name="textAreaLeft" fmla="*/ 125280 w 533520"/>
              <a:gd name="textAreaRight" fmla="*/ 407880 w 533520"/>
              <a:gd name="textAreaTop" fmla="*/ 44640 h 381240"/>
              <a:gd name="textAreaBottom" fmla="*/ 239040 h 3812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4800600"/>
            <a:ext cx="380880" cy="4572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housing problem had been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decided to _____ in that 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 that you can't stay for dinner with us but still I'm looking forward to such an hon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regretful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 pi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pologize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's a sham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1337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54100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单句改错。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）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find that necessary to see the doctor sometime tomor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ust be able to speak right from 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n R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like the Romans 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far as we kn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ica is the second large continent in the wor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d Army men went a distance of more than ten thousand kilometres during the Long M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is an English-spoken coun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 spoken English is 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't be hard to the little gir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is still you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any years of treat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till continues in poor heal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hand is feeling c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's wrong with 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？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began to think about what use could be made from such mate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→it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ak→tell 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ke→ as 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rge→largest 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nt→covered 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-spoken→English-speaking 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→on 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es→remains 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feeling→feels 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→of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短文改错。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）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ts are very important to alive th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 could not go on unless there were no pl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why plants can make food from 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un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and man can't make food out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and sun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can getits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od by eating plants and other anim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 gets 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food by eating plants and anim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and man need plants l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cky for 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o many plants 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ound 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human beings or animals need pl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ive→living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less→if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或去掉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→because 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去掉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 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s→their 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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ither→too 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前加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ucky→Luckily 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→and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再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9_23_9" descr=""/>
          <p:cNvPicPr/>
          <p:nvPr/>
        </p:nvPicPr>
        <p:blipFill>
          <a:blip r:embed="rId2"/>
          <a:stretch/>
        </p:blipFill>
        <p:spPr>
          <a:xfrm>
            <a:off x="5181480" y="685800"/>
            <a:ext cx="3176640" cy="5000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高二册第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单元要点问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t of people can't tell the difference between an American accent and a Canadian ac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很多人都分不清美国口音和加拿大口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问：句中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改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吗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常与哪些介词连用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答：句中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“辨别；区分”，通常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用，后接介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要用于否定句和疑问句，不可改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如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tell the difference between the 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能说出这两者之间的差别吗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't tell her from her twin si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分辨不出她和她的孪生妹妹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“……之间的区别”，常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用；指“在某方面的差别”，常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用。形容词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及副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l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用。例如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 between men and wome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男女之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t any difference in meaning between the two w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两个词在含义方面没有差别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plan is different from y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的计划和你的不同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066680" y="457200"/>
            <a:ext cx="7064280" cy="5712840"/>
            <a:chOff x="1066680" y="457200"/>
            <a:chExt cx="7064280" cy="5712840"/>
          </a:xfrm>
        </p:grpSpPr>
        <p:sp>
          <p:nvSpPr>
            <p:cNvPr id="99" name=""/>
            <p:cNvSpPr/>
            <p:nvPr/>
          </p:nvSpPr>
          <p:spPr>
            <a:xfrm>
              <a:off x="1066680" y="45720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066680" y="457200"/>
              <a:ext cx="7064280" cy="5712840"/>
              <a:chOff x="1066680" y="457200"/>
              <a:chExt cx="7064280" cy="5712840"/>
            </a:xfrm>
          </p:grpSpPr>
          <p:sp>
            <p:nvSpPr>
              <p:cNvPr id="101" name=""/>
              <p:cNvSpPr/>
              <p:nvPr/>
            </p:nvSpPr>
            <p:spPr>
              <a:xfrm>
                <a:off x="1135080" y="623520"/>
                <a:ext cx="6949800" cy="534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．．．．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 is hoped that the way of Inuit life will be kept alive for many more centurie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．……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人们希望，因努伊特人的生活方式在今后很多世纪里可以保存下来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。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问：句中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作什么用？可以省略吗？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答：句中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是形式主语，真正的主语是后面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从句，其中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为连词，无词汇意义，但引出主语从句时不可省略。“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 is hoped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从句”是很有用的句型，意思是“人们希望……”，这种被动式可以改为主动式，即改为“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eople hope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从句”。故本句可以改写为：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eople hop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e way of Inuit life will be kept alive for many more centurie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类似的结构有很多。例如：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 is said that a new factory will be built in our villag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据说我们村将建一座新工厂。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 is reported that a new hospital will be built her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据报道，这里将建一座新的医院。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66680" y="457200"/>
                <a:ext cx="7064280" cy="57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听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en to the tape carefully and complete the following sent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ar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_____ is just like a _____ on the wa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young man with a Zhejiang _____ was injured in an _____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_____ is working on the farm with a wooden _____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_____ _____ on his 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_____ is a kind of animal which lives in the _____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400800" y="914400"/>
          <a:ext cx="1143000" cy="5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914400"/>
                    <a:ext cx="1143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066680" y="380880"/>
            <a:ext cx="7064280" cy="5940000"/>
            <a:chOff x="1066680" y="380880"/>
            <a:chExt cx="7064280" cy="5940000"/>
          </a:xfrm>
        </p:grpSpPr>
        <p:sp>
          <p:nvSpPr>
            <p:cNvPr id="108" name=""/>
            <p:cNvSpPr/>
            <p:nvPr/>
          </p:nvSpPr>
          <p:spPr>
            <a:xfrm>
              <a:off x="1066680" y="38088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066680" y="380880"/>
              <a:ext cx="7064280" cy="5940000"/>
              <a:chOff x="1066680" y="380880"/>
              <a:chExt cx="7064280" cy="5940000"/>
            </a:xfrm>
          </p:grpSpPr>
          <p:sp>
            <p:nvSpPr>
              <p:cNvPr id="110" name=""/>
              <p:cNvSpPr/>
              <p:nvPr/>
            </p:nvSpPr>
            <p:spPr>
              <a:xfrm>
                <a:off x="1135080" y="614160"/>
                <a:ext cx="6949800" cy="54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IListen to the dialogues and complete the following sentence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mark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）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____________________is the smallest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They are ____________________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Jack has ____________________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Tim ____________________when a car was coming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Ted ____________________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66680" y="380880"/>
                <a:ext cx="7064280" cy="5940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990720" y="762120"/>
            <a:ext cx="7064280" cy="5026320"/>
            <a:chOff x="990720" y="762120"/>
            <a:chExt cx="7064280" cy="5026320"/>
          </a:xfrm>
        </p:grpSpPr>
        <p:sp>
          <p:nvSpPr>
            <p:cNvPr id="113" name=""/>
            <p:cNvSpPr/>
            <p:nvPr/>
          </p:nvSpPr>
          <p:spPr>
            <a:xfrm>
              <a:off x="990720" y="76212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990720" y="762120"/>
              <a:ext cx="7064280" cy="5026320"/>
              <a:chOff x="990720" y="762120"/>
              <a:chExt cx="7064280" cy="5026320"/>
            </a:xfrm>
          </p:grpSpPr>
          <p:sp>
            <p:nvSpPr>
              <p:cNvPr id="115" name=""/>
              <p:cNvSpPr/>
              <p:nvPr/>
            </p:nvSpPr>
            <p:spPr>
              <a:xfrm>
                <a:off x="1059120" y="959400"/>
                <a:ext cx="6949800" cy="45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II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isten to the dialogue and answer the following question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mark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）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ose birthday is it tomorrow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ich will they buy for Helen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lowers or a record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at does Helen like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en will they buy a present for Helen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o will go shopping with Jane and Tom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90720" y="762120"/>
                <a:ext cx="7064280" cy="5026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066680" y="0"/>
            <a:ext cx="7064280" cy="6397200"/>
            <a:chOff x="1066680" y="0"/>
            <a:chExt cx="7064280" cy="6397200"/>
          </a:xfrm>
        </p:grpSpPr>
        <p:sp>
          <p:nvSpPr>
            <p:cNvPr id="118" name=""/>
            <p:cNvSpPr/>
            <p:nvPr/>
          </p:nvSpPr>
          <p:spPr>
            <a:xfrm>
              <a:off x="1066680" y="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066680" y="0"/>
              <a:ext cx="7064280" cy="6397200"/>
              <a:chOff x="1066680" y="0"/>
              <a:chExt cx="7064280" cy="6397200"/>
            </a:xfrm>
          </p:grpSpPr>
          <p:sp>
            <p:nvSpPr>
              <p:cNvPr id="120" name=""/>
              <p:cNvSpPr/>
              <p:nvPr/>
            </p:nvSpPr>
            <p:spPr>
              <a:xfrm>
                <a:off x="1135080" y="250920"/>
                <a:ext cx="6949800" cy="58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Listen to the passage and fill in the blank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（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mark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）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ducation in Canada is the duty of each _____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nd the country has no national education plans and no national courses of stud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_____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ach of the provinces can make its own plans for the education of its young peopl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look at the map of this large nation will _____ the wisdom of this policy since Canada _____ a variety of cultures and climates from the _____ areas of the Northwest Areas with its _____ Indian population to the French-speaking cities of Quebec and Montreal and the English-speaking city of Toront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ke the United Stat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 Canadian education _____ has elementary schoo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_____ at age 5 to 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nd _____ schoo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eginning at age 12 to 14 and _____ at age 1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66680" y="0"/>
                <a:ext cx="7064280" cy="6397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371600"/>
            <a:ext cx="70866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eneral manager is good at _____ such a difficult situ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ing with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ling with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help me to find a house _____ easy _____ of a supermarket and a bus st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h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rival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ri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89548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80060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06:04:37Z</dcterms:created>
  <dc:creator>A1</dc:creator>
  <dc:description/>
  <dc:language>en-US</dc:language>
  <cp:lastModifiedBy>A1</cp:lastModifiedBy>
  <dcterms:modified xsi:type="dcterms:W3CDTF">2002-11-08T09:41:52Z</dcterms:modified>
  <cp:revision>2</cp:revision>
  <dc:subject/>
  <dc:title>English </dc:title>
</cp:coreProperties>
</file>