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CCB-2BE6-43E8-8779-F892987D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0AD-6B57-45A0-AE3E-561B70CF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243-D93A-4D75-B0C9-C967B8A4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D13-2AFC-42F0-86C8-1E0E4D2F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067-5798-4859-B782-E502DF30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0CE-DDA2-4AE3-9170-99875F0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C8C-79BF-45A5-B30A-A5A1703D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71E-BC90-448F-ACD3-959E23CC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0D8-47EE-40F9-A68B-FAA76F2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104-387F-4FBA-A289-1E443B7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673-E192-436E-9DA2-5EC8D64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C8E-9029-4109-BBCE-47448A1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D916-35D3-49DC-81DA-35F7442135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important to learn a foreign language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offered to help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ually has a lot of work to do 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at to live , but we don’t live to 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rned us not to go out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e wants to do is earn his own b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ttrib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dver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 sup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pre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25:14Z</dcterms:modified>
  <cp:revision>1</cp:revision>
  <dc:subject/>
  <dc:title>PowerPoint Presentation</dc:title>
</cp:coreProperties>
</file>