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69F6-F9D5-443C-9702-939F1B0C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1983-30CD-4967-A9A7-C4318841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97D1-F0EF-49E8-B1BE-0373DD55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FCF2-E1DC-486B-AF95-0B04EFB9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2A6E-9675-4CFC-9940-3390A8CF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E68-2DFF-47C9-A037-ADA4B0BD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726E-A92B-4D6B-B4AA-2945598B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B12-281C-4A30-970F-953D4912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B4F-CF7C-4F13-92E3-2496B629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0A1-7B35-4E19-9FC4-1AA66724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D4C2-8631-4E85-88B1-3C778CB5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E71-CC67-467D-8669-16F252C3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D804-2C27-46D3-B4E0-8469845F86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谓一致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归纳与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规律分述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凡属下列句型，谓语动词必须与其邻近的主语在人称和数上保持一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re b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句型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re is some paper and two pens on the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导的倒装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re is a fish, some bread and soup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3200" y="189000"/>
            <a:ext cx="82296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re there any people over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glasses,bellows,tongs,slipper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表示工具或用具的名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ants, scissors,boots,gloves, chopsticks,parents,clothes,shoes ,socks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rouser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表示衣服的复数名词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y trousers are di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在其前加上量词（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pair of, a suit of cloth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pair of glasses is lying on the c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sh ,deer ,mean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单复数同形的名词作主语时，谓语动词的数取决于该名词含义表示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ny sheep are looked after by the ol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The(blind ,brave ,dead ,old ,poor ,rich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ick ,young ,wise ,wound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主语时，谓语动词要用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dead are soon forgot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代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, which ,wh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定语从句中作主语时，谓语动词要与先行词在数上保持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ose who want to go to Beijing please get on the 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短语或从句作主语时，谓语动词要用单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 What I want to do is to play baske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To finish the work needs hard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疑问句中，几个并列的名词或代词作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语时，谓语动词与最近的主语在数上保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re you or he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谓一致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归纳与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规律分述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凡属下列句型，谓语动词必须与其邻近的主语在人称和数上保持一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re be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句型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re is some paper and two pens on the de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引导的倒装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re is a fish, some bread and soup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en and where to build the factory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is not decided   B. aren’t decided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hasn’t decided  D. haven’t dec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The fork and knife ______ o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is                       B. are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has been          D. have bee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Each soldier and each sailor ______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if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are given           b. wa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The boys and girls each have thei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ik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Half of the students _______ mad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ame mistak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has                        B.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is                           D.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 About 70% of the surface of our planet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vered by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o teacher and no student is allowed to enter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any a boy and many a girl has see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thirds of the books are written by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______ good exerc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limbing hills is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Climbing the hill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he climbing hills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he climbing of hill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Twenty dollars _____ enough for the co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s                            B.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as                         D.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Which of the books do you think 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st among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s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. --- Why did you change  your maj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rom economics to law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 Because economics  _____ a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teresting to me as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isn’t                      B.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doesn’t                 D. aren’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. My clothes ______ made to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s       B. are      C. has    D.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More than one person ______ m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gg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as    B. has    C. were    D.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 Each of the hotel’s 3000 rooms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ir conditioning and tele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as equipped    B. were equ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is (was)……tha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调句型中，若强调主语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之后的谓语动词要同主语的数保持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’s Tom who does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t only ……but also, not……bu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either……nor ,either……o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接的并列主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t only a pen but also two books wer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is equipped          D. are equi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Not only I but also Tom and Mary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d of watching tele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am       B. is        C. are    D.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Everything, including the clothes,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apar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was stolen         B. were st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stole                  D. st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Twenty-five thousand dollars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income for a four-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amily living in a medium-sized communit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 the United Stat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are       B. is       C. will be    D.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.Over 90% of the world’s populatio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ow ________ the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use                    B.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having been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.The number of the errors 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are surprising    B. were surpris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surprising        D. was surp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7.Let’s visit the art gallery first,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having some   B. have some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o have some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. we will have some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. Five pounds of sugar______ mor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n I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are   B. is    C. will be   D. would b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After carrying out a large  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s,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lfred Nobel finding the formula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te in 186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formula for dynamite was foun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6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it was  in 1866 that the formula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te was found by Alfred Nob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lfred Nobel found the formula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To be an effective teacher, one n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now to convey the materia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it has been underst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know how to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e needs to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ow to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ow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Fifteen minutes_______ all that I ca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re to talk over this matter with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s        B. are      C. were    D.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 The king was loved by his friends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ed by his subjects, and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his enemies feared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frightened his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he scared his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feared by his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The father, rather than the broth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 for the ac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re responsibl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wer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be responsibl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is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.The instrument as well as other sp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s ______ going to be air-lifted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s     B. are      C. be     D. wil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 Father and son ______ standing o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adside. Beside them ____ a c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or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as, were      B. was, 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ere, was      D. were,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连接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oth……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not only……but also, not……bu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连接的并列主语同谓语动词的一致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oth……an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连接的单数并列主语，谓语要用复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at he says and what he does are the s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并列主语两个部分指的是同一个人或事物或视为整体时，谓语动词要用单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ur maths teacher and Li ping ’s father is respected and loved by the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连接的并列主语若被否定修饰时，谓语动词要用单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 teacher and student is in the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定代词作主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other, each, on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ome ,any ,no ,ever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构成的复合不定代词作主语时，谓语动词要用单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enever anything happens , please stay here quie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non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主语时，谓语动词可用单数，也可用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ne of her friends help/helps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定代词等作主语时，谓语动词的单复数取决于它们所指代名词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Most of the earth is covered with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Most of the poor men are laz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both,few,many,severa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词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oth ar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“more than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词的复数结构”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than five men have died in the ac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.“more than one (+n.)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结构作主语时，谓语动词要用单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than one man has died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 Many a + n.   +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ny a student has shortsight glasses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不定数量的词组作主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Part of, a lot of ,lots of ,one of, a number of, plenty o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词作主语时，谓语动词的单复数取决于量词后面名词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Part of it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Now a number of young men cook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a+n.+and a half / one and a half +n(es). /the number of +n(es)./ the part of +n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作主语时，其谓语动词要用单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A year and a half has already pa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The number of the students who take part in the entrance examination is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些特殊名词作主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体名词（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olice, people,catt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等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0:11:37Z</dcterms:created>
  <dc:creator>wang</dc:creator>
  <dc:description/>
  <dc:language>en-US</dc:language>
  <cp:lastModifiedBy>wang xing zhong</cp:lastModifiedBy>
  <dcterms:modified xsi:type="dcterms:W3CDTF">2004-01-29T02:40:00Z</dcterms:modified>
  <cp:revision>21</cp:revision>
  <dc:subject/>
  <dc:title>主谓一致 归纳与总结</dc:title>
</cp:coreProperties>
</file>