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B0C-475D-4F38-910A-6612F3D3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1DC-7B2B-4CAA-9888-FF6D28EC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251-CF17-4836-AF64-F6C2F3E8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81E-8AC8-4ADC-AD30-30D35544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34F-51CD-40F0-962F-013A1B46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262-959E-4800-A6BD-EC1C4F71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6A8-A4C1-4CDB-8523-A4114F7E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FA4-7364-469D-A84A-7A97D675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CCE-B9E7-4F60-91A2-5B510A12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905-6E99-42B9-B432-AC9DC7D7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90D-BC66-4B5E-823A-195EAFA8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B51-DF73-4EBE-95B3-CA38C9FF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DD6F-22A3-4B9E-9352-C271F7F42D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476280"/>
            <a:ext cx="72723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词的原级、比较级和最高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形容词的原级：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…a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so/as… a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引导的同级比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car is as expensive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’s almost as tall as her mother now but not so tall as her younger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 spoken English is nearly as good as , if not better than, Miss Green’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ke sings as beautifully as his broth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, much, many, a lot, ra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                                        + more tha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tle, a b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read many more books than h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s a little taller than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ovel is far less interesting than 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y f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is taller than Mike by f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 is by far the most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620640"/>
            <a:ext cx="142920" cy="1368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un is by far the bigger of the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最高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st +adj/(the) most a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f all the stars, the sun is the closes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1.) a most adj 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ery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) most  ad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 most humorous novel that I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ver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35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328464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284720" y="3860280"/>
            <a:ext cx="647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38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itanic” is most instru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ths is a least interesting subject th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as adj …+( a ) + n. +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ucy is as lovely a girl as Linda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s as hot a day today as it was tha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s useful a dictionary as your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have as many good books as 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数的表示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big as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ce/twice           bigger than 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three … times      the siz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414972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expensive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is bike is twice   more expensiv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pric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long as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rope is six times   longer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length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620640"/>
            <a:ext cx="144720" cy="13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8000" y="2997360"/>
            <a:ext cx="217440" cy="1295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   big                   short               heav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          ,  length          , weight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               long               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/tall                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ght             ,   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                   n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5440" y="620640"/>
            <a:ext cx="142560" cy="1368360"/>
          </a:xfrm>
          <a:custGeom>
            <a:avLst/>
            <a:gdLst>
              <a:gd name="textAreaLeft" fmla="*/ 91080 w 142560"/>
              <a:gd name="textAreaRight" fmla="*/ 142920 w 142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216000" cy="129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620640"/>
            <a:ext cx="144720" cy="1440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2349360"/>
            <a:ext cx="71640" cy="1366920"/>
          </a:xfrm>
          <a:custGeom>
            <a:avLst/>
            <a:gdLst>
              <a:gd name="textAreaLeft" fmla="*/ 45720 w 71640"/>
              <a:gd name="textAreaRight" fmla="*/ 72000 w 7164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349360"/>
            <a:ext cx="144360" cy="1441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4076640"/>
            <a:ext cx="73080" cy="136836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比较级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语中，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比较级是非常严谨的， 既人和人比，物和物比，比较级的结构必须是一致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y other 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m is taller than   any boy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y of the other bo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h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r handwriting is better tha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249228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ndwriting of yours is better  than that /the handwriting of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untry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is larger than  any other country 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of China is bigger tha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the population of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more beautiful kite than ___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1916280"/>
            <a:ext cx="71280" cy="1657080"/>
          </a:xfrm>
          <a:custGeom>
            <a:avLst/>
            <a:gdLst>
              <a:gd name="textAreaLeft" fmla="*/ 45720 w 71280"/>
              <a:gd name="textAreaRight" fmla="*/ 71640 w 71280"/>
              <a:gd name="textAreaTop" fmla="*/ 43200 h 1657080"/>
              <a:gd name="textAreaBottom" fmla="*/ 161388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nyone                  B. anyone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nyone’s                D. any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kite is more beautiful than _______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taller than any boy in the class, let alone the girl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on is nearer to the earth than _____ to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ny star               B. any 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any other star      D. any other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词的比较级前不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;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是以下两点要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 the more… , the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re, th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harder you work, the greater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m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wer mistakes , the gr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he more of the tw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Lucy and Lily are twin sisters. They’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alike that I can’t tell which is whi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Lucy is the taller and  fatter of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hile Lily is the shorter and th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Which is the further to us, the sun 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 Of the two, the sun is much the fur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5:56:22Z</dcterms:created>
  <dc:creator>wang xing zhong</dc:creator>
  <dc:description/>
  <dc:language>en-US</dc:language>
  <cp:lastModifiedBy>wang xing zhong</cp:lastModifiedBy>
  <dcterms:modified xsi:type="dcterms:W3CDTF">2004-01-28T07:03:11Z</dcterms:modified>
  <cp:revision>35</cp:revision>
  <dc:subject/>
  <dc:title>幻灯片 1</dc:title>
</cp:coreProperties>
</file>